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PROJCTOR.WAV" ContentType="audio/x-wav"/>
  <Override PartName="/ppt/media/image6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FDD1-2082-47C8-853E-207D729E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FF5-589D-4182-BE22-4479C701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ECD0-1AB4-4C4B-A72C-EAF71556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61C-8CFB-443F-B047-2245BD01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5AA-0503-4A8D-A8D1-E1AA3E7C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B498-31B1-45EF-97B4-9DF68567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7E0-E2F7-4357-98E7-322A5399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D2B-36AB-4FEF-BEC5-7A05FB6D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B0B-C990-4F44-9C6F-A21D221D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14E-D314-4EB1-8B12-CFC7D5A7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78C-00BC-4229-993A-9B168871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FD1-E7B7-4038-BE82-A85717F7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844B-A27B-4911-B170-D021FF15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763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PTE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2"/>
          <p:cNvSpPr/>
          <p:nvPr/>
        </p:nvSpPr>
        <p:spPr>
          <a:xfrm>
            <a:off x="457200" y="1219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1  Prelimi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3"/>
          <p:cNvSpPr/>
          <p:nvPr/>
        </p:nvSpPr>
        <p:spPr>
          <a:xfrm>
            <a:off x="609480" y="18288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12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X_Sort ( ElementType  A[ ],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4"/>
          <p:cNvSpPr/>
          <p:nvPr/>
        </p:nvSpPr>
        <p:spPr>
          <a:xfrm>
            <a:off x="609480" y="2286000"/>
            <a:ext cx="396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/* N must be a legal integer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89"/>
          <p:cNvSpPr/>
          <p:nvPr/>
        </p:nvSpPr>
        <p:spPr>
          <a:xfrm>
            <a:off x="609480" y="274320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/* Assume integer array for the sake of simplicit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90"/>
          <p:cNvSpPr/>
          <p:nvPr/>
        </p:nvSpPr>
        <p:spPr>
          <a:xfrm>
            <a:off x="609480" y="320040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/* ‘&gt;’ and ‘&lt;’ operators exist and are the only operations allowed on the input data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91"/>
          <p:cNvSpPr/>
          <p:nvPr/>
        </p:nvSpPr>
        <p:spPr>
          <a:xfrm>
            <a:off x="5715000" y="1066680"/>
            <a:ext cx="2895480" cy="1143000"/>
          </a:xfrm>
          <a:prstGeom prst="wedgeEllipseCallout">
            <a:avLst>
              <a:gd name="adj1" fmla="val -5319"/>
              <a:gd name="adj2" fmla="val 14888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parison-bas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3"/>
          <p:cNvSpPr/>
          <p:nvPr/>
        </p:nvSpPr>
        <p:spPr>
          <a:xfrm>
            <a:off x="609480" y="3962520"/>
            <a:ext cx="464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/* Consider internal sorting only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4"/>
          <p:cNvSpPr/>
          <p:nvPr/>
        </p:nvSpPr>
        <p:spPr>
          <a:xfrm>
            <a:off x="1600200" y="4724280"/>
            <a:ext cx="6400800" cy="1295640"/>
          </a:xfrm>
          <a:prstGeom prst="wedgeEllipseCallout">
            <a:avLst>
              <a:gd name="adj1" fmla="val -34250"/>
              <a:gd name="adj2" fmla="val -82842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ntire sort can be done in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5"/>
          <p:cNvSpPr/>
          <p:nvPr/>
        </p:nvSpPr>
        <p:spPr>
          <a:xfrm>
            <a:off x="0" y="6553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80880" y="152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2  Insertion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000"/>
          <p:cNvGrpSpPr/>
          <p:nvPr/>
        </p:nvGrpSpPr>
        <p:grpSpPr>
          <a:xfrm>
            <a:off x="2682360" y="1219320"/>
            <a:ext cx="2198880" cy="2493720"/>
            <a:chOff x="2682360" y="1219320"/>
            <a:chExt cx="2198880" cy="2493720"/>
          </a:xfrm>
        </p:grpSpPr>
        <p:sp>
          <p:nvSpPr>
            <p:cNvPr id="53" name="Freeform 1001"/>
            <p:cNvSpPr/>
            <p:nvPr/>
          </p:nvSpPr>
          <p:spPr>
            <a:xfrm>
              <a:off x="2976480" y="1219320"/>
              <a:ext cx="1559880" cy="2493720"/>
            </a:xfrm>
            <a:custGeom>
              <a:avLst/>
              <a:gdLst/>
              <a:ahLst/>
              <a:rect l="l" t="t" r="r" b="b"/>
              <a:pathLst>
                <a:path w="1968" h="3140">
                  <a:moveTo>
                    <a:pt x="0" y="150"/>
                  </a:moveTo>
                  <a:lnTo>
                    <a:pt x="8" y="86"/>
                  </a:lnTo>
                  <a:lnTo>
                    <a:pt x="28" y="38"/>
                  </a:lnTo>
                  <a:lnTo>
                    <a:pt x="69" y="11"/>
                  </a:lnTo>
                  <a:lnTo>
                    <a:pt x="128" y="0"/>
                  </a:lnTo>
                  <a:lnTo>
                    <a:pt x="1816" y="0"/>
                  </a:lnTo>
                  <a:lnTo>
                    <a:pt x="1876" y="5"/>
                  </a:lnTo>
                  <a:lnTo>
                    <a:pt x="1926" y="33"/>
                  </a:lnTo>
                  <a:lnTo>
                    <a:pt x="1957" y="86"/>
                  </a:lnTo>
                  <a:lnTo>
                    <a:pt x="1968" y="161"/>
                  </a:lnTo>
                  <a:lnTo>
                    <a:pt x="1968" y="2965"/>
                  </a:lnTo>
                  <a:lnTo>
                    <a:pt x="1966" y="3040"/>
                  </a:lnTo>
                  <a:lnTo>
                    <a:pt x="1952" y="3084"/>
                  </a:lnTo>
                  <a:lnTo>
                    <a:pt x="1921" y="3117"/>
                  </a:lnTo>
                  <a:lnTo>
                    <a:pt x="1886" y="3139"/>
                  </a:lnTo>
                  <a:lnTo>
                    <a:pt x="110" y="3140"/>
                  </a:lnTo>
                  <a:lnTo>
                    <a:pt x="62" y="3128"/>
                  </a:lnTo>
                  <a:lnTo>
                    <a:pt x="28" y="3101"/>
                  </a:lnTo>
                  <a:lnTo>
                    <a:pt x="8" y="3068"/>
                  </a:lnTo>
                  <a:lnTo>
                    <a:pt x="0" y="3009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1002"/>
            <p:cNvGrpSpPr/>
            <p:nvPr/>
          </p:nvGrpSpPr>
          <p:grpSpPr>
            <a:xfrm>
              <a:off x="2682360" y="1273680"/>
              <a:ext cx="2198880" cy="2365560"/>
              <a:chOff x="2682360" y="1273680"/>
              <a:chExt cx="2198880" cy="2365560"/>
            </a:xfrm>
          </p:grpSpPr>
          <p:sp>
            <p:nvSpPr>
              <p:cNvPr id="55" name="Freeform 1003"/>
              <p:cNvSpPr/>
              <p:nvPr/>
            </p:nvSpPr>
            <p:spPr>
              <a:xfrm rot="1560000">
                <a:off x="3112560" y="1596600"/>
                <a:ext cx="127080" cy="217440"/>
              </a:xfrm>
              <a:custGeom>
                <a:avLst/>
                <a:gdLst/>
                <a:ahLst/>
                <a:rect l="l" t="t" r="r" b="b"/>
                <a:pathLst>
                  <a:path w="160" h="274">
                    <a:moveTo>
                      <a:pt x="21" y="0"/>
                    </a:moveTo>
                    <a:lnTo>
                      <a:pt x="0" y="174"/>
                    </a:lnTo>
                    <a:lnTo>
                      <a:pt x="159" y="274"/>
                    </a:lnTo>
                    <a:lnTo>
                      <a:pt x="160" y="8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1004"/>
              <p:cNvSpPr/>
              <p:nvPr/>
            </p:nvSpPr>
            <p:spPr>
              <a:xfrm rot="1560000">
                <a:off x="3122640" y="1314000"/>
                <a:ext cx="129960" cy="244080"/>
              </a:xfrm>
              <a:custGeom>
                <a:avLst/>
                <a:gdLst/>
                <a:ahLst/>
                <a:rect l="l" t="t" r="r" b="b"/>
                <a:pathLst>
                  <a:path w="165" h="308">
                    <a:moveTo>
                      <a:pt x="11" y="25"/>
                    </a:moveTo>
                    <a:lnTo>
                      <a:pt x="66" y="0"/>
                    </a:lnTo>
                    <a:lnTo>
                      <a:pt x="165" y="220"/>
                    </a:lnTo>
                    <a:lnTo>
                      <a:pt x="142" y="277"/>
                    </a:lnTo>
                    <a:lnTo>
                      <a:pt x="87" y="308"/>
                    </a:lnTo>
                    <a:lnTo>
                      <a:pt x="27" y="286"/>
                    </a:lnTo>
                    <a:lnTo>
                      <a:pt x="0" y="216"/>
                    </a:lnTo>
                    <a:lnTo>
                      <a:pt x="45" y="193"/>
                    </a:lnTo>
                    <a:lnTo>
                      <a:pt x="75" y="244"/>
                    </a:lnTo>
                    <a:lnTo>
                      <a:pt x="107" y="227"/>
                    </a:lnTo>
                    <a:lnTo>
                      <a:pt x="11" y="25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005"/>
              <p:cNvGrpSpPr/>
              <p:nvPr/>
            </p:nvGrpSpPr>
            <p:grpSpPr>
              <a:xfrm>
                <a:off x="3149280" y="1468080"/>
                <a:ext cx="1285920" cy="1120680"/>
                <a:chOff x="3149280" y="1468080"/>
                <a:chExt cx="1285920" cy="1120680"/>
              </a:xfrm>
            </p:grpSpPr>
            <p:sp>
              <p:nvSpPr>
                <p:cNvPr id="58" name="Freeform 1006"/>
                <p:cNvSpPr/>
                <p:nvPr/>
              </p:nvSpPr>
              <p:spPr>
                <a:xfrm rot="1560000">
                  <a:off x="3603240" y="1550520"/>
                  <a:ext cx="444240" cy="291960"/>
                </a:xfrm>
                <a:custGeom>
                  <a:avLst/>
                  <a:gdLst/>
                  <a:ahLst/>
                  <a:rect l="l" t="t" r="r" b="b"/>
                  <a:pathLst>
                    <a:path w="561" h="369">
                      <a:moveTo>
                        <a:pt x="561" y="0"/>
                      </a:moveTo>
                      <a:lnTo>
                        <a:pt x="0" y="283"/>
                      </a:lnTo>
                      <a:lnTo>
                        <a:pt x="149" y="321"/>
                      </a:lnTo>
                      <a:lnTo>
                        <a:pt x="171" y="369"/>
                      </a:lnTo>
                      <a:lnTo>
                        <a:pt x="519" y="200"/>
                      </a:lnTo>
                      <a:lnTo>
                        <a:pt x="497" y="153"/>
                      </a:lnTo>
                      <a:lnTo>
                        <a:pt x="561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Freeform 1007"/>
                <p:cNvSpPr/>
                <p:nvPr/>
              </p:nvSpPr>
              <p:spPr>
                <a:xfrm rot="1560000">
                  <a:off x="3642480" y="1752840"/>
                  <a:ext cx="274680" cy="307800"/>
                </a:xfrm>
                <a:custGeom>
                  <a:avLst/>
                  <a:gdLst/>
                  <a:ahLst/>
                  <a:rect l="l" t="t" r="r" b="b"/>
                  <a:pathLst>
                    <a:path w="346" h="388">
                      <a:moveTo>
                        <a:pt x="204" y="0"/>
                      </a:moveTo>
                      <a:lnTo>
                        <a:pt x="0" y="103"/>
                      </a:lnTo>
                      <a:lnTo>
                        <a:pt x="116" y="344"/>
                      </a:lnTo>
                      <a:lnTo>
                        <a:pt x="145" y="355"/>
                      </a:lnTo>
                      <a:lnTo>
                        <a:pt x="206" y="388"/>
                      </a:lnTo>
                      <a:lnTo>
                        <a:pt x="312" y="337"/>
                      </a:lnTo>
                      <a:lnTo>
                        <a:pt x="346" y="290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1008"/>
                <p:cNvSpPr/>
                <p:nvPr/>
              </p:nvSpPr>
              <p:spPr>
                <a:xfrm rot="1560000">
                  <a:off x="3602880" y="1799280"/>
                  <a:ext cx="127080" cy="286920"/>
                </a:xfrm>
                <a:custGeom>
                  <a:avLst/>
                  <a:gdLst/>
                  <a:ahLst/>
                  <a:rect l="l" t="t" r="r" b="b"/>
                  <a:pathLst>
                    <a:path w="159" h="362">
                      <a:moveTo>
                        <a:pt x="22" y="0"/>
                      </a:moveTo>
                      <a:lnTo>
                        <a:pt x="124" y="221"/>
                      </a:lnTo>
                      <a:lnTo>
                        <a:pt x="159" y="239"/>
                      </a:lnTo>
                      <a:lnTo>
                        <a:pt x="131" y="322"/>
                      </a:lnTo>
                      <a:lnTo>
                        <a:pt x="54" y="362"/>
                      </a:lnTo>
                      <a:lnTo>
                        <a:pt x="10" y="269"/>
                      </a:lnTo>
                      <a:lnTo>
                        <a:pt x="63" y="241"/>
                      </a:lnTo>
                      <a:lnTo>
                        <a:pt x="0" y="113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Freeform 1009"/>
                <p:cNvSpPr/>
                <p:nvPr/>
              </p:nvSpPr>
              <p:spPr>
                <a:xfrm rot="1560000">
                  <a:off x="3665880" y="2001600"/>
                  <a:ext cx="237960" cy="128160"/>
                </a:xfrm>
                <a:custGeom>
                  <a:avLst/>
                  <a:gdLst/>
                  <a:ahLst/>
                  <a:rect l="l" t="t" r="r" b="b"/>
                  <a:pathLst>
                    <a:path w="300" h="162">
                      <a:moveTo>
                        <a:pt x="235" y="0"/>
                      </a:moveTo>
                      <a:lnTo>
                        <a:pt x="193" y="51"/>
                      </a:lnTo>
                      <a:lnTo>
                        <a:pt x="92" y="100"/>
                      </a:lnTo>
                      <a:lnTo>
                        <a:pt x="29" y="67"/>
                      </a:lnTo>
                      <a:lnTo>
                        <a:pt x="23" y="94"/>
                      </a:lnTo>
                      <a:lnTo>
                        <a:pt x="0" y="145"/>
                      </a:lnTo>
                      <a:lnTo>
                        <a:pt x="97" y="162"/>
                      </a:lnTo>
                      <a:lnTo>
                        <a:pt x="255" y="89"/>
                      </a:lnTo>
                      <a:lnTo>
                        <a:pt x="300" y="11"/>
                      </a:lnTo>
                      <a:lnTo>
                        <a:pt x="23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1010"/>
                <p:cNvSpPr/>
                <p:nvPr/>
              </p:nvSpPr>
              <p:spPr>
                <a:xfrm rot="1560000">
                  <a:off x="4062960" y="1750320"/>
                  <a:ext cx="293760" cy="425160"/>
                </a:xfrm>
                <a:custGeom>
                  <a:avLst/>
                  <a:gdLst/>
                  <a:ahLst/>
                  <a:rect l="l" t="t" r="r" b="b"/>
                  <a:pathLst>
                    <a:path w="370" h="536">
                      <a:moveTo>
                        <a:pt x="263" y="458"/>
                      </a:moveTo>
                      <a:lnTo>
                        <a:pt x="202" y="326"/>
                      </a:lnTo>
                      <a:lnTo>
                        <a:pt x="59" y="312"/>
                      </a:lnTo>
                      <a:lnTo>
                        <a:pt x="0" y="224"/>
                      </a:lnTo>
                      <a:lnTo>
                        <a:pt x="124" y="236"/>
                      </a:lnTo>
                      <a:lnTo>
                        <a:pt x="152" y="225"/>
                      </a:lnTo>
                      <a:lnTo>
                        <a:pt x="89" y="94"/>
                      </a:lnTo>
                      <a:lnTo>
                        <a:pt x="127" y="0"/>
                      </a:lnTo>
                      <a:lnTo>
                        <a:pt x="370" y="503"/>
                      </a:lnTo>
                      <a:lnTo>
                        <a:pt x="302" y="536"/>
                      </a:lnTo>
                      <a:lnTo>
                        <a:pt x="263" y="45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1011"/>
                <p:cNvSpPr/>
                <p:nvPr/>
              </p:nvSpPr>
              <p:spPr>
                <a:xfrm rot="1560000">
                  <a:off x="4197600" y="218988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92" h="77">
                      <a:moveTo>
                        <a:pt x="70" y="0"/>
                      </a:moveTo>
                      <a:lnTo>
                        <a:pt x="0" y="33"/>
                      </a:lnTo>
                      <a:lnTo>
                        <a:pt x="23" y="77"/>
                      </a:lnTo>
                      <a:lnTo>
                        <a:pt x="92" y="45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1012"/>
                <p:cNvSpPr/>
                <p:nvPr/>
              </p:nvSpPr>
              <p:spPr>
                <a:xfrm rot="1560000">
                  <a:off x="4198320" y="2228400"/>
                  <a:ext cx="81000" cy="67680"/>
                </a:xfrm>
                <a:custGeom>
                  <a:avLst/>
                  <a:gdLst/>
                  <a:ahLst/>
                  <a:rect l="l" t="t" r="r" b="b"/>
                  <a:pathLst>
                    <a:path w="101" h="84">
                      <a:moveTo>
                        <a:pt x="75" y="0"/>
                      </a:moveTo>
                      <a:lnTo>
                        <a:pt x="0" y="39"/>
                      </a:lnTo>
                      <a:lnTo>
                        <a:pt x="22" y="84"/>
                      </a:lnTo>
                      <a:lnTo>
                        <a:pt x="101" y="5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013"/>
                <p:cNvSpPr/>
                <p:nvPr/>
              </p:nvSpPr>
              <p:spPr>
                <a:xfrm rot="1560000">
                  <a:off x="4199400" y="2274840"/>
                  <a:ext cx="74520" cy="64800"/>
                </a:xfrm>
                <a:custGeom>
                  <a:avLst/>
                  <a:gdLst/>
                  <a:ahLst/>
                  <a:rect l="l" t="t" r="r" b="b"/>
                  <a:pathLst>
                    <a:path w="93" h="81">
                      <a:moveTo>
                        <a:pt x="67" y="0"/>
                      </a:moveTo>
                      <a:lnTo>
                        <a:pt x="0" y="33"/>
                      </a:lnTo>
                      <a:lnTo>
                        <a:pt x="23" y="81"/>
                      </a:lnTo>
                      <a:lnTo>
                        <a:pt x="93" y="48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014"/>
                <p:cNvSpPr/>
                <p:nvPr/>
              </p:nvSpPr>
              <p:spPr>
                <a:xfrm rot="1560000">
                  <a:off x="3765960" y="2035800"/>
                  <a:ext cx="352440" cy="501120"/>
                </a:xfrm>
                <a:custGeom>
                  <a:avLst/>
                  <a:gdLst/>
                  <a:ahLst/>
                  <a:rect l="l" t="t" r="r" b="b"/>
                  <a:pathLst>
                    <a:path w="445" h="632">
                      <a:moveTo>
                        <a:pt x="445" y="61"/>
                      </a:moveTo>
                      <a:lnTo>
                        <a:pt x="241" y="0"/>
                      </a:lnTo>
                      <a:lnTo>
                        <a:pt x="0" y="632"/>
                      </a:lnTo>
                      <a:lnTo>
                        <a:pt x="243" y="513"/>
                      </a:lnTo>
                      <a:lnTo>
                        <a:pt x="445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015"/>
                <p:cNvSpPr/>
                <p:nvPr/>
              </p:nvSpPr>
              <p:spPr>
                <a:xfrm rot="1560000">
                  <a:off x="3804840" y="2017080"/>
                  <a:ext cx="181080" cy="482400"/>
                </a:xfrm>
                <a:custGeom>
                  <a:avLst/>
                  <a:gdLst/>
                  <a:ahLst/>
                  <a:rect l="l" t="t" r="r" b="b"/>
                  <a:pathLst>
                    <a:path w="228" h="608">
                      <a:moveTo>
                        <a:pt x="202" y="0"/>
                      </a:moveTo>
                      <a:lnTo>
                        <a:pt x="0" y="608"/>
                      </a:lnTo>
                      <a:lnTo>
                        <a:pt x="32" y="590"/>
                      </a:lnTo>
                      <a:lnTo>
                        <a:pt x="228" y="10"/>
                      </a:lnTo>
                      <a:lnTo>
                        <a:pt x="20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016"/>
                <p:cNvSpPr/>
                <p:nvPr/>
              </p:nvSpPr>
              <p:spPr>
                <a:xfrm rot="1560000">
                  <a:off x="3858480" y="2047680"/>
                  <a:ext cx="171720" cy="445680"/>
                </a:xfrm>
                <a:custGeom>
                  <a:avLst/>
                  <a:gdLst/>
                  <a:ahLst/>
                  <a:rect l="l" t="t" r="r" b="b"/>
                  <a:pathLst>
                    <a:path w="217" h="563">
                      <a:moveTo>
                        <a:pt x="190" y="0"/>
                      </a:moveTo>
                      <a:lnTo>
                        <a:pt x="0" y="563"/>
                      </a:lnTo>
                      <a:lnTo>
                        <a:pt x="41" y="544"/>
                      </a:lnTo>
                      <a:lnTo>
                        <a:pt x="217" y="13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017"/>
                <p:cNvSpPr/>
                <p:nvPr/>
              </p:nvSpPr>
              <p:spPr>
                <a:xfrm rot="1560000">
                  <a:off x="3533760" y="1944720"/>
                  <a:ext cx="430200" cy="558360"/>
                </a:xfrm>
                <a:custGeom>
                  <a:avLst/>
                  <a:gdLst/>
                  <a:ahLst/>
                  <a:rect l="l" t="t" r="r" b="b"/>
                  <a:pathLst>
                    <a:path w="542" h="702">
                      <a:moveTo>
                        <a:pt x="542" y="0"/>
                      </a:moveTo>
                      <a:lnTo>
                        <a:pt x="524" y="33"/>
                      </a:lnTo>
                      <a:lnTo>
                        <a:pt x="386" y="95"/>
                      </a:lnTo>
                      <a:lnTo>
                        <a:pt x="377" y="81"/>
                      </a:lnTo>
                      <a:lnTo>
                        <a:pt x="334" y="160"/>
                      </a:lnTo>
                      <a:lnTo>
                        <a:pt x="172" y="238"/>
                      </a:lnTo>
                      <a:lnTo>
                        <a:pt x="68" y="222"/>
                      </a:lnTo>
                      <a:lnTo>
                        <a:pt x="11" y="250"/>
                      </a:lnTo>
                      <a:lnTo>
                        <a:pt x="87" y="407"/>
                      </a:lnTo>
                      <a:lnTo>
                        <a:pt x="0" y="609"/>
                      </a:lnTo>
                      <a:lnTo>
                        <a:pt x="156" y="702"/>
                      </a:lnTo>
                      <a:lnTo>
                        <a:pt x="319" y="622"/>
                      </a:lnTo>
                      <a:lnTo>
                        <a:pt x="54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1018"/>
                <p:cNvSpPr/>
                <p:nvPr/>
              </p:nvSpPr>
              <p:spPr>
                <a:xfrm rot="1560000">
                  <a:off x="3610080" y="1987920"/>
                  <a:ext cx="374760" cy="213840"/>
                </a:xfrm>
                <a:custGeom>
                  <a:avLst/>
                  <a:gdLst/>
                  <a:ahLst/>
                  <a:rect l="l" t="t" r="r" b="b"/>
                  <a:pathLst>
                    <a:path w="473" h="270">
                      <a:moveTo>
                        <a:pt x="397" y="35"/>
                      </a:moveTo>
                      <a:lnTo>
                        <a:pt x="336" y="148"/>
                      </a:lnTo>
                      <a:lnTo>
                        <a:pt x="167" y="229"/>
                      </a:lnTo>
                      <a:lnTo>
                        <a:pt x="66" y="212"/>
                      </a:lnTo>
                      <a:lnTo>
                        <a:pt x="46" y="179"/>
                      </a:lnTo>
                      <a:lnTo>
                        <a:pt x="0" y="202"/>
                      </a:lnTo>
                      <a:lnTo>
                        <a:pt x="26" y="253"/>
                      </a:lnTo>
                      <a:lnTo>
                        <a:pt x="187" y="270"/>
                      </a:lnTo>
                      <a:lnTo>
                        <a:pt x="355" y="188"/>
                      </a:lnTo>
                      <a:lnTo>
                        <a:pt x="473" y="0"/>
                      </a:lnTo>
                      <a:lnTo>
                        <a:pt x="397" y="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1019"/>
                <p:cNvSpPr/>
                <p:nvPr/>
              </p:nvSpPr>
              <p:spPr>
                <a:xfrm rot="1560000">
                  <a:off x="3553200" y="2099160"/>
                  <a:ext cx="314280" cy="347400"/>
                </a:xfrm>
                <a:custGeom>
                  <a:avLst/>
                  <a:gdLst/>
                  <a:ahLst/>
                  <a:rect l="l" t="t" r="r" b="b"/>
                  <a:pathLst>
                    <a:path w="397" h="437">
                      <a:moveTo>
                        <a:pt x="397" y="0"/>
                      </a:moveTo>
                      <a:lnTo>
                        <a:pt x="155" y="121"/>
                      </a:lnTo>
                      <a:lnTo>
                        <a:pt x="0" y="106"/>
                      </a:lnTo>
                      <a:lnTo>
                        <a:pt x="85" y="185"/>
                      </a:lnTo>
                      <a:lnTo>
                        <a:pt x="205" y="437"/>
                      </a:lnTo>
                      <a:lnTo>
                        <a:pt x="246" y="416"/>
                      </a:lnTo>
                      <a:lnTo>
                        <a:pt x="397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1020"/>
                <p:cNvSpPr/>
                <p:nvPr/>
              </p:nvSpPr>
              <p:spPr>
                <a:xfrm rot="1560000">
                  <a:off x="3390120" y="2040840"/>
                  <a:ext cx="235080" cy="375840"/>
                </a:xfrm>
                <a:custGeom>
                  <a:avLst/>
                  <a:gdLst/>
                  <a:ahLst/>
                  <a:rect l="l" t="t" r="r" b="b"/>
                  <a:pathLst>
                    <a:path w="295" h="475">
                      <a:moveTo>
                        <a:pt x="153" y="0"/>
                      </a:moveTo>
                      <a:lnTo>
                        <a:pt x="233" y="162"/>
                      </a:lnTo>
                      <a:lnTo>
                        <a:pt x="145" y="356"/>
                      </a:lnTo>
                      <a:lnTo>
                        <a:pt x="295" y="451"/>
                      </a:lnTo>
                      <a:lnTo>
                        <a:pt x="245" y="475"/>
                      </a:lnTo>
                      <a:lnTo>
                        <a:pt x="130" y="387"/>
                      </a:lnTo>
                      <a:lnTo>
                        <a:pt x="53" y="426"/>
                      </a:lnTo>
                      <a:lnTo>
                        <a:pt x="0" y="311"/>
                      </a:lnTo>
                      <a:lnTo>
                        <a:pt x="65" y="178"/>
                      </a:lnTo>
                      <a:lnTo>
                        <a:pt x="35" y="118"/>
                      </a:lnTo>
                      <a:lnTo>
                        <a:pt x="83" y="96"/>
                      </a:lnTo>
                      <a:lnTo>
                        <a:pt x="15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1021"/>
                <p:cNvSpPr/>
                <p:nvPr/>
              </p:nvSpPr>
              <p:spPr>
                <a:xfrm rot="1560000">
                  <a:off x="3409560" y="2047680"/>
                  <a:ext cx="152280" cy="277560"/>
                </a:xfrm>
                <a:custGeom>
                  <a:avLst/>
                  <a:gdLst/>
                  <a:ahLst/>
                  <a:rect l="l" t="t" r="r" b="b"/>
                  <a:pathLst>
                    <a:path w="192" h="349">
                      <a:moveTo>
                        <a:pt x="128" y="0"/>
                      </a:moveTo>
                      <a:lnTo>
                        <a:pt x="192" y="130"/>
                      </a:lnTo>
                      <a:lnTo>
                        <a:pt x="106" y="311"/>
                      </a:lnTo>
                      <a:lnTo>
                        <a:pt x="32" y="349"/>
                      </a:lnTo>
                      <a:lnTo>
                        <a:pt x="0" y="288"/>
                      </a:lnTo>
                      <a:lnTo>
                        <a:pt x="64" y="259"/>
                      </a:lnTo>
                      <a:lnTo>
                        <a:pt x="113" y="140"/>
                      </a:lnTo>
                      <a:lnTo>
                        <a:pt x="80" y="69"/>
                      </a:lnTo>
                      <a:lnTo>
                        <a:pt x="1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1022"/>
                <p:cNvSpPr/>
                <p:nvPr/>
              </p:nvSpPr>
              <p:spPr>
                <a:xfrm rot="1560000">
                  <a:off x="3384720" y="2091960"/>
                  <a:ext cx="72720" cy="144000"/>
                </a:xfrm>
                <a:custGeom>
                  <a:avLst/>
                  <a:gdLst/>
                  <a:ahLst/>
                  <a:rect l="l" t="t" r="r" b="b"/>
                  <a:pathLst>
                    <a:path w="92" h="180">
                      <a:moveTo>
                        <a:pt x="64" y="0"/>
                      </a:moveTo>
                      <a:lnTo>
                        <a:pt x="0" y="121"/>
                      </a:lnTo>
                      <a:lnTo>
                        <a:pt x="30" y="180"/>
                      </a:lnTo>
                      <a:lnTo>
                        <a:pt x="92" y="6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1023"/>
                <p:cNvSpPr/>
                <p:nvPr/>
              </p:nvSpPr>
              <p:spPr>
                <a:xfrm rot="1560000">
                  <a:off x="4183560" y="2320560"/>
                  <a:ext cx="100080" cy="122040"/>
                </a:xfrm>
                <a:custGeom>
                  <a:avLst/>
                  <a:gdLst/>
                  <a:ahLst/>
                  <a:rect l="l" t="t" r="r" b="b"/>
                  <a:pathLst>
                    <a:path w="127" h="154">
                      <a:moveTo>
                        <a:pt x="54" y="154"/>
                      </a:moveTo>
                      <a:lnTo>
                        <a:pt x="127" y="118"/>
                      </a:lnTo>
                      <a:lnTo>
                        <a:pt x="71" y="0"/>
                      </a:lnTo>
                      <a:lnTo>
                        <a:pt x="0" y="37"/>
                      </a:lnTo>
                      <a:lnTo>
                        <a:pt x="54" y="15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Freeform 1024"/>
                <p:cNvSpPr/>
                <p:nvPr/>
              </p:nvSpPr>
              <p:spPr>
                <a:xfrm rot="1560000">
                  <a:off x="4210560" y="2342880"/>
                  <a:ext cx="71280" cy="93240"/>
                </a:xfrm>
                <a:custGeom>
                  <a:avLst/>
                  <a:gdLst/>
                  <a:ahLst/>
                  <a:rect l="l" t="t" r="r" b="b"/>
                  <a:pathLst>
                    <a:path w="90" h="119">
                      <a:moveTo>
                        <a:pt x="0" y="22"/>
                      </a:moveTo>
                      <a:lnTo>
                        <a:pt x="45" y="119"/>
                      </a:lnTo>
                      <a:lnTo>
                        <a:pt x="90" y="97"/>
                      </a:lnTo>
                      <a:lnTo>
                        <a:pt x="45" y="0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Freeform 1025"/>
                <p:cNvSpPr/>
                <p:nvPr/>
              </p:nvSpPr>
              <p:spPr>
                <a:xfrm rot="1560000">
                  <a:off x="4122360" y="2272320"/>
                  <a:ext cx="105120" cy="174240"/>
                </a:xfrm>
                <a:custGeom>
                  <a:avLst/>
                  <a:gdLst/>
                  <a:ahLst/>
                  <a:rect l="l" t="t" r="r" b="b"/>
                  <a:pathLst>
                    <a:path w="132" h="221">
                      <a:moveTo>
                        <a:pt x="49" y="0"/>
                      </a:moveTo>
                      <a:lnTo>
                        <a:pt x="8" y="12"/>
                      </a:lnTo>
                      <a:lnTo>
                        <a:pt x="0" y="116"/>
                      </a:lnTo>
                      <a:lnTo>
                        <a:pt x="51" y="221"/>
                      </a:lnTo>
                      <a:lnTo>
                        <a:pt x="132" y="18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Freeform 1026"/>
                <p:cNvSpPr/>
                <p:nvPr/>
              </p:nvSpPr>
              <p:spPr>
                <a:xfrm rot="1560000">
                  <a:off x="4043880" y="2158200"/>
                  <a:ext cx="135000" cy="298080"/>
                </a:xfrm>
                <a:custGeom>
                  <a:avLst/>
                  <a:gdLst/>
                  <a:ahLst/>
                  <a:rect l="l" t="t" r="r" b="b"/>
                  <a:pathLst>
                    <a:path w="169" h="378">
                      <a:moveTo>
                        <a:pt x="169" y="323"/>
                      </a:moveTo>
                      <a:lnTo>
                        <a:pt x="64" y="378"/>
                      </a:lnTo>
                      <a:lnTo>
                        <a:pt x="0" y="241"/>
                      </a:lnTo>
                      <a:lnTo>
                        <a:pt x="99" y="0"/>
                      </a:lnTo>
                      <a:lnTo>
                        <a:pt x="116" y="15"/>
                      </a:lnTo>
                      <a:lnTo>
                        <a:pt x="160" y="105"/>
                      </a:lnTo>
                      <a:lnTo>
                        <a:pt x="124" y="124"/>
                      </a:lnTo>
                      <a:lnTo>
                        <a:pt x="118" y="216"/>
                      </a:lnTo>
                      <a:lnTo>
                        <a:pt x="169" y="32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Freeform 1027"/>
                <p:cNvSpPr/>
                <p:nvPr/>
              </p:nvSpPr>
              <p:spPr>
                <a:xfrm rot="1560000">
                  <a:off x="3920400" y="2307600"/>
                  <a:ext cx="122040" cy="161640"/>
                </a:xfrm>
                <a:custGeom>
                  <a:avLst/>
                  <a:gdLst/>
                  <a:ahLst/>
                  <a:rect l="l" t="t" r="r" b="b"/>
                  <a:pathLst>
                    <a:path w="154" h="203">
                      <a:moveTo>
                        <a:pt x="90" y="0"/>
                      </a:moveTo>
                      <a:lnTo>
                        <a:pt x="0" y="203"/>
                      </a:lnTo>
                      <a:lnTo>
                        <a:pt x="154" y="128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Freeform 1028"/>
                <p:cNvSpPr/>
                <p:nvPr/>
              </p:nvSpPr>
              <p:spPr>
                <a:xfrm rot="1560000">
                  <a:off x="3912480" y="2097360"/>
                  <a:ext cx="177480" cy="396360"/>
                </a:xfrm>
                <a:custGeom>
                  <a:avLst/>
                  <a:gdLst/>
                  <a:ahLst/>
                  <a:rect l="l" t="t" r="r" b="b"/>
                  <a:pathLst>
                    <a:path w="223" h="501">
                      <a:moveTo>
                        <a:pt x="223" y="16"/>
                      </a:moveTo>
                      <a:lnTo>
                        <a:pt x="173" y="0"/>
                      </a:lnTo>
                      <a:lnTo>
                        <a:pt x="0" y="501"/>
                      </a:lnTo>
                      <a:lnTo>
                        <a:pt x="35" y="481"/>
                      </a:lnTo>
                      <a:lnTo>
                        <a:pt x="223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Freeform 1029"/>
                <p:cNvSpPr/>
                <p:nvPr/>
              </p:nvSpPr>
              <p:spPr>
                <a:xfrm rot="1560000">
                  <a:off x="3502800" y="2180880"/>
                  <a:ext cx="84240" cy="218880"/>
                </a:xfrm>
                <a:custGeom>
                  <a:avLst/>
                  <a:gdLst/>
                  <a:ahLst/>
                  <a:rect l="l" t="t" r="r" b="b"/>
                  <a:pathLst>
                    <a:path w="106" h="275">
                      <a:moveTo>
                        <a:pt x="86" y="0"/>
                      </a:moveTo>
                      <a:lnTo>
                        <a:pt x="106" y="275"/>
                      </a:lnTo>
                      <a:lnTo>
                        <a:pt x="0" y="206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Freeform 1030"/>
                <p:cNvSpPr/>
                <p:nvPr/>
              </p:nvSpPr>
              <p:spPr>
                <a:xfrm rot="1560000">
                  <a:off x="4140000" y="2176200"/>
                  <a:ext cx="77760" cy="99720"/>
                </a:xfrm>
                <a:custGeom>
                  <a:avLst/>
                  <a:gdLst/>
                  <a:ahLst/>
                  <a:rect l="l" t="t" r="r" b="b"/>
                  <a:pathLst>
                    <a:path w="98" h="126">
                      <a:moveTo>
                        <a:pt x="50" y="0"/>
                      </a:moveTo>
                      <a:lnTo>
                        <a:pt x="0" y="27"/>
                      </a:lnTo>
                      <a:lnTo>
                        <a:pt x="48" y="126"/>
                      </a:lnTo>
                      <a:lnTo>
                        <a:pt x="98" y="99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Freeform 1031"/>
                <p:cNvSpPr/>
                <p:nvPr/>
              </p:nvSpPr>
              <p:spPr>
                <a:xfrm rot="1560000">
                  <a:off x="3813480" y="1786320"/>
                  <a:ext cx="308160" cy="302760"/>
                </a:xfrm>
                <a:custGeom>
                  <a:avLst/>
                  <a:gdLst/>
                  <a:ahLst/>
                  <a:rect l="l" t="t" r="r" b="b"/>
                  <a:pathLst>
                    <a:path w="388" h="384">
                      <a:moveTo>
                        <a:pt x="136" y="0"/>
                      </a:moveTo>
                      <a:lnTo>
                        <a:pt x="245" y="226"/>
                      </a:lnTo>
                      <a:lnTo>
                        <a:pt x="291" y="235"/>
                      </a:lnTo>
                      <a:lnTo>
                        <a:pt x="346" y="210"/>
                      </a:lnTo>
                      <a:lnTo>
                        <a:pt x="388" y="299"/>
                      </a:lnTo>
                      <a:lnTo>
                        <a:pt x="214" y="384"/>
                      </a:lnTo>
                      <a:lnTo>
                        <a:pt x="143" y="358"/>
                      </a:lnTo>
                      <a:lnTo>
                        <a:pt x="0" y="66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1032"/>
                <p:cNvSpPr/>
                <p:nvPr/>
              </p:nvSpPr>
              <p:spPr>
                <a:xfrm rot="1560000">
                  <a:off x="3221280" y="2048760"/>
                  <a:ext cx="231840" cy="383760"/>
                </a:xfrm>
                <a:custGeom>
                  <a:avLst/>
                  <a:gdLst/>
                  <a:ahLst/>
                  <a:rect l="l" t="t" r="r" b="b"/>
                  <a:pathLst>
                    <a:path w="292" h="485">
                      <a:moveTo>
                        <a:pt x="218" y="485"/>
                      </a:moveTo>
                      <a:lnTo>
                        <a:pt x="292" y="447"/>
                      </a:lnTo>
                      <a:lnTo>
                        <a:pt x="75" y="0"/>
                      </a:lnTo>
                      <a:lnTo>
                        <a:pt x="0" y="40"/>
                      </a:lnTo>
                      <a:lnTo>
                        <a:pt x="218" y="48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1033"/>
                <p:cNvSpPr/>
                <p:nvPr/>
              </p:nvSpPr>
              <p:spPr>
                <a:xfrm rot="1560000">
                  <a:off x="3234960" y="2117880"/>
                  <a:ext cx="180720" cy="309240"/>
                </a:xfrm>
                <a:custGeom>
                  <a:avLst/>
                  <a:gdLst/>
                  <a:ahLst/>
                  <a:rect l="l" t="t" r="r" b="b"/>
                  <a:pathLst>
                    <a:path w="227" h="389">
                      <a:moveTo>
                        <a:pt x="0" y="23"/>
                      </a:moveTo>
                      <a:lnTo>
                        <a:pt x="183" y="389"/>
                      </a:lnTo>
                      <a:lnTo>
                        <a:pt x="227" y="370"/>
                      </a:lnTo>
                      <a:lnTo>
                        <a:pt x="46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1034"/>
                <p:cNvSpPr/>
                <p:nvPr/>
              </p:nvSpPr>
              <p:spPr>
                <a:xfrm rot="1560000">
                  <a:off x="3351960" y="2336760"/>
                  <a:ext cx="155520" cy="118440"/>
                </a:xfrm>
                <a:custGeom>
                  <a:avLst/>
                  <a:gdLst/>
                  <a:ahLst/>
                  <a:rect l="l" t="t" r="r" b="b"/>
                  <a:pathLst>
                    <a:path w="196" h="152">
                      <a:moveTo>
                        <a:pt x="55" y="152"/>
                      </a:moveTo>
                      <a:lnTo>
                        <a:pt x="0" y="39"/>
                      </a:lnTo>
                      <a:lnTo>
                        <a:pt x="78" y="0"/>
                      </a:lnTo>
                      <a:lnTo>
                        <a:pt x="196" y="83"/>
                      </a:lnTo>
                      <a:lnTo>
                        <a:pt x="55" y="1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1035"/>
                <p:cNvSpPr/>
                <p:nvPr/>
              </p:nvSpPr>
              <p:spPr>
                <a:xfrm rot="1560000">
                  <a:off x="3572280" y="2205000"/>
                  <a:ext cx="100080" cy="253440"/>
                </a:xfrm>
                <a:custGeom>
                  <a:avLst/>
                  <a:gdLst/>
                  <a:ahLst/>
                  <a:rect l="l" t="t" r="r" b="b"/>
                  <a:pathLst>
                    <a:path w="124" h="322">
                      <a:moveTo>
                        <a:pt x="0" y="0"/>
                      </a:moveTo>
                      <a:lnTo>
                        <a:pt x="124" y="274"/>
                      </a:lnTo>
                      <a:lnTo>
                        <a:pt x="24" y="3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1036"/>
                <p:cNvSpPr/>
                <p:nvPr/>
              </p:nvSpPr>
              <p:spPr>
                <a:xfrm rot="1560000">
                  <a:off x="3662280" y="2168280"/>
                  <a:ext cx="198360" cy="118800"/>
                </a:xfrm>
                <a:custGeom>
                  <a:avLst/>
                  <a:gdLst/>
                  <a:ahLst/>
                  <a:rect l="l" t="t" r="r" b="b"/>
                  <a:pathLst>
                    <a:path w="249" h="149">
                      <a:moveTo>
                        <a:pt x="0" y="119"/>
                      </a:moveTo>
                      <a:lnTo>
                        <a:pt x="249" y="0"/>
                      </a:lnTo>
                      <a:lnTo>
                        <a:pt x="232" y="44"/>
                      </a:lnTo>
                      <a:lnTo>
                        <a:pt x="16" y="149"/>
                      </a:lnTo>
                      <a:lnTo>
                        <a:pt x="0" y="11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1037"/>
                <p:cNvSpPr/>
                <p:nvPr/>
              </p:nvSpPr>
              <p:spPr>
                <a:xfrm rot="1560000">
                  <a:off x="3658680" y="2226600"/>
                  <a:ext cx="147960" cy="91800"/>
                </a:xfrm>
                <a:custGeom>
                  <a:avLst/>
                  <a:gdLst/>
                  <a:ahLst/>
                  <a:rect l="l" t="t" r="r" b="b"/>
                  <a:pathLst>
                    <a:path w="186" h="117">
                      <a:moveTo>
                        <a:pt x="0" y="90"/>
                      </a:moveTo>
                      <a:lnTo>
                        <a:pt x="13" y="117"/>
                      </a:lnTo>
                      <a:lnTo>
                        <a:pt x="170" y="42"/>
                      </a:lnTo>
                      <a:lnTo>
                        <a:pt x="186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1038"/>
                <p:cNvSpPr/>
                <p:nvPr/>
              </p:nvSpPr>
              <p:spPr>
                <a:xfrm rot="1560000">
                  <a:off x="3654000" y="2286720"/>
                  <a:ext cx="104760" cy="75960"/>
                </a:xfrm>
                <a:custGeom>
                  <a:avLst/>
                  <a:gdLst/>
                  <a:ahLst/>
                  <a:rect l="l" t="t" r="r" b="b"/>
                  <a:pathLst>
                    <a:path w="130" h="95">
                      <a:moveTo>
                        <a:pt x="0" y="62"/>
                      </a:moveTo>
                      <a:lnTo>
                        <a:pt x="16" y="95"/>
                      </a:lnTo>
                      <a:lnTo>
                        <a:pt x="113" y="48"/>
                      </a:lnTo>
                      <a:lnTo>
                        <a:pt x="130" y="0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Freeform 1039"/>
                <p:cNvSpPr/>
                <p:nvPr/>
              </p:nvSpPr>
              <p:spPr>
                <a:xfrm rot="1560000">
                  <a:off x="3648600" y="2352600"/>
                  <a:ext cx="52560" cy="69480"/>
                </a:xfrm>
                <a:custGeom>
                  <a:avLst/>
                  <a:gdLst/>
                  <a:ahLst/>
                  <a:rect l="l" t="t" r="r" b="b"/>
                  <a:pathLst>
                    <a:path w="68" h="86">
                      <a:moveTo>
                        <a:pt x="0" y="33"/>
                      </a:moveTo>
                      <a:lnTo>
                        <a:pt x="68" y="0"/>
                      </a:lnTo>
                      <a:lnTo>
                        <a:pt x="44" y="78"/>
                      </a:lnTo>
                      <a:lnTo>
                        <a:pt x="26" y="86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1040"/>
                <p:cNvSpPr/>
                <p:nvPr/>
              </p:nvSpPr>
              <p:spPr>
                <a:xfrm rot="1560000">
                  <a:off x="3650760" y="1687320"/>
                  <a:ext cx="122400" cy="44280"/>
                </a:xfrm>
                <a:custGeom>
                  <a:avLst/>
                  <a:gdLst/>
                  <a:ahLst/>
                  <a:rect l="l" t="t" r="r" b="b"/>
                  <a:pathLst>
                    <a:path w="154" h="57">
                      <a:moveTo>
                        <a:pt x="0" y="26"/>
                      </a:moveTo>
                      <a:lnTo>
                        <a:pt x="101" y="57"/>
                      </a:lnTo>
                      <a:lnTo>
                        <a:pt x="154" y="34"/>
                      </a:lnTo>
                      <a:lnTo>
                        <a:pt x="61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041"/>
                <p:cNvSpPr/>
                <p:nvPr/>
              </p:nvSpPr>
              <p:spPr>
                <a:xfrm rot="1560000">
                  <a:off x="3745800" y="1687320"/>
                  <a:ext cx="120960" cy="45720"/>
                </a:xfrm>
                <a:custGeom>
                  <a:avLst/>
                  <a:gdLst/>
                  <a:ahLst/>
                  <a:rect l="l" t="t" r="r" b="b"/>
                  <a:pathLst>
                    <a:path w="151" h="58">
                      <a:moveTo>
                        <a:pt x="0" y="27"/>
                      </a:moveTo>
                      <a:lnTo>
                        <a:pt x="100" y="58"/>
                      </a:lnTo>
                      <a:lnTo>
                        <a:pt x="151" y="34"/>
                      </a:lnTo>
                      <a:lnTo>
                        <a:pt x="60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042"/>
                <p:cNvSpPr/>
                <p:nvPr/>
              </p:nvSpPr>
              <p:spPr>
                <a:xfrm rot="1560000">
                  <a:off x="3844440" y="1687320"/>
                  <a:ext cx="117720" cy="45720"/>
                </a:xfrm>
                <a:custGeom>
                  <a:avLst/>
                  <a:gdLst/>
                  <a:ahLst/>
                  <a:rect l="l" t="t" r="r" b="b"/>
                  <a:pathLst>
                    <a:path w="149" h="57">
                      <a:moveTo>
                        <a:pt x="0" y="26"/>
                      </a:moveTo>
                      <a:lnTo>
                        <a:pt x="98" y="57"/>
                      </a:lnTo>
                      <a:lnTo>
                        <a:pt x="149" y="34"/>
                      </a:lnTo>
                      <a:lnTo>
                        <a:pt x="56" y="0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043"/>
                <p:cNvSpPr/>
                <p:nvPr/>
              </p:nvSpPr>
              <p:spPr>
                <a:xfrm rot="1560000">
                  <a:off x="3962880" y="1677960"/>
                  <a:ext cx="68400" cy="39240"/>
                </a:xfrm>
                <a:custGeom>
                  <a:avLst/>
                  <a:gdLst/>
                  <a:ahLst/>
                  <a:rect l="l" t="t" r="r" b="b"/>
                  <a:pathLst>
                    <a:path w="86" h="50">
                      <a:moveTo>
                        <a:pt x="0" y="23"/>
                      </a:moveTo>
                      <a:lnTo>
                        <a:pt x="75" y="50"/>
                      </a:lnTo>
                      <a:lnTo>
                        <a:pt x="86" y="14"/>
                      </a:lnTo>
                      <a:lnTo>
                        <a:pt x="53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044"/>
                <p:cNvSpPr/>
                <p:nvPr/>
              </p:nvSpPr>
              <p:spPr>
                <a:xfrm rot="1560000">
                  <a:off x="3888360" y="1811880"/>
                  <a:ext cx="223920" cy="221760"/>
                </a:xfrm>
                <a:custGeom>
                  <a:avLst/>
                  <a:gdLst/>
                  <a:ahLst/>
                  <a:rect l="l" t="t" r="r" b="b"/>
                  <a:pathLst>
                    <a:path w="283" h="281">
                      <a:moveTo>
                        <a:pt x="26" y="0"/>
                      </a:moveTo>
                      <a:lnTo>
                        <a:pt x="143" y="243"/>
                      </a:lnTo>
                      <a:lnTo>
                        <a:pt x="176" y="254"/>
                      </a:lnTo>
                      <a:lnTo>
                        <a:pt x="269" y="214"/>
                      </a:lnTo>
                      <a:lnTo>
                        <a:pt x="283" y="230"/>
                      </a:lnTo>
                      <a:lnTo>
                        <a:pt x="170" y="281"/>
                      </a:lnTo>
                      <a:lnTo>
                        <a:pt x="133" y="280"/>
                      </a:lnTo>
                      <a:lnTo>
                        <a:pt x="0" y="11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1045"/>
                <p:cNvSpPr/>
                <p:nvPr/>
              </p:nvSpPr>
              <p:spPr>
                <a:xfrm rot="1560000">
                  <a:off x="3827520" y="1827360"/>
                  <a:ext cx="289080" cy="244080"/>
                </a:xfrm>
                <a:custGeom>
                  <a:avLst/>
                  <a:gdLst/>
                  <a:ahLst/>
                  <a:rect l="l" t="t" r="r" b="b"/>
                  <a:pathLst>
                    <a:path w="364" h="308">
                      <a:moveTo>
                        <a:pt x="26" y="0"/>
                      </a:moveTo>
                      <a:lnTo>
                        <a:pt x="167" y="274"/>
                      </a:lnTo>
                      <a:lnTo>
                        <a:pt x="213" y="281"/>
                      </a:lnTo>
                      <a:lnTo>
                        <a:pt x="349" y="216"/>
                      </a:lnTo>
                      <a:lnTo>
                        <a:pt x="364" y="232"/>
                      </a:lnTo>
                      <a:lnTo>
                        <a:pt x="195" y="308"/>
                      </a:lnTo>
                      <a:lnTo>
                        <a:pt x="147" y="293"/>
                      </a:lnTo>
                      <a:lnTo>
                        <a:pt x="0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Line 1046"/>
                <p:cNvSpPr/>
                <p:nvPr/>
              </p:nvSpPr>
              <p:spPr>
                <a:xfrm>
                  <a:off x="3687480" y="1845720"/>
                  <a:ext cx="84960" cy="2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Line 1047"/>
                <p:cNvSpPr/>
                <p:nvPr/>
              </p:nvSpPr>
              <p:spPr>
                <a:xfrm>
                  <a:off x="3795840" y="1876680"/>
                  <a:ext cx="74880" cy="2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Line 1048"/>
                <p:cNvSpPr/>
                <p:nvPr/>
              </p:nvSpPr>
              <p:spPr>
                <a:xfrm>
                  <a:off x="3763440" y="1878120"/>
                  <a:ext cx="1800" cy="83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Line 1049"/>
                <p:cNvSpPr/>
                <p:nvPr/>
              </p:nvSpPr>
              <p:spPr>
                <a:xfrm flipV="1">
                  <a:off x="3741840" y="1954800"/>
                  <a:ext cx="52920" cy="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1050"/>
                <p:cNvSpPr/>
                <p:nvPr/>
              </p:nvSpPr>
              <p:spPr>
                <a:xfrm flipV="1">
                  <a:off x="3742920" y="1997280"/>
                  <a:ext cx="5976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1051"/>
                <p:cNvSpPr/>
                <p:nvPr/>
              </p:nvSpPr>
              <p:spPr>
                <a:xfrm flipV="1">
                  <a:off x="3694680" y="1874880"/>
                  <a:ext cx="70200" cy="28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1052"/>
                <p:cNvSpPr/>
                <p:nvPr/>
              </p:nvSpPr>
              <p:spPr>
                <a:xfrm>
                  <a:off x="3788280" y="1845360"/>
                  <a:ext cx="84960" cy="3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053"/>
              <p:cNvGrpSpPr/>
              <p:nvPr/>
            </p:nvGrpSpPr>
            <p:grpSpPr>
              <a:xfrm>
                <a:off x="3135240" y="2281320"/>
                <a:ext cx="1286640" cy="1133280"/>
                <a:chOff x="3135240" y="2281320"/>
                <a:chExt cx="1286640" cy="1133280"/>
              </a:xfrm>
            </p:grpSpPr>
            <p:sp>
              <p:nvSpPr>
                <p:cNvPr id="106" name="Freeform 1054"/>
                <p:cNvSpPr/>
                <p:nvPr/>
              </p:nvSpPr>
              <p:spPr>
                <a:xfrm rot="1560000">
                  <a:off x="3532320" y="3034080"/>
                  <a:ext cx="450720" cy="296640"/>
                </a:xfrm>
                <a:custGeom>
                  <a:avLst/>
                  <a:gdLst/>
                  <a:ahLst/>
                  <a:rect l="l" t="t" r="r" b="b"/>
                  <a:pathLst>
                    <a:path w="568" h="372">
                      <a:moveTo>
                        <a:pt x="0" y="372"/>
                      </a:moveTo>
                      <a:lnTo>
                        <a:pt x="568" y="85"/>
                      </a:lnTo>
                      <a:lnTo>
                        <a:pt x="397" y="47"/>
                      </a:lnTo>
                      <a:lnTo>
                        <a:pt x="375" y="0"/>
                      </a:lnTo>
                      <a:lnTo>
                        <a:pt x="27" y="168"/>
                      </a:lnTo>
                      <a:lnTo>
                        <a:pt x="49" y="216"/>
                      </a:lnTo>
                      <a:lnTo>
                        <a:pt x="0" y="37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1055"/>
                <p:cNvSpPr/>
                <p:nvPr/>
              </p:nvSpPr>
              <p:spPr>
                <a:xfrm rot="1560000">
                  <a:off x="3653640" y="2810880"/>
                  <a:ext cx="274680" cy="306000"/>
                </a:xfrm>
                <a:custGeom>
                  <a:avLst/>
                  <a:gdLst/>
                  <a:ahLst/>
                  <a:rect l="l" t="t" r="r" b="b"/>
                  <a:pathLst>
                    <a:path w="346" h="387">
                      <a:moveTo>
                        <a:pt x="142" y="387"/>
                      </a:moveTo>
                      <a:lnTo>
                        <a:pt x="346" y="285"/>
                      </a:lnTo>
                      <a:lnTo>
                        <a:pt x="230" y="44"/>
                      </a:lnTo>
                      <a:lnTo>
                        <a:pt x="201" y="33"/>
                      </a:lnTo>
                      <a:lnTo>
                        <a:pt x="140" y="0"/>
                      </a:lnTo>
                      <a:lnTo>
                        <a:pt x="34" y="50"/>
                      </a:lnTo>
                      <a:lnTo>
                        <a:pt x="0" y="98"/>
                      </a:lnTo>
                      <a:lnTo>
                        <a:pt x="142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056"/>
                <p:cNvSpPr/>
                <p:nvPr/>
              </p:nvSpPr>
              <p:spPr>
                <a:xfrm rot="1560000">
                  <a:off x="3841200" y="2784600"/>
                  <a:ext cx="127080" cy="286920"/>
                </a:xfrm>
                <a:custGeom>
                  <a:avLst/>
                  <a:gdLst/>
                  <a:ahLst/>
                  <a:rect l="l" t="t" r="r" b="b"/>
                  <a:pathLst>
                    <a:path w="159" h="361">
                      <a:moveTo>
                        <a:pt x="137" y="361"/>
                      </a:moveTo>
                      <a:lnTo>
                        <a:pt x="34" y="140"/>
                      </a:lnTo>
                      <a:lnTo>
                        <a:pt x="0" y="123"/>
                      </a:lnTo>
                      <a:lnTo>
                        <a:pt x="28" y="40"/>
                      </a:lnTo>
                      <a:lnTo>
                        <a:pt x="105" y="0"/>
                      </a:lnTo>
                      <a:lnTo>
                        <a:pt x="149" y="93"/>
                      </a:lnTo>
                      <a:lnTo>
                        <a:pt x="96" y="121"/>
                      </a:lnTo>
                      <a:lnTo>
                        <a:pt x="159" y="249"/>
                      </a:lnTo>
                      <a:lnTo>
                        <a:pt x="137" y="361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1057"/>
                <p:cNvSpPr/>
                <p:nvPr/>
              </p:nvSpPr>
              <p:spPr>
                <a:xfrm rot="1560000">
                  <a:off x="3667320" y="2740320"/>
                  <a:ext cx="237960" cy="128160"/>
                </a:xfrm>
                <a:custGeom>
                  <a:avLst/>
                  <a:gdLst/>
                  <a:ahLst/>
                  <a:rect l="l" t="t" r="r" b="b"/>
                  <a:pathLst>
                    <a:path w="300" h="163">
                      <a:moveTo>
                        <a:pt x="65" y="163"/>
                      </a:moveTo>
                      <a:lnTo>
                        <a:pt x="107" y="112"/>
                      </a:lnTo>
                      <a:lnTo>
                        <a:pt x="208" y="63"/>
                      </a:lnTo>
                      <a:lnTo>
                        <a:pt x="271" y="96"/>
                      </a:lnTo>
                      <a:lnTo>
                        <a:pt x="277" y="69"/>
                      </a:lnTo>
                      <a:lnTo>
                        <a:pt x="300" y="18"/>
                      </a:lnTo>
                      <a:lnTo>
                        <a:pt x="203" y="0"/>
                      </a:lnTo>
                      <a:lnTo>
                        <a:pt x="45" y="74"/>
                      </a:lnTo>
                      <a:lnTo>
                        <a:pt x="0" y="152"/>
                      </a:lnTo>
                      <a:lnTo>
                        <a:pt x="65" y="16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1058"/>
                <p:cNvSpPr/>
                <p:nvPr/>
              </p:nvSpPr>
              <p:spPr>
                <a:xfrm rot="1560000">
                  <a:off x="3213360" y="2696040"/>
                  <a:ext cx="293760" cy="425160"/>
                </a:xfrm>
                <a:custGeom>
                  <a:avLst/>
                  <a:gdLst/>
                  <a:ahLst/>
                  <a:rect l="l" t="t" r="r" b="b"/>
                  <a:pathLst>
                    <a:path w="370" h="537">
                      <a:moveTo>
                        <a:pt x="107" y="79"/>
                      </a:moveTo>
                      <a:lnTo>
                        <a:pt x="168" y="210"/>
                      </a:lnTo>
                      <a:lnTo>
                        <a:pt x="311" y="225"/>
                      </a:lnTo>
                      <a:lnTo>
                        <a:pt x="370" y="313"/>
                      </a:lnTo>
                      <a:lnTo>
                        <a:pt x="246" y="301"/>
                      </a:lnTo>
                      <a:lnTo>
                        <a:pt x="218" y="312"/>
                      </a:lnTo>
                      <a:lnTo>
                        <a:pt x="281" y="443"/>
                      </a:lnTo>
                      <a:lnTo>
                        <a:pt x="243" y="537"/>
                      </a:lnTo>
                      <a:lnTo>
                        <a:pt x="0" y="33"/>
                      </a:lnTo>
                      <a:lnTo>
                        <a:pt x="68" y="0"/>
                      </a:lnTo>
                      <a:lnTo>
                        <a:pt x="107" y="7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1059"/>
                <p:cNvSpPr/>
                <p:nvPr/>
              </p:nvSpPr>
              <p:spPr>
                <a:xfrm rot="1560000">
                  <a:off x="3300480" y="2620080"/>
                  <a:ext cx="73080" cy="61560"/>
                </a:xfrm>
                <a:custGeom>
                  <a:avLst/>
                  <a:gdLst/>
                  <a:ahLst/>
                  <a:rect l="l" t="t" r="r" b="b"/>
                  <a:pathLst>
                    <a:path w="92" h="76">
                      <a:moveTo>
                        <a:pt x="22" y="76"/>
                      </a:moveTo>
                      <a:lnTo>
                        <a:pt x="92" y="44"/>
                      </a:lnTo>
                      <a:lnTo>
                        <a:pt x="69" y="0"/>
                      </a:lnTo>
                      <a:lnTo>
                        <a:pt x="0" y="31"/>
                      </a:lnTo>
                      <a:lnTo>
                        <a:pt x="22" y="7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Freeform 1060"/>
                <p:cNvSpPr/>
                <p:nvPr/>
              </p:nvSpPr>
              <p:spPr>
                <a:xfrm rot="1560000">
                  <a:off x="3291480" y="2575800"/>
                  <a:ext cx="81000" cy="66240"/>
                </a:xfrm>
                <a:custGeom>
                  <a:avLst/>
                  <a:gdLst/>
                  <a:ahLst/>
                  <a:rect l="l" t="t" r="r" b="b"/>
                  <a:pathLst>
                    <a:path w="101" h="84">
                      <a:moveTo>
                        <a:pt x="26" y="84"/>
                      </a:moveTo>
                      <a:lnTo>
                        <a:pt x="101" y="45"/>
                      </a:lnTo>
                      <a:lnTo>
                        <a:pt x="79" y="0"/>
                      </a:lnTo>
                      <a:lnTo>
                        <a:pt x="0" y="34"/>
                      </a:lnTo>
                      <a:lnTo>
                        <a:pt x="26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Freeform 1061"/>
                <p:cNvSpPr/>
                <p:nvPr/>
              </p:nvSpPr>
              <p:spPr>
                <a:xfrm rot="1560000">
                  <a:off x="3297240" y="2530800"/>
                  <a:ext cx="74880" cy="64800"/>
                </a:xfrm>
                <a:custGeom>
                  <a:avLst/>
                  <a:gdLst/>
                  <a:ahLst/>
                  <a:rect l="l" t="t" r="r" b="b"/>
                  <a:pathLst>
                    <a:path w="93" h="82">
                      <a:moveTo>
                        <a:pt x="26" y="82"/>
                      </a:moveTo>
                      <a:lnTo>
                        <a:pt x="93" y="49"/>
                      </a:lnTo>
                      <a:lnTo>
                        <a:pt x="70" y="0"/>
                      </a:lnTo>
                      <a:lnTo>
                        <a:pt x="0" y="33"/>
                      </a:lnTo>
                      <a:lnTo>
                        <a:pt x="26" y="8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1062"/>
                <p:cNvSpPr/>
                <p:nvPr/>
              </p:nvSpPr>
              <p:spPr>
                <a:xfrm rot="1560000">
                  <a:off x="3452400" y="2332800"/>
                  <a:ext cx="352440" cy="502920"/>
                </a:xfrm>
                <a:custGeom>
                  <a:avLst/>
                  <a:gdLst/>
                  <a:ahLst/>
                  <a:rect l="l" t="t" r="r" b="b"/>
                  <a:pathLst>
                    <a:path w="445" h="633">
                      <a:moveTo>
                        <a:pt x="0" y="572"/>
                      </a:moveTo>
                      <a:lnTo>
                        <a:pt x="204" y="633"/>
                      </a:lnTo>
                      <a:lnTo>
                        <a:pt x="445" y="0"/>
                      </a:lnTo>
                      <a:lnTo>
                        <a:pt x="202" y="120"/>
                      </a:lnTo>
                      <a:lnTo>
                        <a:pt x="0" y="5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1063"/>
                <p:cNvSpPr/>
                <p:nvPr/>
              </p:nvSpPr>
              <p:spPr>
                <a:xfrm rot="1560000">
                  <a:off x="3584880" y="2370600"/>
                  <a:ext cx="181080" cy="482400"/>
                </a:xfrm>
                <a:custGeom>
                  <a:avLst/>
                  <a:gdLst/>
                  <a:ahLst/>
                  <a:rect l="l" t="t" r="r" b="b"/>
                  <a:pathLst>
                    <a:path w="228" h="608">
                      <a:moveTo>
                        <a:pt x="26" y="608"/>
                      </a:moveTo>
                      <a:lnTo>
                        <a:pt x="228" y="0"/>
                      </a:lnTo>
                      <a:lnTo>
                        <a:pt x="196" y="18"/>
                      </a:lnTo>
                      <a:lnTo>
                        <a:pt x="0" y="598"/>
                      </a:lnTo>
                      <a:lnTo>
                        <a:pt x="26" y="60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1064"/>
                <p:cNvSpPr/>
                <p:nvPr/>
              </p:nvSpPr>
              <p:spPr>
                <a:xfrm rot="1560000">
                  <a:off x="3540600" y="2376720"/>
                  <a:ext cx="171360" cy="447480"/>
                </a:xfrm>
                <a:custGeom>
                  <a:avLst/>
                  <a:gdLst/>
                  <a:ahLst/>
                  <a:rect l="l" t="t" r="r" b="b"/>
                  <a:pathLst>
                    <a:path w="217" h="563">
                      <a:moveTo>
                        <a:pt x="27" y="563"/>
                      </a:moveTo>
                      <a:lnTo>
                        <a:pt x="217" y="0"/>
                      </a:lnTo>
                      <a:lnTo>
                        <a:pt x="176" y="18"/>
                      </a:lnTo>
                      <a:lnTo>
                        <a:pt x="0" y="550"/>
                      </a:lnTo>
                      <a:lnTo>
                        <a:pt x="27" y="56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1065"/>
                <p:cNvSpPr/>
                <p:nvPr/>
              </p:nvSpPr>
              <p:spPr>
                <a:xfrm rot="1560000">
                  <a:off x="3606480" y="2368440"/>
                  <a:ext cx="430200" cy="556920"/>
                </a:xfrm>
                <a:custGeom>
                  <a:avLst/>
                  <a:gdLst/>
                  <a:ahLst/>
                  <a:rect l="l" t="t" r="r" b="b"/>
                  <a:pathLst>
                    <a:path w="542" h="703">
                      <a:moveTo>
                        <a:pt x="0" y="703"/>
                      </a:moveTo>
                      <a:lnTo>
                        <a:pt x="18" y="670"/>
                      </a:lnTo>
                      <a:lnTo>
                        <a:pt x="156" y="608"/>
                      </a:lnTo>
                      <a:lnTo>
                        <a:pt x="165" y="622"/>
                      </a:lnTo>
                      <a:lnTo>
                        <a:pt x="208" y="543"/>
                      </a:lnTo>
                      <a:lnTo>
                        <a:pt x="370" y="465"/>
                      </a:lnTo>
                      <a:lnTo>
                        <a:pt x="473" y="480"/>
                      </a:lnTo>
                      <a:lnTo>
                        <a:pt x="531" y="452"/>
                      </a:lnTo>
                      <a:lnTo>
                        <a:pt x="455" y="296"/>
                      </a:lnTo>
                      <a:lnTo>
                        <a:pt x="542" y="93"/>
                      </a:lnTo>
                      <a:lnTo>
                        <a:pt x="386" y="0"/>
                      </a:lnTo>
                      <a:lnTo>
                        <a:pt x="223" y="81"/>
                      </a:lnTo>
                      <a:lnTo>
                        <a:pt x="0" y="7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1066"/>
                <p:cNvSpPr/>
                <p:nvPr/>
              </p:nvSpPr>
              <p:spPr>
                <a:xfrm rot="1560000">
                  <a:off x="3586320" y="2670120"/>
                  <a:ext cx="374400" cy="213840"/>
                </a:xfrm>
                <a:custGeom>
                  <a:avLst/>
                  <a:gdLst/>
                  <a:ahLst/>
                  <a:rect l="l" t="t" r="r" b="b"/>
                  <a:pathLst>
                    <a:path w="473" h="270">
                      <a:moveTo>
                        <a:pt x="76" y="235"/>
                      </a:moveTo>
                      <a:lnTo>
                        <a:pt x="137" y="122"/>
                      </a:lnTo>
                      <a:lnTo>
                        <a:pt x="306" y="40"/>
                      </a:lnTo>
                      <a:lnTo>
                        <a:pt x="407" y="58"/>
                      </a:lnTo>
                      <a:lnTo>
                        <a:pt x="427" y="90"/>
                      </a:lnTo>
                      <a:lnTo>
                        <a:pt x="473" y="67"/>
                      </a:lnTo>
                      <a:lnTo>
                        <a:pt x="447" y="17"/>
                      </a:lnTo>
                      <a:lnTo>
                        <a:pt x="286" y="0"/>
                      </a:lnTo>
                      <a:lnTo>
                        <a:pt x="118" y="82"/>
                      </a:lnTo>
                      <a:lnTo>
                        <a:pt x="0" y="270"/>
                      </a:lnTo>
                      <a:lnTo>
                        <a:pt x="76" y="2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1067"/>
                <p:cNvSpPr/>
                <p:nvPr/>
              </p:nvSpPr>
              <p:spPr>
                <a:xfrm rot="1560000">
                  <a:off x="3703680" y="2424960"/>
                  <a:ext cx="314280" cy="345960"/>
                </a:xfrm>
                <a:custGeom>
                  <a:avLst/>
                  <a:gdLst/>
                  <a:ahLst/>
                  <a:rect l="l" t="t" r="r" b="b"/>
                  <a:pathLst>
                    <a:path w="397" h="437">
                      <a:moveTo>
                        <a:pt x="0" y="437"/>
                      </a:moveTo>
                      <a:lnTo>
                        <a:pt x="242" y="316"/>
                      </a:lnTo>
                      <a:lnTo>
                        <a:pt x="397" y="331"/>
                      </a:lnTo>
                      <a:lnTo>
                        <a:pt x="312" y="251"/>
                      </a:lnTo>
                      <a:lnTo>
                        <a:pt x="192" y="0"/>
                      </a:lnTo>
                      <a:lnTo>
                        <a:pt x="151" y="20"/>
                      </a:lnTo>
                      <a:lnTo>
                        <a:pt x="0" y="43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1068"/>
                <p:cNvSpPr/>
                <p:nvPr/>
              </p:nvSpPr>
              <p:spPr>
                <a:xfrm rot="1560000">
                  <a:off x="3946320" y="2453760"/>
                  <a:ext cx="234720" cy="375840"/>
                </a:xfrm>
                <a:custGeom>
                  <a:avLst/>
                  <a:gdLst/>
                  <a:ahLst/>
                  <a:rect l="l" t="t" r="r" b="b"/>
                  <a:pathLst>
                    <a:path w="295" h="475">
                      <a:moveTo>
                        <a:pt x="142" y="475"/>
                      </a:moveTo>
                      <a:lnTo>
                        <a:pt x="62" y="313"/>
                      </a:lnTo>
                      <a:lnTo>
                        <a:pt x="150" y="118"/>
                      </a:lnTo>
                      <a:lnTo>
                        <a:pt x="0" y="24"/>
                      </a:lnTo>
                      <a:lnTo>
                        <a:pt x="50" y="0"/>
                      </a:lnTo>
                      <a:lnTo>
                        <a:pt x="165" y="88"/>
                      </a:lnTo>
                      <a:lnTo>
                        <a:pt x="242" y="49"/>
                      </a:lnTo>
                      <a:lnTo>
                        <a:pt x="295" y="163"/>
                      </a:lnTo>
                      <a:lnTo>
                        <a:pt x="229" y="297"/>
                      </a:lnTo>
                      <a:lnTo>
                        <a:pt x="260" y="356"/>
                      </a:lnTo>
                      <a:lnTo>
                        <a:pt x="212" y="378"/>
                      </a:lnTo>
                      <a:lnTo>
                        <a:pt x="142" y="47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1069"/>
                <p:cNvSpPr/>
                <p:nvPr/>
              </p:nvSpPr>
              <p:spPr>
                <a:xfrm rot="1560000">
                  <a:off x="4008960" y="2545200"/>
                  <a:ext cx="152640" cy="277200"/>
                </a:xfrm>
                <a:custGeom>
                  <a:avLst/>
                  <a:gdLst/>
                  <a:ahLst/>
                  <a:rect l="l" t="t" r="r" b="b"/>
                  <a:pathLst>
                    <a:path w="192" h="349">
                      <a:moveTo>
                        <a:pt x="64" y="349"/>
                      </a:moveTo>
                      <a:lnTo>
                        <a:pt x="0" y="218"/>
                      </a:lnTo>
                      <a:lnTo>
                        <a:pt x="86" y="38"/>
                      </a:lnTo>
                      <a:lnTo>
                        <a:pt x="160" y="0"/>
                      </a:lnTo>
                      <a:lnTo>
                        <a:pt x="192" y="61"/>
                      </a:lnTo>
                      <a:lnTo>
                        <a:pt x="128" y="90"/>
                      </a:lnTo>
                      <a:lnTo>
                        <a:pt x="79" y="209"/>
                      </a:lnTo>
                      <a:lnTo>
                        <a:pt x="112" y="279"/>
                      </a:lnTo>
                      <a:lnTo>
                        <a:pt x="64" y="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1070"/>
                <p:cNvSpPr/>
                <p:nvPr/>
              </p:nvSpPr>
              <p:spPr>
                <a:xfrm rot="1560000">
                  <a:off x="4113360" y="2635920"/>
                  <a:ext cx="73080" cy="142560"/>
                </a:xfrm>
                <a:custGeom>
                  <a:avLst/>
                  <a:gdLst/>
                  <a:ahLst/>
                  <a:rect l="l" t="t" r="r" b="b"/>
                  <a:pathLst>
                    <a:path w="92" h="181">
                      <a:moveTo>
                        <a:pt x="28" y="181"/>
                      </a:moveTo>
                      <a:lnTo>
                        <a:pt x="92" y="60"/>
                      </a:lnTo>
                      <a:lnTo>
                        <a:pt x="62" y="0"/>
                      </a:lnTo>
                      <a:lnTo>
                        <a:pt x="0" y="121"/>
                      </a:lnTo>
                      <a:lnTo>
                        <a:pt x="28" y="18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1071"/>
                <p:cNvSpPr/>
                <p:nvPr/>
              </p:nvSpPr>
              <p:spPr>
                <a:xfrm rot="1560000">
                  <a:off x="3286440" y="2428920"/>
                  <a:ext cx="100080" cy="121680"/>
                </a:xfrm>
                <a:custGeom>
                  <a:avLst/>
                  <a:gdLst/>
                  <a:ahLst/>
                  <a:rect l="l" t="t" r="r" b="b"/>
                  <a:pathLst>
                    <a:path w="127" h="154">
                      <a:moveTo>
                        <a:pt x="73" y="0"/>
                      </a:moveTo>
                      <a:lnTo>
                        <a:pt x="0" y="37"/>
                      </a:lnTo>
                      <a:lnTo>
                        <a:pt x="56" y="154"/>
                      </a:lnTo>
                      <a:lnTo>
                        <a:pt x="127" y="118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1072"/>
                <p:cNvSpPr/>
                <p:nvPr/>
              </p:nvSpPr>
              <p:spPr>
                <a:xfrm rot="1560000">
                  <a:off x="3289320" y="2433960"/>
                  <a:ext cx="71640" cy="93600"/>
                </a:xfrm>
                <a:custGeom>
                  <a:avLst/>
                  <a:gdLst/>
                  <a:ahLst/>
                  <a:rect l="l" t="t" r="r" b="b"/>
                  <a:pathLst>
                    <a:path w="90" h="119">
                      <a:moveTo>
                        <a:pt x="90" y="97"/>
                      </a:moveTo>
                      <a:lnTo>
                        <a:pt x="45" y="0"/>
                      </a:lnTo>
                      <a:lnTo>
                        <a:pt x="0" y="22"/>
                      </a:lnTo>
                      <a:lnTo>
                        <a:pt x="45" y="119"/>
                      </a:lnTo>
                      <a:lnTo>
                        <a:pt x="90" y="9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Freeform 1073"/>
                <p:cNvSpPr/>
                <p:nvPr/>
              </p:nvSpPr>
              <p:spPr>
                <a:xfrm rot="1560000">
                  <a:off x="3343680" y="2423880"/>
                  <a:ext cx="104760" cy="175680"/>
                </a:xfrm>
                <a:custGeom>
                  <a:avLst/>
                  <a:gdLst/>
                  <a:ahLst/>
                  <a:rect l="l" t="t" r="r" b="b"/>
                  <a:pathLst>
                    <a:path w="132" h="221">
                      <a:moveTo>
                        <a:pt x="83" y="221"/>
                      </a:moveTo>
                      <a:lnTo>
                        <a:pt x="124" y="209"/>
                      </a:lnTo>
                      <a:lnTo>
                        <a:pt x="132" y="105"/>
                      </a:lnTo>
                      <a:lnTo>
                        <a:pt x="80" y="0"/>
                      </a:lnTo>
                      <a:lnTo>
                        <a:pt x="0" y="40"/>
                      </a:lnTo>
                      <a:lnTo>
                        <a:pt x="83" y="22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Freeform 1074"/>
                <p:cNvSpPr/>
                <p:nvPr/>
              </p:nvSpPr>
              <p:spPr>
                <a:xfrm rot="1560000">
                  <a:off x="3392280" y="2414520"/>
                  <a:ext cx="135000" cy="299520"/>
                </a:xfrm>
                <a:custGeom>
                  <a:avLst/>
                  <a:gdLst/>
                  <a:ahLst/>
                  <a:rect l="l" t="t" r="r" b="b"/>
                  <a:pathLst>
                    <a:path w="170" h="378">
                      <a:moveTo>
                        <a:pt x="0" y="55"/>
                      </a:moveTo>
                      <a:lnTo>
                        <a:pt x="106" y="0"/>
                      </a:lnTo>
                      <a:lnTo>
                        <a:pt x="170" y="137"/>
                      </a:lnTo>
                      <a:lnTo>
                        <a:pt x="71" y="378"/>
                      </a:lnTo>
                      <a:lnTo>
                        <a:pt x="54" y="363"/>
                      </a:lnTo>
                      <a:lnTo>
                        <a:pt x="10" y="273"/>
                      </a:lnTo>
                      <a:lnTo>
                        <a:pt x="46" y="254"/>
                      </a:lnTo>
                      <a:lnTo>
                        <a:pt x="52" y="161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Freeform 1075"/>
                <p:cNvSpPr/>
                <p:nvPr/>
              </p:nvSpPr>
              <p:spPr>
                <a:xfrm rot="1560000">
                  <a:off x="3528360" y="2402640"/>
                  <a:ext cx="122400" cy="160200"/>
                </a:xfrm>
                <a:custGeom>
                  <a:avLst/>
                  <a:gdLst/>
                  <a:ahLst/>
                  <a:rect l="l" t="t" r="r" b="b"/>
                  <a:pathLst>
                    <a:path w="154" h="203">
                      <a:moveTo>
                        <a:pt x="64" y="203"/>
                      </a:moveTo>
                      <a:lnTo>
                        <a:pt x="154" y="0"/>
                      </a:lnTo>
                      <a:lnTo>
                        <a:pt x="0" y="75"/>
                      </a:lnTo>
                      <a:lnTo>
                        <a:pt x="64" y="20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Freeform 1076"/>
                <p:cNvSpPr/>
                <p:nvPr/>
              </p:nvSpPr>
              <p:spPr>
                <a:xfrm rot="1560000">
                  <a:off x="3480840" y="2376360"/>
                  <a:ext cx="177840" cy="398160"/>
                </a:xfrm>
                <a:custGeom>
                  <a:avLst/>
                  <a:gdLst/>
                  <a:ahLst/>
                  <a:rect l="l" t="t" r="r" b="b"/>
                  <a:pathLst>
                    <a:path w="223" h="501">
                      <a:moveTo>
                        <a:pt x="0" y="485"/>
                      </a:moveTo>
                      <a:lnTo>
                        <a:pt x="50" y="501"/>
                      </a:lnTo>
                      <a:lnTo>
                        <a:pt x="223" y="0"/>
                      </a:lnTo>
                      <a:lnTo>
                        <a:pt x="188" y="20"/>
                      </a:lnTo>
                      <a:lnTo>
                        <a:pt x="0" y="4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Freeform 1077"/>
                <p:cNvSpPr/>
                <p:nvPr/>
              </p:nvSpPr>
              <p:spPr>
                <a:xfrm rot="1560000">
                  <a:off x="3981960" y="2471400"/>
                  <a:ext cx="85680" cy="217080"/>
                </a:xfrm>
                <a:custGeom>
                  <a:avLst/>
                  <a:gdLst/>
                  <a:ahLst/>
                  <a:rect l="l" t="t" r="r" b="b"/>
                  <a:pathLst>
                    <a:path w="106" h="275">
                      <a:moveTo>
                        <a:pt x="20" y="275"/>
                      </a:moveTo>
                      <a:lnTo>
                        <a:pt x="0" y="0"/>
                      </a:lnTo>
                      <a:lnTo>
                        <a:pt x="106" y="69"/>
                      </a:lnTo>
                      <a:lnTo>
                        <a:pt x="20" y="2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Freeform 1078"/>
                <p:cNvSpPr/>
                <p:nvPr/>
              </p:nvSpPr>
              <p:spPr>
                <a:xfrm rot="1560000">
                  <a:off x="3353400" y="2594520"/>
                  <a:ext cx="77760" cy="99720"/>
                </a:xfrm>
                <a:custGeom>
                  <a:avLst/>
                  <a:gdLst/>
                  <a:ahLst/>
                  <a:rect l="l" t="t" r="r" b="b"/>
                  <a:pathLst>
                    <a:path w="98" h="126">
                      <a:moveTo>
                        <a:pt x="48" y="126"/>
                      </a:moveTo>
                      <a:lnTo>
                        <a:pt x="98" y="99"/>
                      </a:lnTo>
                      <a:lnTo>
                        <a:pt x="50" y="0"/>
                      </a:lnTo>
                      <a:lnTo>
                        <a:pt x="0" y="27"/>
                      </a:lnTo>
                      <a:lnTo>
                        <a:pt x="48" y="1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Freeform 1079"/>
                <p:cNvSpPr/>
                <p:nvPr/>
              </p:nvSpPr>
              <p:spPr>
                <a:xfrm rot="1560000">
                  <a:off x="3449520" y="2781360"/>
                  <a:ext cx="307800" cy="304200"/>
                </a:xfrm>
                <a:custGeom>
                  <a:avLst/>
                  <a:gdLst/>
                  <a:ahLst/>
                  <a:rect l="l" t="t" r="r" b="b"/>
                  <a:pathLst>
                    <a:path w="388" h="384">
                      <a:moveTo>
                        <a:pt x="252" y="384"/>
                      </a:moveTo>
                      <a:lnTo>
                        <a:pt x="143" y="158"/>
                      </a:lnTo>
                      <a:lnTo>
                        <a:pt x="97" y="149"/>
                      </a:lnTo>
                      <a:lnTo>
                        <a:pt x="42" y="174"/>
                      </a:lnTo>
                      <a:lnTo>
                        <a:pt x="0" y="84"/>
                      </a:lnTo>
                      <a:lnTo>
                        <a:pt x="174" y="0"/>
                      </a:lnTo>
                      <a:lnTo>
                        <a:pt x="245" y="26"/>
                      </a:lnTo>
                      <a:lnTo>
                        <a:pt x="388" y="318"/>
                      </a:lnTo>
                      <a:lnTo>
                        <a:pt x="252" y="38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1080"/>
                <p:cNvSpPr/>
                <p:nvPr/>
              </p:nvSpPr>
              <p:spPr>
                <a:xfrm rot="1560000">
                  <a:off x="4116960" y="2438280"/>
                  <a:ext cx="231840" cy="385200"/>
                </a:xfrm>
                <a:custGeom>
                  <a:avLst/>
                  <a:gdLst/>
                  <a:ahLst/>
                  <a:rect l="l" t="t" r="r" b="b"/>
                  <a:pathLst>
                    <a:path w="292" h="485">
                      <a:moveTo>
                        <a:pt x="74" y="0"/>
                      </a:moveTo>
                      <a:lnTo>
                        <a:pt x="0" y="38"/>
                      </a:lnTo>
                      <a:lnTo>
                        <a:pt x="217" y="485"/>
                      </a:lnTo>
                      <a:lnTo>
                        <a:pt x="292" y="444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Freeform 1081"/>
                <p:cNvSpPr/>
                <p:nvPr/>
              </p:nvSpPr>
              <p:spPr>
                <a:xfrm rot="1560000">
                  <a:off x="4155480" y="2443320"/>
                  <a:ext cx="181080" cy="308880"/>
                </a:xfrm>
                <a:custGeom>
                  <a:avLst/>
                  <a:gdLst/>
                  <a:ahLst/>
                  <a:rect l="l" t="t" r="r" b="b"/>
                  <a:pathLst>
                    <a:path w="227" h="390">
                      <a:moveTo>
                        <a:pt x="227" y="367"/>
                      </a:moveTo>
                      <a:lnTo>
                        <a:pt x="44" y="0"/>
                      </a:lnTo>
                      <a:lnTo>
                        <a:pt x="0" y="20"/>
                      </a:lnTo>
                      <a:lnTo>
                        <a:pt x="181" y="390"/>
                      </a:lnTo>
                      <a:lnTo>
                        <a:pt x="227" y="367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Freeform 1082"/>
                <p:cNvSpPr/>
                <p:nvPr/>
              </p:nvSpPr>
              <p:spPr>
                <a:xfrm rot="1560000">
                  <a:off x="4063320" y="2414880"/>
                  <a:ext cx="155520" cy="120240"/>
                </a:xfrm>
                <a:custGeom>
                  <a:avLst/>
                  <a:gdLst/>
                  <a:ahLst/>
                  <a:rect l="l" t="t" r="r" b="b"/>
                  <a:pathLst>
                    <a:path w="196" h="152">
                      <a:moveTo>
                        <a:pt x="141" y="0"/>
                      </a:moveTo>
                      <a:lnTo>
                        <a:pt x="196" y="113"/>
                      </a:lnTo>
                      <a:lnTo>
                        <a:pt x="118" y="152"/>
                      </a:lnTo>
                      <a:lnTo>
                        <a:pt x="0" y="69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Freeform 1083"/>
                <p:cNvSpPr/>
                <p:nvPr/>
              </p:nvSpPr>
              <p:spPr>
                <a:xfrm rot="1560000">
                  <a:off x="3898440" y="2412000"/>
                  <a:ext cx="100080" cy="255240"/>
                </a:xfrm>
                <a:custGeom>
                  <a:avLst/>
                  <a:gdLst/>
                  <a:ahLst/>
                  <a:rect l="l" t="t" r="r" b="b"/>
                  <a:pathLst>
                    <a:path w="124" h="321">
                      <a:moveTo>
                        <a:pt x="124" y="321"/>
                      </a:moveTo>
                      <a:lnTo>
                        <a:pt x="0" y="48"/>
                      </a:lnTo>
                      <a:lnTo>
                        <a:pt x="100" y="0"/>
                      </a:lnTo>
                      <a:lnTo>
                        <a:pt x="124" y="321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Freeform 1084"/>
                <p:cNvSpPr/>
                <p:nvPr/>
              </p:nvSpPr>
              <p:spPr>
                <a:xfrm rot="1560000">
                  <a:off x="3710160" y="2585160"/>
                  <a:ext cx="198360" cy="117360"/>
                </a:xfrm>
                <a:custGeom>
                  <a:avLst/>
                  <a:gdLst/>
                  <a:ahLst/>
                  <a:rect l="l" t="t" r="r" b="b"/>
                  <a:pathLst>
                    <a:path w="249" h="149">
                      <a:moveTo>
                        <a:pt x="249" y="29"/>
                      </a:moveTo>
                      <a:lnTo>
                        <a:pt x="0" y="149"/>
                      </a:lnTo>
                      <a:lnTo>
                        <a:pt x="17" y="105"/>
                      </a:lnTo>
                      <a:lnTo>
                        <a:pt x="233" y="0"/>
                      </a:lnTo>
                      <a:lnTo>
                        <a:pt x="249" y="2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Freeform 1085"/>
                <p:cNvSpPr/>
                <p:nvPr/>
              </p:nvSpPr>
              <p:spPr>
                <a:xfrm rot="1560000">
                  <a:off x="3764520" y="2552040"/>
                  <a:ext cx="147600" cy="93240"/>
                </a:xfrm>
                <a:custGeom>
                  <a:avLst/>
                  <a:gdLst/>
                  <a:ahLst/>
                  <a:rect l="l" t="t" r="r" b="b"/>
                  <a:pathLst>
                    <a:path w="186" h="117">
                      <a:moveTo>
                        <a:pt x="186" y="27"/>
                      </a:moveTo>
                      <a:lnTo>
                        <a:pt x="173" y="0"/>
                      </a:lnTo>
                      <a:lnTo>
                        <a:pt x="16" y="74"/>
                      </a:lnTo>
                      <a:lnTo>
                        <a:pt x="0" y="117"/>
                      </a:lnTo>
                      <a:lnTo>
                        <a:pt x="186" y="27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Freeform 1086"/>
                <p:cNvSpPr/>
                <p:nvPr/>
              </p:nvSpPr>
              <p:spPr>
                <a:xfrm rot="1560000">
                  <a:off x="3812760" y="2509200"/>
                  <a:ext cx="104760" cy="74160"/>
                </a:xfrm>
                <a:custGeom>
                  <a:avLst/>
                  <a:gdLst/>
                  <a:ahLst/>
                  <a:rect l="l" t="t" r="r" b="b"/>
                  <a:pathLst>
                    <a:path w="131" h="95">
                      <a:moveTo>
                        <a:pt x="131" y="33"/>
                      </a:moveTo>
                      <a:lnTo>
                        <a:pt x="115" y="0"/>
                      </a:lnTo>
                      <a:lnTo>
                        <a:pt x="18" y="47"/>
                      </a:lnTo>
                      <a:lnTo>
                        <a:pt x="0" y="95"/>
                      </a:lnTo>
                      <a:lnTo>
                        <a:pt x="131" y="3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Freeform 1087"/>
                <p:cNvSpPr/>
                <p:nvPr/>
              </p:nvSpPr>
              <p:spPr>
                <a:xfrm rot="1560000">
                  <a:off x="3870000" y="2449800"/>
                  <a:ext cx="52200" cy="67680"/>
                </a:xfrm>
                <a:custGeom>
                  <a:avLst/>
                  <a:gdLst/>
                  <a:ahLst/>
                  <a:rect l="l" t="t" r="r" b="b"/>
                  <a:pathLst>
                    <a:path w="68" h="87">
                      <a:moveTo>
                        <a:pt x="68" y="54"/>
                      </a:moveTo>
                      <a:lnTo>
                        <a:pt x="0" y="87"/>
                      </a:lnTo>
                      <a:lnTo>
                        <a:pt x="24" y="9"/>
                      </a:lnTo>
                      <a:lnTo>
                        <a:pt x="42" y="0"/>
                      </a:lnTo>
                      <a:lnTo>
                        <a:pt x="68" y="54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Freeform 1088"/>
                <p:cNvSpPr/>
                <p:nvPr/>
              </p:nvSpPr>
              <p:spPr>
                <a:xfrm rot="1560000">
                  <a:off x="3798000" y="3138480"/>
                  <a:ext cx="122040" cy="45720"/>
                </a:xfrm>
                <a:custGeom>
                  <a:avLst/>
                  <a:gdLst/>
                  <a:ahLst/>
                  <a:rect l="l" t="t" r="r" b="b"/>
                  <a:pathLst>
                    <a:path w="154" h="57">
                      <a:moveTo>
                        <a:pt x="154" y="30"/>
                      </a:moveTo>
                      <a:lnTo>
                        <a:pt x="53" y="0"/>
                      </a:lnTo>
                      <a:lnTo>
                        <a:pt x="0" y="23"/>
                      </a:lnTo>
                      <a:lnTo>
                        <a:pt x="93" y="57"/>
                      </a:lnTo>
                      <a:lnTo>
                        <a:pt x="154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Freeform 1089"/>
                <p:cNvSpPr/>
                <p:nvPr/>
              </p:nvSpPr>
              <p:spPr>
                <a:xfrm rot="1560000">
                  <a:off x="3704400" y="3138840"/>
                  <a:ext cx="120600" cy="43920"/>
                </a:xfrm>
                <a:custGeom>
                  <a:avLst/>
                  <a:gdLst/>
                  <a:ahLst/>
                  <a:rect l="l" t="t" r="r" b="b"/>
                  <a:pathLst>
                    <a:path w="151" h="58">
                      <a:moveTo>
                        <a:pt x="151" y="31"/>
                      </a:moveTo>
                      <a:lnTo>
                        <a:pt x="51" y="0"/>
                      </a:lnTo>
                      <a:lnTo>
                        <a:pt x="0" y="23"/>
                      </a:lnTo>
                      <a:lnTo>
                        <a:pt x="91" y="58"/>
                      </a:lnTo>
                      <a:lnTo>
                        <a:pt x="151" y="3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1090"/>
                <p:cNvSpPr/>
                <p:nvPr/>
              </p:nvSpPr>
              <p:spPr>
                <a:xfrm rot="1560000">
                  <a:off x="3609000" y="3137400"/>
                  <a:ext cx="117360" cy="45720"/>
                </a:xfrm>
                <a:custGeom>
                  <a:avLst/>
                  <a:gdLst/>
                  <a:ahLst/>
                  <a:rect l="l" t="t" r="r" b="b"/>
                  <a:pathLst>
                    <a:path w="149" h="57">
                      <a:moveTo>
                        <a:pt x="149" y="30"/>
                      </a:moveTo>
                      <a:lnTo>
                        <a:pt x="51" y="0"/>
                      </a:lnTo>
                      <a:lnTo>
                        <a:pt x="0" y="23"/>
                      </a:lnTo>
                      <a:lnTo>
                        <a:pt x="93" y="57"/>
                      </a:lnTo>
                      <a:lnTo>
                        <a:pt x="149" y="3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Freeform 1091"/>
                <p:cNvSpPr/>
                <p:nvPr/>
              </p:nvSpPr>
              <p:spPr>
                <a:xfrm rot="1560000">
                  <a:off x="3540240" y="3152880"/>
                  <a:ext cx="68040" cy="39240"/>
                </a:xfrm>
                <a:custGeom>
                  <a:avLst/>
                  <a:gdLst/>
                  <a:ahLst/>
                  <a:rect l="l" t="t" r="r" b="b"/>
                  <a:pathLst>
                    <a:path w="86" h="51">
                      <a:moveTo>
                        <a:pt x="86" y="27"/>
                      </a:moveTo>
                      <a:lnTo>
                        <a:pt x="11" y="0"/>
                      </a:lnTo>
                      <a:lnTo>
                        <a:pt x="0" y="37"/>
                      </a:lnTo>
                      <a:lnTo>
                        <a:pt x="33" y="51"/>
                      </a:lnTo>
                      <a:lnTo>
                        <a:pt x="86" y="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Freeform 1092"/>
                <p:cNvSpPr/>
                <p:nvPr/>
              </p:nvSpPr>
              <p:spPr>
                <a:xfrm rot="1560000">
                  <a:off x="3458880" y="2836440"/>
                  <a:ext cx="223560" cy="223560"/>
                </a:xfrm>
                <a:custGeom>
                  <a:avLst/>
                  <a:gdLst/>
                  <a:ahLst/>
                  <a:rect l="l" t="t" r="r" b="b"/>
                  <a:pathLst>
                    <a:path w="283" h="281">
                      <a:moveTo>
                        <a:pt x="257" y="281"/>
                      </a:moveTo>
                      <a:lnTo>
                        <a:pt x="140" y="38"/>
                      </a:lnTo>
                      <a:lnTo>
                        <a:pt x="107" y="27"/>
                      </a:lnTo>
                      <a:lnTo>
                        <a:pt x="14" y="67"/>
                      </a:lnTo>
                      <a:lnTo>
                        <a:pt x="0" y="51"/>
                      </a:lnTo>
                      <a:lnTo>
                        <a:pt x="113" y="0"/>
                      </a:lnTo>
                      <a:lnTo>
                        <a:pt x="150" y="1"/>
                      </a:lnTo>
                      <a:lnTo>
                        <a:pt x="283" y="270"/>
                      </a:lnTo>
                      <a:lnTo>
                        <a:pt x="257" y="28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1093"/>
                <p:cNvSpPr/>
                <p:nvPr/>
              </p:nvSpPr>
              <p:spPr>
                <a:xfrm rot="1560000">
                  <a:off x="3454560" y="2798640"/>
                  <a:ext cx="288720" cy="244080"/>
                </a:xfrm>
                <a:custGeom>
                  <a:avLst/>
                  <a:gdLst/>
                  <a:ahLst/>
                  <a:rect l="l" t="t" r="r" b="b"/>
                  <a:pathLst>
                    <a:path w="364" h="308">
                      <a:moveTo>
                        <a:pt x="337" y="308"/>
                      </a:moveTo>
                      <a:lnTo>
                        <a:pt x="197" y="34"/>
                      </a:lnTo>
                      <a:lnTo>
                        <a:pt x="151" y="27"/>
                      </a:lnTo>
                      <a:lnTo>
                        <a:pt x="15" y="92"/>
                      </a:lnTo>
                      <a:lnTo>
                        <a:pt x="0" y="76"/>
                      </a:lnTo>
                      <a:lnTo>
                        <a:pt x="169" y="0"/>
                      </a:lnTo>
                      <a:lnTo>
                        <a:pt x="217" y="15"/>
                      </a:lnTo>
                      <a:lnTo>
                        <a:pt x="364" y="294"/>
                      </a:lnTo>
                      <a:lnTo>
                        <a:pt x="337" y="3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094"/>
                <p:cNvSpPr/>
                <p:nvPr/>
              </p:nvSpPr>
              <p:spPr>
                <a:xfrm flipH="1" flipV="1">
                  <a:off x="3806640" y="3023640"/>
                  <a:ext cx="83520" cy="2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095"/>
                <p:cNvSpPr/>
                <p:nvPr/>
              </p:nvSpPr>
              <p:spPr>
                <a:xfrm flipH="1" flipV="1">
                  <a:off x="3708000" y="2991600"/>
                  <a:ext cx="77040" cy="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096"/>
                <p:cNvSpPr/>
                <p:nvPr/>
              </p:nvSpPr>
              <p:spPr>
                <a:xfrm flipH="1" flipV="1">
                  <a:off x="3805560" y="2917080"/>
                  <a:ext cx="3240" cy="84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097"/>
                <p:cNvSpPr/>
                <p:nvPr/>
              </p:nvSpPr>
              <p:spPr>
                <a:xfrm flipH="1">
                  <a:off x="3777840" y="2916000"/>
                  <a:ext cx="49320" cy="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098"/>
                <p:cNvSpPr/>
                <p:nvPr/>
              </p:nvSpPr>
              <p:spPr>
                <a:xfrm flipH="1">
                  <a:off x="3768840" y="2870280"/>
                  <a:ext cx="59400" cy="2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099"/>
                <p:cNvSpPr/>
                <p:nvPr/>
              </p:nvSpPr>
              <p:spPr>
                <a:xfrm flipH="1">
                  <a:off x="3806640" y="2994120"/>
                  <a:ext cx="69120" cy="1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100"/>
                <p:cNvSpPr/>
                <p:nvPr/>
              </p:nvSpPr>
              <p:spPr>
                <a:xfrm flipH="1" flipV="1">
                  <a:off x="3706560" y="3022560"/>
                  <a:ext cx="85320" cy="3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" name="Freeform 1101"/>
              <p:cNvSpPr/>
              <p:nvPr/>
            </p:nvSpPr>
            <p:spPr>
              <a:xfrm rot="1560000">
                <a:off x="3005280" y="1521000"/>
                <a:ext cx="1552680" cy="1833120"/>
              </a:xfrm>
              <a:custGeom>
                <a:avLst/>
                <a:gdLst/>
                <a:ahLst/>
                <a:rect l="l" t="t" r="r" b="b"/>
                <a:pathLst>
                  <a:path w="1957" h="2308">
                    <a:moveTo>
                      <a:pt x="0" y="549"/>
                    </a:moveTo>
                    <a:lnTo>
                      <a:pt x="1099" y="0"/>
                    </a:lnTo>
                    <a:lnTo>
                      <a:pt x="1957" y="1770"/>
                    </a:lnTo>
                    <a:lnTo>
                      <a:pt x="879" y="2308"/>
                    </a:lnTo>
                    <a:lnTo>
                      <a:pt x="0" y="549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Freeform 1102"/>
              <p:cNvSpPr/>
              <p:nvPr/>
            </p:nvSpPr>
            <p:spPr>
              <a:xfrm rot="1560000">
                <a:off x="3369960" y="1721880"/>
                <a:ext cx="180720" cy="315360"/>
              </a:xfrm>
              <a:custGeom>
                <a:avLst/>
                <a:gdLst/>
                <a:ahLst/>
                <a:rect l="l" t="t" r="r" b="b"/>
                <a:pathLst>
                  <a:path w="227" h="399">
                    <a:moveTo>
                      <a:pt x="7" y="0"/>
                    </a:moveTo>
                    <a:lnTo>
                      <a:pt x="0" y="254"/>
                    </a:lnTo>
                    <a:lnTo>
                      <a:pt x="227" y="399"/>
                    </a:lnTo>
                    <a:lnTo>
                      <a:pt x="224" y="13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1103"/>
              <p:cNvSpPr/>
              <p:nvPr/>
            </p:nvSpPr>
            <p:spPr>
              <a:xfrm rot="1560000">
                <a:off x="4025160" y="2846520"/>
                <a:ext cx="179280" cy="317160"/>
              </a:xfrm>
              <a:custGeom>
                <a:avLst/>
                <a:gdLst/>
                <a:ahLst/>
                <a:rect l="l" t="t" r="r" b="b"/>
                <a:pathLst>
                  <a:path w="227" h="399">
                    <a:moveTo>
                      <a:pt x="7" y="0"/>
                    </a:moveTo>
                    <a:lnTo>
                      <a:pt x="0" y="254"/>
                    </a:lnTo>
                    <a:lnTo>
                      <a:pt x="227" y="399"/>
                    </a:lnTo>
                    <a:lnTo>
                      <a:pt x="224" y="13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1104"/>
              <p:cNvSpPr/>
              <p:nvPr/>
            </p:nvSpPr>
            <p:spPr>
              <a:xfrm rot="1560000">
                <a:off x="4324320" y="3090960"/>
                <a:ext cx="127080" cy="220320"/>
              </a:xfrm>
              <a:custGeom>
                <a:avLst/>
                <a:gdLst/>
                <a:ahLst/>
                <a:rect l="l" t="t" r="r" b="b"/>
                <a:pathLst>
                  <a:path w="160" h="278">
                    <a:moveTo>
                      <a:pt x="20" y="0"/>
                    </a:moveTo>
                    <a:lnTo>
                      <a:pt x="0" y="175"/>
                    </a:lnTo>
                    <a:lnTo>
                      <a:pt x="155" y="278"/>
                    </a:lnTo>
                    <a:lnTo>
                      <a:pt x="160" y="88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1105"/>
              <p:cNvSpPr/>
              <p:nvPr/>
            </p:nvSpPr>
            <p:spPr>
              <a:xfrm rot="1560000">
                <a:off x="4295520" y="3375720"/>
                <a:ext cx="130320" cy="247320"/>
              </a:xfrm>
              <a:custGeom>
                <a:avLst/>
                <a:gdLst/>
                <a:ahLst/>
                <a:rect l="l" t="t" r="r" b="b"/>
                <a:pathLst>
                  <a:path w="164" h="311">
                    <a:moveTo>
                      <a:pt x="157" y="283"/>
                    </a:moveTo>
                    <a:lnTo>
                      <a:pt x="113" y="311"/>
                    </a:lnTo>
                    <a:lnTo>
                      <a:pt x="0" y="88"/>
                    </a:lnTo>
                    <a:lnTo>
                      <a:pt x="23" y="30"/>
                    </a:lnTo>
                    <a:lnTo>
                      <a:pt x="78" y="0"/>
                    </a:lnTo>
                    <a:lnTo>
                      <a:pt x="138" y="22"/>
                    </a:lnTo>
                    <a:lnTo>
                      <a:pt x="164" y="91"/>
                    </a:lnTo>
                    <a:lnTo>
                      <a:pt x="119" y="115"/>
                    </a:lnTo>
                    <a:lnTo>
                      <a:pt x="90" y="63"/>
                    </a:lnTo>
                    <a:lnTo>
                      <a:pt x="58" y="80"/>
                    </a:lnTo>
                    <a:lnTo>
                      <a:pt x="157" y="283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Group 631"/>
          <p:cNvGrpSpPr/>
          <p:nvPr/>
        </p:nvGrpSpPr>
        <p:grpSpPr>
          <a:xfrm>
            <a:off x="2684520" y="1058400"/>
            <a:ext cx="2643480" cy="3076920"/>
            <a:chOff x="2684520" y="1058400"/>
            <a:chExt cx="2643480" cy="3076920"/>
          </a:xfrm>
        </p:grpSpPr>
        <p:sp>
          <p:nvSpPr>
            <p:cNvPr id="159" name="Freeform 632"/>
            <p:cNvSpPr/>
            <p:nvPr/>
          </p:nvSpPr>
          <p:spPr>
            <a:xfrm rot="1110600">
              <a:off x="3048120" y="1294920"/>
              <a:ext cx="1915920" cy="2603520"/>
            </a:xfrm>
            <a:custGeom>
              <a:avLst/>
              <a:gdLst/>
              <a:ahLst/>
              <a:rect l="l" t="t" r="r" b="b"/>
              <a:pathLst>
                <a:path w="2416" h="3279">
                  <a:moveTo>
                    <a:pt x="41" y="316"/>
                  </a:moveTo>
                  <a:lnTo>
                    <a:pt x="88" y="266"/>
                  </a:lnTo>
                  <a:lnTo>
                    <a:pt x="150" y="245"/>
                  </a:lnTo>
                  <a:lnTo>
                    <a:pt x="1848" y="0"/>
                  </a:lnTo>
                  <a:lnTo>
                    <a:pt x="1914" y="33"/>
                  </a:lnTo>
                  <a:lnTo>
                    <a:pt x="1967" y="75"/>
                  </a:lnTo>
                  <a:lnTo>
                    <a:pt x="1997" y="169"/>
                  </a:lnTo>
                  <a:lnTo>
                    <a:pt x="2416" y="2894"/>
                  </a:lnTo>
                  <a:lnTo>
                    <a:pt x="2416" y="2960"/>
                  </a:lnTo>
                  <a:lnTo>
                    <a:pt x="2387" y="3017"/>
                  </a:lnTo>
                  <a:lnTo>
                    <a:pt x="2317" y="3048"/>
                  </a:lnTo>
                  <a:lnTo>
                    <a:pt x="2240" y="3070"/>
                  </a:lnTo>
                  <a:lnTo>
                    <a:pt x="648" y="3278"/>
                  </a:lnTo>
                  <a:lnTo>
                    <a:pt x="547" y="3279"/>
                  </a:lnTo>
                  <a:lnTo>
                    <a:pt x="457" y="3234"/>
                  </a:lnTo>
                  <a:lnTo>
                    <a:pt x="430" y="3146"/>
                  </a:lnTo>
                  <a:lnTo>
                    <a:pt x="0" y="420"/>
                  </a:lnTo>
                  <a:lnTo>
                    <a:pt x="10" y="359"/>
                  </a:lnTo>
                  <a:lnTo>
                    <a:pt x="41" y="316"/>
                  </a:lnTo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633"/>
            <p:cNvGrpSpPr/>
            <p:nvPr/>
          </p:nvGrpSpPr>
          <p:grpSpPr>
            <a:xfrm>
              <a:off x="3051360" y="1348200"/>
              <a:ext cx="1914480" cy="2540520"/>
              <a:chOff x="3051360" y="1348200"/>
              <a:chExt cx="1914480" cy="2540520"/>
            </a:xfrm>
          </p:grpSpPr>
          <p:sp>
            <p:nvSpPr>
              <p:cNvPr id="161" name="Freeform 634"/>
              <p:cNvSpPr/>
              <p:nvPr/>
            </p:nvSpPr>
            <p:spPr>
              <a:xfrm rot="1110600">
                <a:off x="3468240" y="1368720"/>
                <a:ext cx="169560" cy="239760"/>
              </a:xfrm>
              <a:custGeom>
                <a:avLst/>
                <a:gdLst/>
                <a:ahLst/>
                <a:rect l="l" t="t" r="r" b="b"/>
                <a:pathLst>
                  <a:path w="215" h="303">
                    <a:moveTo>
                      <a:pt x="53" y="15"/>
                    </a:moveTo>
                    <a:lnTo>
                      <a:pt x="0" y="20"/>
                    </a:lnTo>
                    <a:lnTo>
                      <a:pt x="30" y="303"/>
                    </a:lnTo>
                    <a:lnTo>
                      <a:pt x="91" y="286"/>
                    </a:lnTo>
                    <a:lnTo>
                      <a:pt x="78" y="187"/>
                    </a:lnTo>
                    <a:lnTo>
                      <a:pt x="136" y="270"/>
                    </a:lnTo>
                    <a:lnTo>
                      <a:pt x="215" y="260"/>
                    </a:lnTo>
                    <a:lnTo>
                      <a:pt x="125" y="143"/>
                    </a:lnTo>
                    <a:lnTo>
                      <a:pt x="168" y="0"/>
                    </a:lnTo>
                    <a:lnTo>
                      <a:pt x="102" y="8"/>
                    </a:lnTo>
                    <a:lnTo>
                      <a:pt x="72" y="121"/>
                    </a:lnTo>
                    <a:lnTo>
                      <a:pt x="53" y="15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635"/>
              <p:cNvSpPr/>
              <p:nvPr/>
            </p:nvSpPr>
            <p:spPr>
              <a:xfrm rot="1110600">
                <a:off x="4397400" y="3664080"/>
                <a:ext cx="158400" cy="204840"/>
              </a:xfrm>
              <a:custGeom>
                <a:avLst/>
                <a:gdLst/>
                <a:ahLst/>
                <a:rect l="l" t="t" r="r" b="b"/>
                <a:pathLst>
                  <a:path w="200" h="259">
                    <a:moveTo>
                      <a:pt x="148" y="245"/>
                    </a:moveTo>
                    <a:lnTo>
                      <a:pt x="200" y="242"/>
                    </a:lnTo>
                    <a:lnTo>
                      <a:pt x="171" y="0"/>
                    </a:lnTo>
                    <a:lnTo>
                      <a:pt x="111" y="8"/>
                    </a:lnTo>
                    <a:lnTo>
                      <a:pt x="123" y="91"/>
                    </a:lnTo>
                    <a:lnTo>
                      <a:pt x="67" y="16"/>
                    </a:lnTo>
                    <a:lnTo>
                      <a:pt x="0" y="25"/>
                    </a:lnTo>
                    <a:lnTo>
                      <a:pt x="77" y="130"/>
                    </a:lnTo>
                    <a:lnTo>
                      <a:pt x="35" y="259"/>
                    </a:lnTo>
                    <a:lnTo>
                      <a:pt x="101" y="253"/>
                    </a:lnTo>
                    <a:lnTo>
                      <a:pt x="129" y="150"/>
                    </a:lnTo>
                    <a:lnTo>
                      <a:pt x="148" y="245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636"/>
              <p:cNvSpPr/>
              <p:nvPr/>
            </p:nvSpPr>
            <p:spPr>
              <a:xfrm rot="1110600">
                <a:off x="3405960" y="1627560"/>
                <a:ext cx="129960" cy="243000"/>
              </a:xfrm>
              <a:custGeom>
                <a:avLst/>
                <a:gdLst/>
                <a:ahLst/>
                <a:rect l="l" t="t" r="r" b="b"/>
                <a:pathLst>
                  <a:path w="165" h="306">
                    <a:moveTo>
                      <a:pt x="50" y="0"/>
                    </a:moveTo>
                    <a:lnTo>
                      <a:pt x="0" y="186"/>
                    </a:lnTo>
                    <a:lnTo>
                      <a:pt x="125" y="306"/>
                    </a:lnTo>
                    <a:lnTo>
                      <a:pt x="165" y="13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637"/>
              <p:cNvSpPr/>
              <p:nvPr/>
            </p:nvSpPr>
            <p:spPr>
              <a:xfrm rot="1110600">
                <a:off x="4466880" y="3405600"/>
                <a:ext cx="129600" cy="243000"/>
              </a:xfrm>
              <a:custGeom>
                <a:avLst/>
                <a:gdLst/>
                <a:ahLst/>
                <a:rect l="l" t="t" r="r" b="b"/>
                <a:pathLst>
                  <a:path w="164" h="305">
                    <a:moveTo>
                      <a:pt x="50" y="0"/>
                    </a:moveTo>
                    <a:lnTo>
                      <a:pt x="0" y="185"/>
                    </a:lnTo>
                    <a:lnTo>
                      <a:pt x="124" y="305"/>
                    </a:lnTo>
                    <a:lnTo>
                      <a:pt x="164" y="13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Group 638"/>
              <p:cNvGrpSpPr/>
              <p:nvPr/>
            </p:nvGrpSpPr>
            <p:grpSpPr>
              <a:xfrm>
                <a:off x="3051360" y="1513800"/>
                <a:ext cx="1914480" cy="2218320"/>
                <a:chOff x="3051360" y="1513800"/>
                <a:chExt cx="1914480" cy="2218320"/>
              </a:xfrm>
            </p:grpSpPr>
            <p:sp>
              <p:nvSpPr>
                <p:cNvPr id="166" name="Freeform 639"/>
                <p:cNvSpPr/>
                <p:nvPr/>
              </p:nvSpPr>
              <p:spPr>
                <a:xfrm rot="1110600">
                  <a:off x="3312360" y="1686240"/>
                  <a:ext cx="1391760" cy="1873440"/>
                </a:xfrm>
                <a:custGeom>
                  <a:avLst/>
                  <a:gdLst/>
                  <a:ahLst/>
                  <a:rect l="l" t="t" r="r" b="b"/>
                  <a:pathLst>
                    <a:path w="1753" h="2359">
                      <a:moveTo>
                        <a:pt x="0" y="208"/>
                      </a:moveTo>
                      <a:lnTo>
                        <a:pt x="1414" y="0"/>
                      </a:lnTo>
                      <a:lnTo>
                        <a:pt x="1753" y="2182"/>
                      </a:lnTo>
                      <a:lnTo>
                        <a:pt x="357" y="2359"/>
                      </a:lnTo>
                      <a:lnTo>
                        <a:pt x="0" y="208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Group 640"/>
                <p:cNvGrpSpPr/>
                <p:nvPr/>
              </p:nvGrpSpPr>
              <p:grpSpPr>
                <a:xfrm>
                  <a:off x="3430800" y="1640160"/>
                  <a:ext cx="1348560" cy="1236600"/>
                  <a:chOff x="3430800" y="1640160"/>
                  <a:chExt cx="1348560" cy="1236600"/>
                </a:xfrm>
              </p:grpSpPr>
              <p:sp>
                <p:nvSpPr>
                  <p:cNvPr id="168" name="Freeform 641"/>
                  <p:cNvSpPr/>
                  <p:nvPr/>
                </p:nvSpPr>
                <p:spPr>
                  <a:xfrm rot="1110600">
                    <a:off x="3614040" y="1751760"/>
                    <a:ext cx="22968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514">
                        <a:moveTo>
                          <a:pt x="102" y="0"/>
                        </a:moveTo>
                        <a:lnTo>
                          <a:pt x="0" y="272"/>
                        </a:lnTo>
                        <a:lnTo>
                          <a:pt x="187" y="514"/>
                        </a:lnTo>
                        <a:lnTo>
                          <a:pt x="289" y="236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" name="Group 642"/>
                  <p:cNvGrpSpPr/>
                  <p:nvPr/>
                </p:nvGrpSpPr>
                <p:grpSpPr>
                  <a:xfrm>
                    <a:off x="3430800" y="1640160"/>
                    <a:ext cx="1348560" cy="1236600"/>
                    <a:chOff x="3430800" y="1640160"/>
                    <a:chExt cx="1348560" cy="1236600"/>
                  </a:xfrm>
                </p:grpSpPr>
                <p:sp>
                  <p:nvSpPr>
                    <p:cNvPr id="170" name="Freeform 643"/>
                    <p:cNvSpPr/>
                    <p:nvPr/>
                  </p:nvSpPr>
                  <p:spPr>
                    <a:xfrm rot="1110600">
                      <a:off x="3484440" y="2188440"/>
                      <a:ext cx="112824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2" h="659">
                          <a:moveTo>
                            <a:pt x="451" y="109"/>
                          </a:moveTo>
                          <a:lnTo>
                            <a:pt x="0" y="383"/>
                          </a:lnTo>
                          <a:lnTo>
                            <a:pt x="44" y="659"/>
                          </a:lnTo>
                          <a:lnTo>
                            <a:pt x="317" y="615"/>
                          </a:lnTo>
                          <a:lnTo>
                            <a:pt x="244" y="476"/>
                          </a:lnTo>
                          <a:lnTo>
                            <a:pt x="315" y="405"/>
                          </a:lnTo>
                          <a:lnTo>
                            <a:pt x="370" y="607"/>
                          </a:lnTo>
                          <a:lnTo>
                            <a:pt x="1422" y="436"/>
                          </a:lnTo>
                          <a:lnTo>
                            <a:pt x="1389" y="237"/>
                          </a:lnTo>
                          <a:lnTo>
                            <a:pt x="1080" y="0"/>
                          </a:lnTo>
                          <a:lnTo>
                            <a:pt x="451" y="109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Freeform 644"/>
                    <p:cNvSpPr/>
                    <p:nvPr/>
                  </p:nvSpPr>
                  <p:spPr>
                    <a:xfrm rot="1110600">
                      <a:off x="4524120" y="1901880"/>
                      <a:ext cx="158400" cy="63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799">
                          <a:moveTo>
                            <a:pt x="73" y="0"/>
                          </a:moveTo>
                          <a:lnTo>
                            <a:pt x="202" y="799"/>
                          </a:lnTo>
                          <a:lnTo>
                            <a:pt x="102" y="719"/>
                          </a:lnTo>
                          <a:lnTo>
                            <a:pt x="0" y="59"/>
                          </a:lnTo>
                          <a:lnTo>
                            <a:pt x="73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Freeform 645"/>
                    <p:cNvSpPr/>
                    <p:nvPr/>
                  </p:nvSpPr>
                  <p:spPr>
                    <a:xfrm rot="1110600">
                      <a:off x="4538880" y="1986480"/>
                      <a:ext cx="60120" cy="10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138">
                          <a:moveTo>
                            <a:pt x="0" y="10"/>
                          </a:moveTo>
                          <a:lnTo>
                            <a:pt x="57" y="0"/>
                          </a:lnTo>
                          <a:lnTo>
                            <a:pt x="76" y="130"/>
                          </a:lnTo>
                          <a:lnTo>
                            <a:pt x="19" y="138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Freeform 646"/>
                    <p:cNvSpPr/>
                    <p:nvPr/>
                  </p:nvSpPr>
                  <p:spPr>
                    <a:xfrm rot="1110600">
                      <a:off x="4424760" y="1875960"/>
                      <a:ext cx="139320" cy="28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360">
                          <a:moveTo>
                            <a:pt x="143" y="104"/>
                          </a:moveTo>
                          <a:lnTo>
                            <a:pt x="129" y="0"/>
                          </a:lnTo>
                          <a:lnTo>
                            <a:pt x="0" y="162"/>
                          </a:lnTo>
                          <a:lnTo>
                            <a:pt x="14" y="247"/>
                          </a:lnTo>
                          <a:lnTo>
                            <a:pt x="176" y="360"/>
                          </a:lnTo>
                          <a:lnTo>
                            <a:pt x="160" y="247"/>
                          </a:lnTo>
                          <a:lnTo>
                            <a:pt x="64" y="195"/>
                          </a:lnTo>
                          <a:lnTo>
                            <a:pt x="143" y="10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Freeform 647"/>
                    <p:cNvSpPr/>
                    <p:nvPr/>
                  </p:nvSpPr>
                  <p:spPr>
                    <a:xfrm rot="1110600">
                      <a:off x="3891960" y="1728720"/>
                      <a:ext cx="590040" cy="19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3" h="248">
                          <a:moveTo>
                            <a:pt x="0" y="110"/>
                          </a:moveTo>
                          <a:lnTo>
                            <a:pt x="743" y="0"/>
                          </a:lnTo>
                          <a:lnTo>
                            <a:pt x="641" y="167"/>
                          </a:lnTo>
                          <a:lnTo>
                            <a:pt x="649" y="225"/>
                          </a:lnTo>
                          <a:lnTo>
                            <a:pt x="509" y="248"/>
                          </a:lnTo>
                          <a:lnTo>
                            <a:pt x="310" y="207"/>
                          </a:lnTo>
                          <a:lnTo>
                            <a:pt x="133" y="234"/>
                          </a:lnTo>
                          <a:lnTo>
                            <a:pt x="0" y="11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Freeform 648"/>
                    <p:cNvSpPr/>
                    <p:nvPr/>
                  </p:nvSpPr>
                  <p:spPr>
                    <a:xfrm rot="1110600">
                      <a:off x="3865320" y="1906560"/>
                      <a:ext cx="626400" cy="43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9" h="553">
                          <a:moveTo>
                            <a:pt x="55" y="30"/>
                          </a:moveTo>
                          <a:lnTo>
                            <a:pt x="83" y="173"/>
                          </a:lnTo>
                          <a:lnTo>
                            <a:pt x="33" y="241"/>
                          </a:lnTo>
                          <a:lnTo>
                            <a:pt x="39" y="276"/>
                          </a:lnTo>
                          <a:lnTo>
                            <a:pt x="73" y="270"/>
                          </a:lnTo>
                          <a:lnTo>
                            <a:pt x="100" y="290"/>
                          </a:lnTo>
                          <a:lnTo>
                            <a:pt x="130" y="316"/>
                          </a:lnTo>
                          <a:lnTo>
                            <a:pt x="115" y="330"/>
                          </a:lnTo>
                          <a:lnTo>
                            <a:pt x="131" y="411"/>
                          </a:lnTo>
                          <a:lnTo>
                            <a:pt x="115" y="460"/>
                          </a:lnTo>
                          <a:lnTo>
                            <a:pt x="67" y="467"/>
                          </a:lnTo>
                          <a:lnTo>
                            <a:pt x="64" y="433"/>
                          </a:lnTo>
                          <a:lnTo>
                            <a:pt x="28" y="435"/>
                          </a:lnTo>
                          <a:lnTo>
                            <a:pt x="0" y="491"/>
                          </a:lnTo>
                          <a:lnTo>
                            <a:pt x="81" y="553"/>
                          </a:lnTo>
                          <a:lnTo>
                            <a:pt x="189" y="533"/>
                          </a:lnTo>
                          <a:lnTo>
                            <a:pt x="240" y="489"/>
                          </a:lnTo>
                          <a:lnTo>
                            <a:pt x="345" y="472"/>
                          </a:lnTo>
                          <a:lnTo>
                            <a:pt x="342" y="447"/>
                          </a:lnTo>
                          <a:lnTo>
                            <a:pt x="789" y="377"/>
                          </a:lnTo>
                          <a:lnTo>
                            <a:pt x="784" y="340"/>
                          </a:lnTo>
                          <a:lnTo>
                            <a:pt x="737" y="349"/>
                          </a:lnTo>
                          <a:lnTo>
                            <a:pt x="720" y="231"/>
                          </a:lnTo>
                          <a:lnTo>
                            <a:pt x="604" y="125"/>
                          </a:lnTo>
                          <a:lnTo>
                            <a:pt x="569" y="20"/>
                          </a:lnTo>
                          <a:lnTo>
                            <a:pt x="431" y="41"/>
                          </a:lnTo>
                          <a:lnTo>
                            <a:pt x="230" y="0"/>
                          </a:lnTo>
                          <a:lnTo>
                            <a:pt x="55" y="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Freeform 649"/>
                    <p:cNvSpPr/>
                    <p:nvPr/>
                  </p:nvSpPr>
                  <p:spPr>
                    <a:xfrm rot="1110600">
                      <a:off x="3494520" y="2288880"/>
                      <a:ext cx="232920" cy="254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6" h="320">
                          <a:moveTo>
                            <a:pt x="233" y="0"/>
                          </a:moveTo>
                          <a:lnTo>
                            <a:pt x="0" y="201"/>
                          </a:lnTo>
                          <a:lnTo>
                            <a:pt x="17" y="320"/>
                          </a:lnTo>
                          <a:lnTo>
                            <a:pt x="296" y="59"/>
                          </a:lnTo>
                          <a:lnTo>
                            <a:pt x="233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Freeform 650"/>
                    <p:cNvSpPr/>
                    <p:nvPr/>
                  </p:nvSpPr>
                  <p:spPr>
                    <a:xfrm rot="1110600">
                      <a:off x="3507480" y="2457720"/>
                      <a:ext cx="12204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115">
                          <a:moveTo>
                            <a:pt x="0" y="61"/>
                          </a:moveTo>
                          <a:lnTo>
                            <a:pt x="65" y="0"/>
                          </a:lnTo>
                          <a:lnTo>
                            <a:pt x="154" y="95"/>
                          </a:lnTo>
                          <a:lnTo>
                            <a:pt x="51" y="115"/>
                          </a:lnTo>
                          <a:lnTo>
                            <a:pt x="0" y="6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Freeform 651"/>
                    <p:cNvSpPr/>
                    <p:nvPr/>
                  </p:nvSpPr>
                  <p:spPr>
                    <a:xfrm rot="1110600">
                      <a:off x="3647160" y="2276640"/>
                      <a:ext cx="226800" cy="28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361">
                          <a:moveTo>
                            <a:pt x="0" y="32"/>
                          </a:moveTo>
                          <a:lnTo>
                            <a:pt x="146" y="154"/>
                          </a:lnTo>
                          <a:lnTo>
                            <a:pt x="236" y="361"/>
                          </a:lnTo>
                          <a:lnTo>
                            <a:pt x="286" y="355"/>
                          </a:lnTo>
                          <a:lnTo>
                            <a:pt x="196" y="122"/>
                          </a:lnTo>
                          <a:lnTo>
                            <a:pt x="57" y="0"/>
                          </a:lnTo>
                          <a:lnTo>
                            <a:pt x="0" y="32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Freeform 652"/>
                    <p:cNvSpPr/>
                    <p:nvPr/>
                  </p:nvSpPr>
                  <p:spPr>
                    <a:xfrm rot="1110600">
                      <a:off x="4341600" y="2454840"/>
                      <a:ext cx="17604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2" h="280">
                          <a:moveTo>
                            <a:pt x="0" y="39"/>
                          </a:moveTo>
                          <a:lnTo>
                            <a:pt x="29" y="0"/>
                          </a:lnTo>
                          <a:lnTo>
                            <a:pt x="203" y="141"/>
                          </a:lnTo>
                          <a:lnTo>
                            <a:pt x="222" y="270"/>
                          </a:lnTo>
                          <a:lnTo>
                            <a:pt x="179" y="280"/>
                          </a:lnTo>
                          <a:lnTo>
                            <a:pt x="160" y="165"/>
                          </a:lnTo>
                          <a:lnTo>
                            <a:pt x="0" y="39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Freeform 653"/>
                    <p:cNvSpPr/>
                    <p:nvPr/>
                  </p:nvSpPr>
                  <p:spPr>
                    <a:xfrm rot="1110600">
                      <a:off x="4290120" y="2502360"/>
                      <a:ext cx="1314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13">
                          <a:moveTo>
                            <a:pt x="25" y="0"/>
                          </a:moveTo>
                          <a:lnTo>
                            <a:pt x="149" y="100"/>
                          </a:lnTo>
                          <a:lnTo>
                            <a:pt x="166" y="202"/>
                          </a:lnTo>
                          <a:lnTo>
                            <a:pt x="116" y="213"/>
                          </a:lnTo>
                          <a:lnTo>
                            <a:pt x="97" y="110"/>
                          </a:lnTo>
                          <a:lnTo>
                            <a:pt x="0" y="36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Freeform 654"/>
                    <p:cNvSpPr/>
                    <p:nvPr/>
                  </p:nvSpPr>
                  <p:spPr>
                    <a:xfrm rot="1110600">
                      <a:off x="3920760" y="2462760"/>
                      <a:ext cx="21060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7" h="220">
                          <a:moveTo>
                            <a:pt x="0" y="220"/>
                          </a:moveTo>
                          <a:lnTo>
                            <a:pt x="15" y="99"/>
                          </a:lnTo>
                          <a:lnTo>
                            <a:pt x="70" y="30"/>
                          </a:lnTo>
                          <a:lnTo>
                            <a:pt x="267" y="0"/>
                          </a:lnTo>
                          <a:lnTo>
                            <a:pt x="245" y="135"/>
                          </a:lnTo>
                          <a:lnTo>
                            <a:pt x="246" y="180"/>
                          </a:lnTo>
                          <a:lnTo>
                            <a:pt x="0" y="22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Freeform 655"/>
                    <p:cNvSpPr/>
                    <p:nvPr/>
                  </p:nvSpPr>
                  <p:spPr>
                    <a:xfrm rot="1110600">
                      <a:off x="3908520" y="2419920"/>
                      <a:ext cx="29340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0" h="275">
                          <a:moveTo>
                            <a:pt x="21" y="275"/>
                          </a:moveTo>
                          <a:lnTo>
                            <a:pt x="0" y="137"/>
                          </a:lnTo>
                          <a:lnTo>
                            <a:pt x="63" y="51"/>
                          </a:lnTo>
                          <a:lnTo>
                            <a:pt x="370" y="0"/>
                          </a:lnTo>
                          <a:lnTo>
                            <a:pt x="328" y="122"/>
                          </a:lnTo>
                          <a:lnTo>
                            <a:pt x="316" y="233"/>
                          </a:lnTo>
                          <a:lnTo>
                            <a:pt x="269" y="240"/>
                          </a:lnTo>
                          <a:lnTo>
                            <a:pt x="270" y="195"/>
                          </a:lnTo>
                          <a:lnTo>
                            <a:pt x="289" y="61"/>
                          </a:lnTo>
                          <a:lnTo>
                            <a:pt x="94" y="93"/>
                          </a:lnTo>
                          <a:lnTo>
                            <a:pt x="34" y="162"/>
                          </a:lnTo>
                          <a:lnTo>
                            <a:pt x="21" y="275"/>
                          </a:lnTo>
                          <a:close/>
                        </a:path>
                      </a:pathLst>
                    </a:custGeom>
                    <a:solidFill>
                      <a:srgbClr val="fafd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Freeform 656"/>
                    <p:cNvSpPr/>
                    <p:nvPr/>
                  </p:nvSpPr>
                  <p:spPr>
                    <a:xfrm rot="1110600">
                      <a:off x="3905640" y="2360160"/>
                      <a:ext cx="39780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2" h="379">
                          <a:moveTo>
                            <a:pt x="400" y="315"/>
                          </a:moveTo>
                          <a:lnTo>
                            <a:pt x="429" y="132"/>
                          </a:lnTo>
                          <a:lnTo>
                            <a:pt x="502" y="0"/>
                          </a:lnTo>
                          <a:lnTo>
                            <a:pt x="114" y="63"/>
                          </a:lnTo>
                          <a:lnTo>
                            <a:pt x="0" y="177"/>
                          </a:lnTo>
                          <a:lnTo>
                            <a:pt x="31" y="379"/>
                          </a:lnTo>
                          <a:lnTo>
                            <a:pt x="8" y="225"/>
                          </a:lnTo>
                          <a:lnTo>
                            <a:pt x="80" y="143"/>
                          </a:lnTo>
                          <a:lnTo>
                            <a:pt x="384" y="95"/>
                          </a:lnTo>
                          <a:lnTo>
                            <a:pt x="343" y="221"/>
                          </a:lnTo>
                          <a:lnTo>
                            <a:pt x="331" y="327"/>
                          </a:lnTo>
                          <a:lnTo>
                            <a:pt x="400" y="31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Freeform 657"/>
                    <p:cNvSpPr/>
                    <p:nvPr/>
                  </p:nvSpPr>
                  <p:spPr>
                    <a:xfrm rot="1110600">
                      <a:off x="3913200" y="2324520"/>
                      <a:ext cx="48060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5" h="380">
                          <a:moveTo>
                            <a:pt x="6" y="241"/>
                          </a:moveTo>
                          <a:lnTo>
                            <a:pt x="0" y="204"/>
                          </a:lnTo>
                          <a:lnTo>
                            <a:pt x="124" y="74"/>
                          </a:lnTo>
                          <a:lnTo>
                            <a:pt x="605" y="0"/>
                          </a:lnTo>
                          <a:lnTo>
                            <a:pt x="493" y="189"/>
                          </a:lnTo>
                          <a:lnTo>
                            <a:pt x="466" y="373"/>
                          </a:lnTo>
                          <a:lnTo>
                            <a:pt x="408" y="380"/>
                          </a:lnTo>
                          <a:lnTo>
                            <a:pt x="434" y="198"/>
                          </a:lnTo>
                          <a:lnTo>
                            <a:pt x="511" y="62"/>
                          </a:lnTo>
                          <a:lnTo>
                            <a:pt x="121" y="125"/>
                          </a:lnTo>
                          <a:lnTo>
                            <a:pt x="6" y="24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Freeform 658"/>
                    <p:cNvSpPr/>
                    <p:nvPr/>
                  </p:nvSpPr>
                  <p:spPr>
                    <a:xfrm rot="1110600">
                      <a:off x="4082040" y="2239200"/>
                      <a:ext cx="12348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45">
                          <a:moveTo>
                            <a:pt x="0" y="12"/>
                          </a:moveTo>
                          <a:lnTo>
                            <a:pt x="12" y="85"/>
                          </a:lnTo>
                          <a:lnTo>
                            <a:pt x="144" y="65"/>
                          </a:lnTo>
                          <a:lnTo>
                            <a:pt x="155" y="134"/>
                          </a:lnTo>
                          <a:lnTo>
                            <a:pt x="90" y="145"/>
                          </a:lnTo>
                          <a:lnTo>
                            <a:pt x="69" y="0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Freeform 659"/>
                    <p:cNvSpPr/>
                    <p:nvPr/>
                  </p:nvSpPr>
                  <p:spPr>
                    <a:xfrm rot="1110600">
                      <a:off x="4137480" y="2251080"/>
                      <a:ext cx="123480" cy="11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42">
                          <a:moveTo>
                            <a:pt x="0" y="11"/>
                          </a:moveTo>
                          <a:lnTo>
                            <a:pt x="11" y="83"/>
                          </a:lnTo>
                          <a:lnTo>
                            <a:pt x="147" y="63"/>
                          </a:lnTo>
                          <a:lnTo>
                            <a:pt x="155" y="133"/>
                          </a:lnTo>
                          <a:lnTo>
                            <a:pt x="92" y="142"/>
                          </a:lnTo>
                          <a:lnTo>
                            <a:pt x="70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Freeform 660"/>
                    <p:cNvSpPr/>
                    <p:nvPr/>
                  </p:nvSpPr>
                  <p:spPr>
                    <a:xfrm rot="1110600">
                      <a:off x="4191480" y="2257200"/>
                      <a:ext cx="12204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145">
                          <a:moveTo>
                            <a:pt x="0" y="11"/>
                          </a:moveTo>
                          <a:lnTo>
                            <a:pt x="11" y="85"/>
                          </a:lnTo>
                          <a:lnTo>
                            <a:pt x="145" y="63"/>
                          </a:lnTo>
                          <a:lnTo>
                            <a:pt x="153" y="134"/>
                          </a:lnTo>
                          <a:lnTo>
                            <a:pt x="89" y="145"/>
                          </a:lnTo>
                          <a:lnTo>
                            <a:pt x="67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Freeform 661"/>
                    <p:cNvSpPr/>
                    <p:nvPr/>
                  </p:nvSpPr>
                  <p:spPr>
                    <a:xfrm rot="1110600">
                      <a:off x="4249080" y="2264760"/>
                      <a:ext cx="12204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147">
                          <a:moveTo>
                            <a:pt x="0" y="14"/>
                          </a:moveTo>
                          <a:lnTo>
                            <a:pt x="11" y="87"/>
                          </a:lnTo>
                          <a:lnTo>
                            <a:pt x="144" y="66"/>
                          </a:lnTo>
                          <a:lnTo>
                            <a:pt x="154" y="136"/>
                          </a:lnTo>
                          <a:lnTo>
                            <a:pt x="89" y="147"/>
                          </a:lnTo>
                          <a:lnTo>
                            <a:pt x="67" y="0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Freeform 662"/>
                    <p:cNvSpPr/>
                    <p:nvPr/>
                  </p:nvSpPr>
                  <p:spPr>
                    <a:xfrm rot="1110600">
                      <a:off x="4305600" y="2277000"/>
                      <a:ext cx="1216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44">
                          <a:moveTo>
                            <a:pt x="0" y="10"/>
                          </a:moveTo>
                          <a:lnTo>
                            <a:pt x="14" y="84"/>
                          </a:lnTo>
                          <a:lnTo>
                            <a:pt x="145" y="65"/>
                          </a:lnTo>
                          <a:lnTo>
                            <a:pt x="156" y="133"/>
                          </a:lnTo>
                          <a:lnTo>
                            <a:pt x="92" y="144"/>
                          </a:lnTo>
                          <a:lnTo>
                            <a:pt x="70" y="0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Freeform 663"/>
                    <p:cNvSpPr/>
                    <p:nvPr/>
                  </p:nvSpPr>
                  <p:spPr>
                    <a:xfrm rot="1110600">
                      <a:off x="4357440" y="2286000"/>
                      <a:ext cx="12204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44">
                          <a:moveTo>
                            <a:pt x="0" y="10"/>
                          </a:moveTo>
                          <a:lnTo>
                            <a:pt x="11" y="84"/>
                          </a:lnTo>
                          <a:lnTo>
                            <a:pt x="145" y="64"/>
                          </a:lnTo>
                          <a:lnTo>
                            <a:pt x="156" y="134"/>
                          </a:lnTo>
                          <a:lnTo>
                            <a:pt x="92" y="144"/>
                          </a:lnTo>
                          <a:lnTo>
                            <a:pt x="70" y="0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Freeform 664"/>
                    <p:cNvSpPr/>
                    <p:nvPr/>
                  </p:nvSpPr>
                  <p:spPr>
                    <a:xfrm rot="1110600">
                      <a:off x="4408560" y="2293560"/>
                      <a:ext cx="12348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45">
                          <a:moveTo>
                            <a:pt x="0" y="12"/>
                          </a:moveTo>
                          <a:lnTo>
                            <a:pt x="11" y="85"/>
                          </a:lnTo>
                          <a:lnTo>
                            <a:pt x="144" y="65"/>
                          </a:lnTo>
                          <a:lnTo>
                            <a:pt x="155" y="134"/>
                          </a:lnTo>
                          <a:lnTo>
                            <a:pt x="89" y="145"/>
                          </a:lnTo>
                          <a:lnTo>
                            <a:pt x="70" y="0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Freeform 665"/>
                    <p:cNvSpPr/>
                    <p:nvPr/>
                  </p:nvSpPr>
                  <p:spPr>
                    <a:xfrm rot="1110600">
                      <a:off x="3736440" y="2240280"/>
                      <a:ext cx="214200" cy="34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430">
                          <a:moveTo>
                            <a:pt x="0" y="42"/>
                          </a:moveTo>
                          <a:lnTo>
                            <a:pt x="140" y="167"/>
                          </a:lnTo>
                          <a:lnTo>
                            <a:pt x="224" y="430"/>
                          </a:lnTo>
                          <a:lnTo>
                            <a:pt x="271" y="417"/>
                          </a:lnTo>
                          <a:lnTo>
                            <a:pt x="216" y="149"/>
                          </a:lnTo>
                          <a:lnTo>
                            <a:pt x="77" y="0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Freeform 666"/>
                    <p:cNvSpPr/>
                    <p:nvPr/>
                  </p:nvSpPr>
                  <p:spPr>
                    <a:xfrm rot="1110600">
                      <a:off x="3941640" y="1839960"/>
                      <a:ext cx="44892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6" h="69">
                          <a:moveTo>
                            <a:pt x="0" y="36"/>
                          </a:moveTo>
                          <a:lnTo>
                            <a:pt x="250" y="0"/>
                          </a:lnTo>
                          <a:lnTo>
                            <a:pt x="430" y="40"/>
                          </a:lnTo>
                          <a:lnTo>
                            <a:pt x="559" y="20"/>
                          </a:lnTo>
                          <a:lnTo>
                            <a:pt x="566" y="49"/>
                          </a:lnTo>
                          <a:lnTo>
                            <a:pt x="436" y="69"/>
                          </a:lnTo>
                          <a:lnTo>
                            <a:pt x="248" y="27"/>
                          </a:lnTo>
                          <a:lnTo>
                            <a:pt x="28" y="61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Freeform 667"/>
                    <p:cNvSpPr/>
                    <p:nvPr/>
                  </p:nvSpPr>
                  <p:spPr>
                    <a:xfrm rot="1110600">
                      <a:off x="4290840" y="1986120"/>
                      <a:ext cx="155160" cy="28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363">
                          <a:moveTo>
                            <a:pt x="37" y="0"/>
                          </a:moveTo>
                          <a:lnTo>
                            <a:pt x="58" y="118"/>
                          </a:lnTo>
                          <a:lnTo>
                            <a:pt x="180" y="229"/>
                          </a:lnTo>
                          <a:lnTo>
                            <a:pt x="197" y="350"/>
                          </a:lnTo>
                          <a:lnTo>
                            <a:pt x="164" y="363"/>
                          </a:lnTo>
                          <a:lnTo>
                            <a:pt x="147" y="239"/>
                          </a:lnTo>
                          <a:lnTo>
                            <a:pt x="22" y="124"/>
                          </a:lnTo>
                          <a:lnTo>
                            <a:pt x="0" y="8"/>
                          </a:lnTo>
                          <a:lnTo>
                            <a:pt x="3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Freeform 668"/>
                    <p:cNvSpPr/>
                    <p:nvPr/>
                  </p:nvSpPr>
                  <p:spPr>
                    <a:xfrm rot="1110600">
                      <a:off x="4227840" y="1974960"/>
                      <a:ext cx="15372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364">
                          <a:moveTo>
                            <a:pt x="41" y="0"/>
                          </a:moveTo>
                          <a:lnTo>
                            <a:pt x="59" y="124"/>
                          </a:lnTo>
                          <a:lnTo>
                            <a:pt x="177" y="237"/>
                          </a:lnTo>
                          <a:lnTo>
                            <a:pt x="194" y="352"/>
                          </a:lnTo>
                          <a:lnTo>
                            <a:pt x="149" y="364"/>
                          </a:lnTo>
                          <a:lnTo>
                            <a:pt x="136" y="244"/>
                          </a:lnTo>
                          <a:lnTo>
                            <a:pt x="19" y="131"/>
                          </a:lnTo>
                          <a:lnTo>
                            <a:pt x="0" y="2"/>
                          </a:lnTo>
                          <a:lnTo>
                            <a:pt x="4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Freeform 669"/>
                    <p:cNvSpPr/>
                    <p:nvPr/>
                  </p:nvSpPr>
                  <p:spPr>
                    <a:xfrm rot="1110600">
                      <a:off x="4159800" y="1946520"/>
                      <a:ext cx="15660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" h="380">
                          <a:moveTo>
                            <a:pt x="44" y="13"/>
                          </a:moveTo>
                          <a:lnTo>
                            <a:pt x="60" y="142"/>
                          </a:lnTo>
                          <a:lnTo>
                            <a:pt x="179" y="264"/>
                          </a:lnTo>
                          <a:lnTo>
                            <a:pt x="196" y="378"/>
                          </a:lnTo>
                          <a:lnTo>
                            <a:pt x="160" y="380"/>
                          </a:lnTo>
                          <a:lnTo>
                            <a:pt x="145" y="274"/>
                          </a:lnTo>
                          <a:lnTo>
                            <a:pt x="21" y="148"/>
                          </a:lnTo>
                          <a:lnTo>
                            <a:pt x="0" y="0"/>
                          </a:lnTo>
                          <a:lnTo>
                            <a:pt x="44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Freeform 670"/>
                    <p:cNvSpPr/>
                    <p:nvPr/>
                  </p:nvSpPr>
                  <p:spPr>
                    <a:xfrm rot="1110600">
                      <a:off x="3942000" y="2041200"/>
                      <a:ext cx="12204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36">
                          <a:moveTo>
                            <a:pt x="0" y="44"/>
                          </a:moveTo>
                          <a:lnTo>
                            <a:pt x="113" y="92"/>
                          </a:lnTo>
                          <a:lnTo>
                            <a:pt x="143" y="64"/>
                          </a:lnTo>
                          <a:lnTo>
                            <a:pt x="156" y="0"/>
                          </a:lnTo>
                          <a:lnTo>
                            <a:pt x="120" y="51"/>
                          </a:lnTo>
                          <a:lnTo>
                            <a:pt x="63" y="130"/>
                          </a:lnTo>
                          <a:lnTo>
                            <a:pt x="24" y="136"/>
                          </a:lnTo>
                          <a:lnTo>
                            <a:pt x="53" y="92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Freeform 671"/>
                    <p:cNvSpPr/>
                    <p:nvPr/>
                  </p:nvSpPr>
                  <p:spPr>
                    <a:xfrm rot="1110600">
                      <a:off x="4095720" y="1913040"/>
                      <a:ext cx="161640" cy="33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418">
                          <a:moveTo>
                            <a:pt x="39" y="10"/>
                          </a:moveTo>
                          <a:lnTo>
                            <a:pt x="63" y="174"/>
                          </a:lnTo>
                          <a:lnTo>
                            <a:pt x="187" y="295"/>
                          </a:lnTo>
                          <a:lnTo>
                            <a:pt x="204" y="408"/>
                          </a:lnTo>
                          <a:lnTo>
                            <a:pt x="170" y="418"/>
                          </a:lnTo>
                          <a:lnTo>
                            <a:pt x="153" y="308"/>
                          </a:lnTo>
                          <a:lnTo>
                            <a:pt x="30" y="186"/>
                          </a:lnTo>
                          <a:lnTo>
                            <a:pt x="0" y="0"/>
                          </a:lnTo>
                          <a:lnTo>
                            <a:pt x="39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Freeform 672"/>
                    <p:cNvSpPr/>
                    <p:nvPr/>
                  </p:nvSpPr>
                  <p:spPr>
                    <a:xfrm rot="1110600">
                      <a:off x="3982320" y="1934280"/>
                      <a:ext cx="8064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67">
                          <a:moveTo>
                            <a:pt x="0" y="0"/>
                          </a:moveTo>
                          <a:lnTo>
                            <a:pt x="100" y="52"/>
                          </a:lnTo>
                          <a:lnTo>
                            <a:pt x="0" y="67"/>
                          </a:lnTo>
                          <a:lnTo>
                            <a:pt x="31" y="4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00" name="Group 673"/>
                <p:cNvGrpSpPr/>
                <p:nvPr/>
              </p:nvGrpSpPr>
              <p:grpSpPr>
                <a:xfrm>
                  <a:off x="3239280" y="2358720"/>
                  <a:ext cx="1348920" cy="1252080"/>
                  <a:chOff x="3239280" y="2358720"/>
                  <a:chExt cx="1348920" cy="1252080"/>
                </a:xfrm>
              </p:grpSpPr>
              <p:grpSp>
                <p:nvGrpSpPr>
                  <p:cNvPr id="201" name="Group 674"/>
                  <p:cNvGrpSpPr/>
                  <p:nvPr/>
                </p:nvGrpSpPr>
                <p:grpSpPr>
                  <a:xfrm>
                    <a:off x="3239280" y="2358720"/>
                    <a:ext cx="1348920" cy="1252080"/>
                    <a:chOff x="3239280" y="2358720"/>
                    <a:chExt cx="1348920" cy="1252080"/>
                  </a:xfrm>
                </p:grpSpPr>
                <p:sp>
                  <p:nvSpPr>
                    <p:cNvPr id="202" name="Freeform 675"/>
                    <p:cNvSpPr/>
                    <p:nvPr/>
                  </p:nvSpPr>
                  <p:spPr>
                    <a:xfrm rot="1110600">
                      <a:off x="3407400" y="2523960"/>
                      <a:ext cx="11268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0" h="658">
                          <a:moveTo>
                            <a:pt x="971" y="549"/>
                          </a:moveTo>
                          <a:lnTo>
                            <a:pt x="1420" y="276"/>
                          </a:lnTo>
                          <a:lnTo>
                            <a:pt x="1376" y="0"/>
                          </a:lnTo>
                          <a:lnTo>
                            <a:pt x="1104" y="44"/>
                          </a:lnTo>
                          <a:lnTo>
                            <a:pt x="1177" y="183"/>
                          </a:lnTo>
                          <a:lnTo>
                            <a:pt x="1105" y="254"/>
                          </a:lnTo>
                          <a:lnTo>
                            <a:pt x="1051" y="51"/>
                          </a:lnTo>
                          <a:lnTo>
                            <a:pt x="0" y="222"/>
                          </a:lnTo>
                          <a:lnTo>
                            <a:pt x="33" y="421"/>
                          </a:lnTo>
                          <a:lnTo>
                            <a:pt x="342" y="658"/>
                          </a:lnTo>
                          <a:lnTo>
                            <a:pt x="971" y="549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Freeform 676"/>
                    <p:cNvSpPr/>
                    <p:nvPr/>
                  </p:nvSpPr>
                  <p:spPr>
                    <a:xfrm rot="1110600">
                      <a:off x="3335040" y="2701080"/>
                      <a:ext cx="159840" cy="63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795">
                          <a:moveTo>
                            <a:pt x="128" y="795"/>
                          </a:moveTo>
                          <a:lnTo>
                            <a:pt x="0" y="0"/>
                          </a:lnTo>
                          <a:lnTo>
                            <a:pt x="100" y="77"/>
                          </a:lnTo>
                          <a:lnTo>
                            <a:pt x="200" y="736"/>
                          </a:lnTo>
                          <a:lnTo>
                            <a:pt x="128" y="795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Freeform 677"/>
                    <p:cNvSpPr/>
                    <p:nvPr/>
                  </p:nvSpPr>
                  <p:spPr>
                    <a:xfrm rot="1110600">
                      <a:off x="3419280" y="3138120"/>
                      <a:ext cx="59760" cy="10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138">
                          <a:moveTo>
                            <a:pt x="76" y="128"/>
                          </a:moveTo>
                          <a:lnTo>
                            <a:pt x="20" y="138"/>
                          </a:lnTo>
                          <a:lnTo>
                            <a:pt x="0" y="9"/>
                          </a:lnTo>
                          <a:lnTo>
                            <a:pt x="58" y="0"/>
                          </a:lnTo>
                          <a:lnTo>
                            <a:pt x="76" y="128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Freeform 678"/>
                    <p:cNvSpPr/>
                    <p:nvPr/>
                  </p:nvSpPr>
                  <p:spPr>
                    <a:xfrm rot="1110600">
                      <a:off x="3455640" y="3072960"/>
                      <a:ext cx="137520" cy="28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" h="360">
                          <a:moveTo>
                            <a:pt x="33" y="257"/>
                          </a:moveTo>
                          <a:lnTo>
                            <a:pt x="48" y="360"/>
                          </a:lnTo>
                          <a:lnTo>
                            <a:pt x="175" y="198"/>
                          </a:lnTo>
                          <a:lnTo>
                            <a:pt x="162" y="114"/>
                          </a:lnTo>
                          <a:lnTo>
                            <a:pt x="0" y="0"/>
                          </a:lnTo>
                          <a:lnTo>
                            <a:pt x="16" y="114"/>
                          </a:lnTo>
                          <a:lnTo>
                            <a:pt x="113" y="165"/>
                          </a:lnTo>
                          <a:lnTo>
                            <a:pt x="33" y="257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Freeform 679"/>
                    <p:cNvSpPr/>
                    <p:nvPr/>
                  </p:nvSpPr>
                  <p:spPr>
                    <a:xfrm rot="1110600">
                      <a:off x="3515040" y="3308400"/>
                      <a:ext cx="628200" cy="20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1" h="262">
                          <a:moveTo>
                            <a:pt x="791" y="158"/>
                          </a:moveTo>
                          <a:lnTo>
                            <a:pt x="0" y="262"/>
                          </a:lnTo>
                          <a:lnTo>
                            <a:pt x="127" y="81"/>
                          </a:lnTo>
                          <a:lnTo>
                            <a:pt x="118" y="23"/>
                          </a:lnTo>
                          <a:lnTo>
                            <a:pt x="257" y="0"/>
                          </a:lnTo>
                          <a:lnTo>
                            <a:pt x="456" y="40"/>
                          </a:lnTo>
                          <a:lnTo>
                            <a:pt x="634" y="13"/>
                          </a:lnTo>
                          <a:lnTo>
                            <a:pt x="791" y="158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Freeform 680"/>
                    <p:cNvSpPr/>
                    <p:nvPr/>
                  </p:nvSpPr>
                  <p:spPr>
                    <a:xfrm rot="1110600">
                      <a:off x="3528000" y="2890080"/>
                      <a:ext cx="626400" cy="43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9" h="552">
                          <a:moveTo>
                            <a:pt x="734" y="523"/>
                          </a:moveTo>
                          <a:lnTo>
                            <a:pt x="706" y="380"/>
                          </a:lnTo>
                          <a:lnTo>
                            <a:pt x="756" y="311"/>
                          </a:lnTo>
                          <a:lnTo>
                            <a:pt x="750" y="276"/>
                          </a:lnTo>
                          <a:lnTo>
                            <a:pt x="716" y="282"/>
                          </a:lnTo>
                          <a:lnTo>
                            <a:pt x="689" y="262"/>
                          </a:lnTo>
                          <a:lnTo>
                            <a:pt x="660" y="237"/>
                          </a:lnTo>
                          <a:lnTo>
                            <a:pt x="675" y="222"/>
                          </a:lnTo>
                          <a:lnTo>
                            <a:pt x="659" y="141"/>
                          </a:lnTo>
                          <a:lnTo>
                            <a:pt x="675" y="93"/>
                          </a:lnTo>
                          <a:lnTo>
                            <a:pt x="722" y="85"/>
                          </a:lnTo>
                          <a:lnTo>
                            <a:pt x="726" y="120"/>
                          </a:lnTo>
                          <a:lnTo>
                            <a:pt x="761" y="117"/>
                          </a:lnTo>
                          <a:lnTo>
                            <a:pt x="789" y="61"/>
                          </a:lnTo>
                          <a:lnTo>
                            <a:pt x="709" y="0"/>
                          </a:lnTo>
                          <a:lnTo>
                            <a:pt x="600" y="19"/>
                          </a:lnTo>
                          <a:lnTo>
                            <a:pt x="550" y="63"/>
                          </a:lnTo>
                          <a:lnTo>
                            <a:pt x="445" y="80"/>
                          </a:lnTo>
                          <a:lnTo>
                            <a:pt x="447" y="105"/>
                          </a:lnTo>
                          <a:lnTo>
                            <a:pt x="0" y="176"/>
                          </a:lnTo>
                          <a:lnTo>
                            <a:pt x="5" y="212"/>
                          </a:lnTo>
                          <a:lnTo>
                            <a:pt x="53" y="204"/>
                          </a:lnTo>
                          <a:lnTo>
                            <a:pt x="70" y="321"/>
                          </a:lnTo>
                          <a:lnTo>
                            <a:pt x="186" y="427"/>
                          </a:lnTo>
                          <a:lnTo>
                            <a:pt x="220" y="532"/>
                          </a:lnTo>
                          <a:lnTo>
                            <a:pt x="358" y="512"/>
                          </a:lnTo>
                          <a:lnTo>
                            <a:pt x="560" y="552"/>
                          </a:lnTo>
                          <a:lnTo>
                            <a:pt x="734" y="52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Freeform 681"/>
                    <p:cNvSpPr/>
                    <p:nvPr/>
                  </p:nvSpPr>
                  <p:spPr>
                    <a:xfrm rot="1110600">
                      <a:off x="4290480" y="2691360"/>
                      <a:ext cx="234720" cy="25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6" h="320">
                          <a:moveTo>
                            <a:pt x="63" y="320"/>
                          </a:moveTo>
                          <a:lnTo>
                            <a:pt x="296" y="120"/>
                          </a:lnTo>
                          <a:lnTo>
                            <a:pt x="279" y="0"/>
                          </a:lnTo>
                          <a:lnTo>
                            <a:pt x="0" y="261"/>
                          </a:lnTo>
                          <a:lnTo>
                            <a:pt x="63" y="32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Freeform 682"/>
                    <p:cNvSpPr/>
                    <p:nvPr/>
                  </p:nvSpPr>
                  <p:spPr>
                    <a:xfrm rot="1110600">
                      <a:off x="4390560" y="2686320"/>
                      <a:ext cx="12024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115">
                          <a:moveTo>
                            <a:pt x="151" y="54"/>
                          </a:moveTo>
                          <a:lnTo>
                            <a:pt x="88" y="115"/>
                          </a:lnTo>
                          <a:lnTo>
                            <a:pt x="0" y="20"/>
                          </a:lnTo>
                          <a:lnTo>
                            <a:pt x="101" y="0"/>
                          </a:lnTo>
                          <a:lnTo>
                            <a:pt x="151" y="5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Freeform 683"/>
                    <p:cNvSpPr/>
                    <p:nvPr/>
                  </p:nvSpPr>
                  <p:spPr>
                    <a:xfrm rot="1110600">
                      <a:off x="4147920" y="2671200"/>
                      <a:ext cx="225000" cy="28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" h="362">
                          <a:moveTo>
                            <a:pt x="285" y="330"/>
                          </a:moveTo>
                          <a:lnTo>
                            <a:pt x="140" y="208"/>
                          </a:lnTo>
                          <a:lnTo>
                            <a:pt x="51" y="0"/>
                          </a:lnTo>
                          <a:lnTo>
                            <a:pt x="0" y="6"/>
                          </a:lnTo>
                          <a:lnTo>
                            <a:pt x="91" y="239"/>
                          </a:lnTo>
                          <a:lnTo>
                            <a:pt x="229" y="362"/>
                          </a:lnTo>
                          <a:lnTo>
                            <a:pt x="285" y="33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Freeform 684"/>
                    <p:cNvSpPr/>
                    <p:nvPr/>
                  </p:nvSpPr>
                  <p:spPr>
                    <a:xfrm rot="1110600">
                      <a:off x="3502440" y="2557440"/>
                      <a:ext cx="17604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3" h="280">
                          <a:moveTo>
                            <a:pt x="223" y="241"/>
                          </a:moveTo>
                          <a:lnTo>
                            <a:pt x="193" y="280"/>
                          </a:lnTo>
                          <a:lnTo>
                            <a:pt x="20" y="140"/>
                          </a:lnTo>
                          <a:lnTo>
                            <a:pt x="0" y="10"/>
                          </a:lnTo>
                          <a:lnTo>
                            <a:pt x="43" y="0"/>
                          </a:lnTo>
                          <a:lnTo>
                            <a:pt x="63" y="115"/>
                          </a:lnTo>
                          <a:lnTo>
                            <a:pt x="223" y="24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Freeform 685"/>
                    <p:cNvSpPr/>
                    <p:nvPr/>
                  </p:nvSpPr>
                  <p:spPr>
                    <a:xfrm rot="1110600">
                      <a:off x="3596760" y="2563920"/>
                      <a:ext cx="13284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212">
                          <a:moveTo>
                            <a:pt x="142" y="212"/>
                          </a:moveTo>
                          <a:lnTo>
                            <a:pt x="17" y="112"/>
                          </a:lnTo>
                          <a:lnTo>
                            <a:pt x="0" y="11"/>
                          </a:lnTo>
                          <a:lnTo>
                            <a:pt x="50" y="0"/>
                          </a:lnTo>
                          <a:lnTo>
                            <a:pt x="70" y="102"/>
                          </a:lnTo>
                          <a:lnTo>
                            <a:pt x="166" y="177"/>
                          </a:lnTo>
                          <a:lnTo>
                            <a:pt x="142" y="212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Freeform 686"/>
                    <p:cNvSpPr/>
                    <p:nvPr/>
                  </p:nvSpPr>
                  <p:spPr>
                    <a:xfrm rot="1110600">
                      <a:off x="3887640" y="2598840"/>
                      <a:ext cx="21060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5" h="220">
                          <a:moveTo>
                            <a:pt x="265" y="0"/>
                          </a:moveTo>
                          <a:lnTo>
                            <a:pt x="250" y="121"/>
                          </a:lnTo>
                          <a:lnTo>
                            <a:pt x="195" y="191"/>
                          </a:lnTo>
                          <a:lnTo>
                            <a:pt x="0" y="220"/>
                          </a:lnTo>
                          <a:lnTo>
                            <a:pt x="22" y="86"/>
                          </a:lnTo>
                          <a:lnTo>
                            <a:pt x="21" y="40"/>
                          </a:lnTo>
                          <a:lnTo>
                            <a:pt x="26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Freeform 687"/>
                    <p:cNvSpPr/>
                    <p:nvPr/>
                  </p:nvSpPr>
                  <p:spPr>
                    <a:xfrm rot="1110600">
                      <a:off x="3816000" y="2597040"/>
                      <a:ext cx="2948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3" h="275">
                          <a:moveTo>
                            <a:pt x="352" y="0"/>
                          </a:moveTo>
                          <a:lnTo>
                            <a:pt x="373" y="138"/>
                          </a:lnTo>
                          <a:lnTo>
                            <a:pt x="308" y="223"/>
                          </a:lnTo>
                          <a:lnTo>
                            <a:pt x="0" y="275"/>
                          </a:lnTo>
                          <a:lnTo>
                            <a:pt x="42" y="152"/>
                          </a:lnTo>
                          <a:lnTo>
                            <a:pt x="54" y="41"/>
                          </a:lnTo>
                          <a:lnTo>
                            <a:pt x="102" y="34"/>
                          </a:lnTo>
                          <a:lnTo>
                            <a:pt x="101" y="79"/>
                          </a:lnTo>
                          <a:lnTo>
                            <a:pt x="81" y="213"/>
                          </a:lnTo>
                          <a:lnTo>
                            <a:pt x="279" y="182"/>
                          </a:lnTo>
                          <a:lnTo>
                            <a:pt x="339" y="112"/>
                          </a:lnTo>
                          <a:lnTo>
                            <a:pt x="352" y="0"/>
                          </a:lnTo>
                          <a:close/>
                        </a:path>
                      </a:pathLst>
                    </a:custGeom>
                    <a:solidFill>
                      <a:srgbClr val="fafd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Freeform 688"/>
                    <p:cNvSpPr/>
                    <p:nvPr/>
                  </p:nvSpPr>
                  <p:spPr>
                    <a:xfrm rot="1110600">
                      <a:off x="3715920" y="2572920"/>
                      <a:ext cx="39636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1" h="378">
                          <a:moveTo>
                            <a:pt x="103" y="63"/>
                          </a:moveTo>
                          <a:lnTo>
                            <a:pt x="74" y="246"/>
                          </a:lnTo>
                          <a:lnTo>
                            <a:pt x="0" y="378"/>
                          </a:lnTo>
                          <a:lnTo>
                            <a:pt x="389" y="315"/>
                          </a:lnTo>
                          <a:lnTo>
                            <a:pt x="501" y="201"/>
                          </a:lnTo>
                          <a:lnTo>
                            <a:pt x="471" y="0"/>
                          </a:lnTo>
                          <a:lnTo>
                            <a:pt x="494" y="154"/>
                          </a:lnTo>
                          <a:lnTo>
                            <a:pt x="422" y="235"/>
                          </a:lnTo>
                          <a:lnTo>
                            <a:pt x="118" y="284"/>
                          </a:lnTo>
                          <a:lnTo>
                            <a:pt x="159" y="157"/>
                          </a:lnTo>
                          <a:lnTo>
                            <a:pt x="170" y="51"/>
                          </a:lnTo>
                          <a:lnTo>
                            <a:pt x="103" y="6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Freeform 689"/>
                    <p:cNvSpPr/>
                    <p:nvPr/>
                  </p:nvSpPr>
                  <p:spPr>
                    <a:xfrm rot="1110600">
                      <a:off x="3624120" y="2607840"/>
                      <a:ext cx="48096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6" h="380">
                          <a:moveTo>
                            <a:pt x="600" y="138"/>
                          </a:moveTo>
                          <a:lnTo>
                            <a:pt x="606" y="176"/>
                          </a:lnTo>
                          <a:lnTo>
                            <a:pt x="481" y="305"/>
                          </a:lnTo>
                          <a:lnTo>
                            <a:pt x="0" y="380"/>
                          </a:lnTo>
                          <a:lnTo>
                            <a:pt x="112" y="190"/>
                          </a:lnTo>
                          <a:lnTo>
                            <a:pt x="139" y="6"/>
                          </a:lnTo>
                          <a:lnTo>
                            <a:pt x="198" y="0"/>
                          </a:lnTo>
                          <a:lnTo>
                            <a:pt x="171" y="182"/>
                          </a:lnTo>
                          <a:lnTo>
                            <a:pt x="94" y="317"/>
                          </a:lnTo>
                          <a:lnTo>
                            <a:pt x="485" y="254"/>
                          </a:lnTo>
                          <a:lnTo>
                            <a:pt x="600" y="13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Freeform 690"/>
                    <p:cNvSpPr/>
                    <p:nvPr/>
                  </p:nvSpPr>
                  <p:spPr>
                    <a:xfrm rot="1110600">
                      <a:off x="3812760" y="2880720"/>
                      <a:ext cx="12312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45">
                          <a:moveTo>
                            <a:pt x="155" y="133"/>
                          </a:moveTo>
                          <a:lnTo>
                            <a:pt x="143" y="60"/>
                          </a:lnTo>
                          <a:lnTo>
                            <a:pt x="11" y="81"/>
                          </a:lnTo>
                          <a:lnTo>
                            <a:pt x="0" y="11"/>
                          </a:lnTo>
                          <a:lnTo>
                            <a:pt x="64" y="0"/>
                          </a:lnTo>
                          <a:lnTo>
                            <a:pt x="85" y="145"/>
                          </a:lnTo>
                          <a:lnTo>
                            <a:pt x="155" y="13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Freeform 691"/>
                    <p:cNvSpPr/>
                    <p:nvPr/>
                  </p:nvSpPr>
                  <p:spPr>
                    <a:xfrm rot="1110600">
                      <a:off x="3758760" y="2872440"/>
                      <a:ext cx="121680" cy="11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42">
                          <a:moveTo>
                            <a:pt x="155" y="131"/>
                          </a:moveTo>
                          <a:lnTo>
                            <a:pt x="144" y="59"/>
                          </a:lnTo>
                          <a:lnTo>
                            <a:pt x="9" y="80"/>
                          </a:lnTo>
                          <a:lnTo>
                            <a:pt x="0" y="9"/>
                          </a:lnTo>
                          <a:lnTo>
                            <a:pt x="64" y="0"/>
                          </a:lnTo>
                          <a:lnTo>
                            <a:pt x="86" y="142"/>
                          </a:lnTo>
                          <a:lnTo>
                            <a:pt x="155" y="13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Freeform 692"/>
                    <p:cNvSpPr/>
                    <p:nvPr/>
                  </p:nvSpPr>
                  <p:spPr>
                    <a:xfrm rot="1110600">
                      <a:off x="3704760" y="2862720"/>
                      <a:ext cx="12168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145">
                          <a:moveTo>
                            <a:pt x="155" y="134"/>
                          </a:moveTo>
                          <a:lnTo>
                            <a:pt x="144" y="60"/>
                          </a:lnTo>
                          <a:lnTo>
                            <a:pt x="8" y="82"/>
                          </a:lnTo>
                          <a:lnTo>
                            <a:pt x="0" y="11"/>
                          </a:lnTo>
                          <a:lnTo>
                            <a:pt x="65" y="0"/>
                          </a:lnTo>
                          <a:lnTo>
                            <a:pt x="87" y="145"/>
                          </a:lnTo>
                          <a:lnTo>
                            <a:pt x="155" y="13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Freeform 693"/>
                    <p:cNvSpPr/>
                    <p:nvPr/>
                  </p:nvSpPr>
                  <p:spPr>
                    <a:xfrm rot="1110600">
                      <a:off x="3647520" y="2853720"/>
                      <a:ext cx="12348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47">
                          <a:moveTo>
                            <a:pt x="156" y="133"/>
                          </a:moveTo>
                          <a:lnTo>
                            <a:pt x="145" y="60"/>
                          </a:lnTo>
                          <a:lnTo>
                            <a:pt x="10" y="81"/>
                          </a:lnTo>
                          <a:lnTo>
                            <a:pt x="0" y="11"/>
                          </a:lnTo>
                          <a:lnTo>
                            <a:pt x="65" y="0"/>
                          </a:lnTo>
                          <a:lnTo>
                            <a:pt x="88" y="147"/>
                          </a:lnTo>
                          <a:lnTo>
                            <a:pt x="156" y="13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Freeform 694"/>
                    <p:cNvSpPr/>
                    <p:nvPr/>
                  </p:nvSpPr>
                  <p:spPr>
                    <a:xfrm rot="1110600">
                      <a:off x="3590640" y="2843640"/>
                      <a:ext cx="1252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44">
                          <a:moveTo>
                            <a:pt x="156" y="135"/>
                          </a:moveTo>
                          <a:lnTo>
                            <a:pt x="143" y="60"/>
                          </a:lnTo>
                          <a:lnTo>
                            <a:pt x="11" y="80"/>
                          </a:lnTo>
                          <a:lnTo>
                            <a:pt x="0" y="11"/>
                          </a:lnTo>
                          <a:lnTo>
                            <a:pt x="63" y="0"/>
                          </a:lnTo>
                          <a:lnTo>
                            <a:pt x="85" y="144"/>
                          </a:lnTo>
                          <a:lnTo>
                            <a:pt x="156" y="13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Freeform 695"/>
                    <p:cNvSpPr/>
                    <p:nvPr/>
                  </p:nvSpPr>
                  <p:spPr>
                    <a:xfrm rot="1110600">
                      <a:off x="3539880" y="2834640"/>
                      <a:ext cx="1234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44">
                          <a:moveTo>
                            <a:pt x="156" y="134"/>
                          </a:moveTo>
                          <a:lnTo>
                            <a:pt x="145" y="60"/>
                          </a:lnTo>
                          <a:lnTo>
                            <a:pt x="11" y="81"/>
                          </a:lnTo>
                          <a:lnTo>
                            <a:pt x="0" y="10"/>
                          </a:lnTo>
                          <a:lnTo>
                            <a:pt x="64" y="0"/>
                          </a:lnTo>
                          <a:lnTo>
                            <a:pt x="85" y="144"/>
                          </a:lnTo>
                          <a:lnTo>
                            <a:pt x="156" y="13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Freeform 696"/>
                    <p:cNvSpPr/>
                    <p:nvPr/>
                  </p:nvSpPr>
                  <p:spPr>
                    <a:xfrm rot="1110600">
                      <a:off x="3487320" y="2827080"/>
                      <a:ext cx="12312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45">
                          <a:moveTo>
                            <a:pt x="157" y="133"/>
                          </a:moveTo>
                          <a:lnTo>
                            <a:pt x="146" y="60"/>
                          </a:lnTo>
                          <a:lnTo>
                            <a:pt x="11" y="81"/>
                          </a:lnTo>
                          <a:lnTo>
                            <a:pt x="0" y="11"/>
                          </a:lnTo>
                          <a:lnTo>
                            <a:pt x="66" y="0"/>
                          </a:lnTo>
                          <a:lnTo>
                            <a:pt x="86" y="145"/>
                          </a:lnTo>
                          <a:lnTo>
                            <a:pt x="157" y="13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Freeform 697"/>
                    <p:cNvSpPr/>
                    <p:nvPr/>
                  </p:nvSpPr>
                  <p:spPr>
                    <a:xfrm rot="1110600">
                      <a:off x="4067640" y="2652840"/>
                      <a:ext cx="215640" cy="34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430">
                          <a:moveTo>
                            <a:pt x="271" y="387"/>
                          </a:moveTo>
                          <a:lnTo>
                            <a:pt x="132" y="262"/>
                          </a:lnTo>
                          <a:lnTo>
                            <a:pt x="48" y="0"/>
                          </a:lnTo>
                          <a:lnTo>
                            <a:pt x="0" y="12"/>
                          </a:lnTo>
                          <a:lnTo>
                            <a:pt x="55" y="281"/>
                          </a:lnTo>
                          <a:lnTo>
                            <a:pt x="194" y="430"/>
                          </a:lnTo>
                          <a:lnTo>
                            <a:pt x="271" y="387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Freeform 698"/>
                    <p:cNvSpPr/>
                    <p:nvPr/>
                  </p:nvSpPr>
                  <p:spPr>
                    <a:xfrm rot="1110600">
                      <a:off x="3630600" y="3341160"/>
                      <a:ext cx="4474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4" h="68">
                          <a:moveTo>
                            <a:pt x="564" y="33"/>
                          </a:moveTo>
                          <a:lnTo>
                            <a:pt x="315" y="68"/>
                          </a:lnTo>
                          <a:lnTo>
                            <a:pt x="136" y="28"/>
                          </a:lnTo>
                          <a:lnTo>
                            <a:pt x="6" y="49"/>
                          </a:lnTo>
                          <a:lnTo>
                            <a:pt x="0" y="19"/>
                          </a:lnTo>
                          <a:lnTo>
                            <a:pt x="130" y="0"/>
                          </a:lnTo>
                          <a:lnTo>
                            <a:pt x="318" y="41"/>
                          </a:lnTo>
                          <a:lnTo>
                            <a:pt x="536" y="7"/>
                          </a:lnTo>
                          <a:lnTo>
                            <a:pt x="564" y="3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Freeform 699"/>
                    <p:cNvSpPr/>
                    <p:nvPr/>
                  </p:nvSpPr>
                  <p:spPr>
                    <a:xfrm rot="1110600">
                      <a:off x="3578760" y="2969640"/>
                      <a:ext cx="155160" cy="28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7" h="363">
                          <a:moveTo>
                            <a:pt x="160" y="363"/>
                          </a:moveTo>
                          <a:lnTo>
                            <a:pt x="140" y="245"/>
                          </a:lnTo>
                          <a:lnTo>
                            <a:pt x="17" y="134"/>
                          </a:lnTo>
                          <a:lnTo>
                            <a:pt x="0" y="13"/>
                          </a:lnTo>
                          <a:lnTo>
                            <a:pt x="33" y="0"/>
                          </a:lnTo>
                          <a:lnTo>
                            <a:pt x="50" y="124"/>
                          </a:lnTo>
                          <a:lnTo>
                            <a:pt x="175" y="239"/>
                          </a:lnTo>
                          <a:lnTo>
                            <a:pt x="197" y="355"/>
                          </a:lnTo>
                          <a:lnTo>
                            <a:pt x="160" y="36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Freeform 700"/>
                    <p:cNvSpPr/>
                    <p:nvPr/>
                  </p:nvSpPr>
                  <p:spPr>
                    <a:xfrm rot="1110600">
                      <a:off x="3641760" y="2980800"/>
                      <a:ext cx="15372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364">
                          <a:moveTo>
                            <a:pt x="153" y="364"/>
                          </a:moveTo>
                          <a:lnTo>
                            <a:pt x="136" y="240"/>
                          </a:lnTo>
                          <a:lnTo>
                            <a:pt x="17" y="127"/>
                          </a:lnTo>
                          <a:lnTo>
                            <a:pt x="0" y="12"/>
                          </a:lnTo>
                          <a:lnTo>
                            <a:pt x="45" y="0"/>
                          </a:lnTo>
                          <a:lnTo>
                            <a:pt x="59" y="120"/>
                          </a:lnTo>
                          <a:lnTo>
                            <a:pt x="175" y="234"/>
                          </a:lnTo>
                          <a:lnTo>
                            <a:pt x="194" y="362"/>
                          </a:lnTo>
                          <a:lnTo>
                            <a:pt x="153" y="3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Freeform 701"/>
                    <p:cNvSpPr/>
                    <p:nvPr/>
                  </p:nvSpPr>
                  <p:spPr>
                    <a:xfrm rot="1110600">
                      <a:off x="3706560" y="2997000"/>
                      <a:ext cx="158040" cy="30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380">
                          <a:moveTo>
                            <a:pt x="154" y="367"/>
                          </a:moveTo>
                          <a:lnTo>
                            <a:pt x="138" y="238"/>
                          </a:lnTo>
                          <a:lnTo>
                            <a:pt x="17" y="116"/>
                          </a:lnTo>
                          <a:lnTo>
                            <a:pt x="0" y="2"/>
                          </a:lnTo>
                          <a:lnTo>
                            <a:pt x="38" y="0"/>
                          </a:lnTo>
                          <a:lnTo>
                            <a:pt x="52" y="106"/>
                          </a:lnTo>
                          <a:lnTo>
                            <a:pt x="178" y="232"/>
                          </a:lnTo>
                          <a:lnTo>
                            <a:pt x="199" y="380"/>
                          </a:lnTo>
                          <a:lnTo>
                            <a:pt x="154" y="3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Freeform 702"/>
                    <p:cNvSpPr/>
                    <p:nvPr/>
                  </p:nvSpPr>
                  <p:spPr>
                    <a:xfrm rot="1110600">
                      <a:off x="3950640" y="3091320"/>
                      <a:ext cx="1252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35">
                          <a:moveTo>
                            <a:pt x="157" y="91"/>
                          </a:moveTo>
                          <a:lnTo>
                            <a:pt x="42" y="44"/>
                          </a:lnTo>
                          <a:lnTo>
                            <a:pt x="12" y="72"/>
                          </a:lnTo>
                          <a:lnTo>
                            <a:pt x="0" y="135"/>
                          </a:lnTo>
                          <a:lnTo>
                            <a:pt x="35" y="84"/>
                          </a:lnTo>
                          <a:lnTo>
                            <a:pt x="94" y="6"/>
                          </a:lnTo>
                          <a:lnTo>
                            <a:pt x="133" y="0"/>
                          </a:lnTo>
                          <a:lnTo>
                            <a:pt x="103" y="44"/>
                          </a:lnTo>
                          <a:lnTo>
                            <a:pt x="157" y="9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Freeform 703"/>
                    <p:cNvSpPr/>
                    <p:nvPr/>
                  </p:nvSpPr>
                  <p:spPr>
                    <a:xfrm rot="1110600">
                      <a:off x="3765960" y="2999520"/>
                      <a:ext cx="161640" cy="33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4" h="418">
                          <a:moveTo>
                            <a:pt x="165" y="408"/>
                          </a:moveTo>
                          <a:lnTo>
                            <a:pt x="142" y="244"/>
                          </a:lnTo>
                          <a:lnTo>
                            <a:pt x="17" y="123"/>
                          </a:lnTo>
                          <a:lnTo>
                            <a:pt x="0" y="10"/>
                          </a:lnTo>
                          <a:lnTo>
                            <a:pt x="34" y="0"/>
                          </a:lnTo>
                          <a:lnTo>
                            <a:pt x="51" y="110"/>
                          </a:lnTo>
                          <a:lnTo>
                            <a:pt x="174" y="232"/>
                          </a:lnTo>
                          <a:lnTo>
                            <a:pt x="204" y="418"/>
                          </a:lnTo>
                          <a:lnTo>
                            <a:pt x="165" y="40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Freeform 704"/>
                    <p:cNvSpPr/>
                    <p:nvPr/>
                  </p:nvSpPr>
                  <p:spPr>
                    <a:xfrm rot="1110600">
                      <a:off x="3956760" y="3248280"/>
                      <a:ext cx="8064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67">
                          <a:moveTo>
                            <a:pt x="102" y="67"/>
                          </a:moveTo>
                          <a:lnTo>
                            <a:pt x="0" y="15"/>
                          </a:lnTo>
                          <a:lnTo>
                            <a:pt x="102" y="0"/>
                          </a:lnTo>
                          <a:lnTo>
                            <a:pt x="70" y="25"/>
                          </a:lnTo>
                          <a:lnTo>
                            <a:pt x="102" y="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2" name="Freeform 705"/>
                  <p:cNvSpPr/>
                  <p:nvPr/>
                </p:nvSpPr>
                <p:spPr>
                  <a:xfrm rot="1110600">
                    <a:off x="4167720" y="3102120"/>
                    <a:ext cx="229680" cy="40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9" h="514">
                        <a:moveTo>
                          <a:pt x="102" y="0"/>
                        </a:moveTo>
                        <a:lnTo>
                          <a:pt x="0" y="272"/>
                        </a:lnTo>
                        <a:lnTo>
                          <a:pt x="186" y="514"/>
                        </a:lnTo>
                        <a:lnTo>
                          <a:pt x="289" y="237"/>
                        </a:lnTo>
                        <a:lnTo>
                          <a:pt x="10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33" name="Group 728"/>
          <p:cNvGrpSpPr/>
          <p:nvPr/>
        </p:nvGrpSpPr>
        <p:grpSpPr>
          <a:xfrm>
            <a:off x="3013560" y="1320840"/>
            <a:ext cx="2391480" cy="2899800"/>
            <a:chOff x="3013560" y="1320840"/>
            <a:chExt cx="2391480" cy="2899800"/>
          </a:xfrm>
        </p:grpSpPr>
        <p:sp>
          <p:nvSpPr>
            <p:cNvPr id="234" name="Freeform 729"/>
            <p:cNvSpPr/>
            <p:nvPr/>
          </p:nvSpPr>
          <p:spPr>
            <a:xfrm rot="1341600">
              <a:off x="3429000" y="1523520"/>
              <a:ext cx="1560240" cy="2493720"/>
            </a:xfrm>
            <a:custGeom>
              <a:avLst/>
              <a:gdLst/>
              <a:ahLst/>
              <a:rect l="l" t="t" r="r" b="b"/>
              <a:pathLst>
                <a:path w="1968" h="3140">
                  <a:moveTo>
                    <a:pt x="0" y="150"/>
                  </a:moveTo>
                  <a:lnTo>
                    <a:pt x="8" y="86"/>
                  </a:lnTo>
                  <a:lnTo>
                    <a:pt x="28" y="38"/>
                  </a:lnTo>
                  <a:lnTo>
                    <a:pt x="69" y="11"/>
                  </a:lnTo>
                  <a:lnTo>
                    <a:pt x="128" y="0"/>
                  </a:lnTo>
                  <a:lnTo>
                    <a:pt x="1816" y="0"/>
                  </a:lnTo>
                  <a:lnTo>
                    <a:pt x="1876" y="5"/>
                  </a:lnTo>
                  <a:lnTo>
                    <a:pt x="1926" y="33"/>
                  </a:lnTo>
                  <a:lnTo>
                    <a:pt x="1957" y="86"/>
                  </a:lnTo>
                  <a:lnTo>
                    <a:pt x="1968" y="161"/>
                  </a:lnTo>
                  <a:lnTo>
                    <a:pt x="1968" y="2965"/>
                  </a:lnTo>
                  <a:lnTo>
                    <a:pt x="1966" y="3040"/>
                  </a:lnTo>
                  <a:lnTo>
                    <a:pt x="1952" y="3084"/>
                  </a:lnTo>
                  <a:lnTo>
                    <a:pt x="1921" y="3117"/>
                  </a:lnTo>
                  <a:lnTo>
                    <a:pt x="1886" y="3139"/>
                  </a:lnTo>
                  <a:lnTo>
                    <a:pt x="110" y="3140"/>
                  </a:lnTo>
                  <a:lnTo>
                    <a:pt x="62" y="3128"/>
                  </a:lnTo>
                  <a:lnTo>
                    <a:pt x="28" y="3101"/>
                  </a:lnTo>
                  <a:lnTo>
                    <a:pt x="8" y="3068"/>
                  </a:lnTo>
                  <a:lnTo>
                    <a:pt x="0" y="3009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730"/>
            <p:cNvGrpSpPr/>
            <p:nvPr/>
          </p:nvGrpSpPr>
          <p:grpSpPr>
            <a:xfrm>
              <a:off x="3802680" y="1424880"/>
              <a:ext cx="830880" cy="2652120"/>
              <a:chOff x="3802680" y="1424880"/>
              <a:chExt cx="830880" cy="2652120"/>
            </a:xfrm>
          </p:grpSpPr>
          <p:sp>
            <p:nvSpPr>
              <p:cNvPr id="236" name="Freeform 731"/>
              <p:cNvSpPr/>
              <p:nvPr/>
            </p:nvSpPr>
            <p:spPr>
              <a:xfrm rot="1341600">
                <a:off x="4035960" y="2485800"/>
                <a:ext cx="338040" cy="571320"/>
              </a:xfrm>
              <a:custGeom>
                <a:avLst/>
                <a:gdLst/>
                <a:ahLst/>
                <a:rect l="l" t="t" r="r" b="b"/>
                <a:pathLst>
                  <a:path w="425" h="720">
                    <a:moveTo>
                      <a:pt x="215" y="0"/>
                    </a:moveTo>
                    <a:lnTo>
                      <a:pt x="0" y="360"/>
                    </a:lnTo>
                    <a:lnTo>
                      <a:pt x="220" y="720"/>
                    </a:lnTo>
                    <a:lnTo>
                      <a:pt x="425" y="360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e0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732"/>
              <p:cNvSpPr/>
              <p:nvPr/>
            </p:nvSpPr>
            <p:spPr>
              <a:xfrm rot="1341600">
                <a:off x="3844440" y="1687680"/>
                <a:ext cx="150840" cy="250920"/>
              </a:xfrm>
              <a:custGeom>
                <a:avLst/>
                <a:gdLst/>
                <a:ahLst/>
                <a:rect l="l" t="t" r="r" b="b"/>
                <a:pathLst>
                  <a:path w="189" h="316">
                    <a:moveTo>
                      <a:pt x="100" y="0"/>
                    </a:moveTo>
                    <a:lnTo>
                      <a:pt x="0" y="157"/>
                    </a:lnTo>
                    <a:lnTo>
                      <a:pt x="105" y="316"/>
                    </a:lnTo>
                    <a:lnTo>
                      <a:pt x="189" y="152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733"/>
              <p:cNvSpPr/>
              <p:nvPr/>
            </p:nvSpPr>
            <p:spPr>
              <a:xfrm rot="1341600">
                <a:off x="4446360" y="3553200"/>
                <a:ext cx="142920" cy="260280"/>
              </a:xfrm>
              <a:custGeom>
                <a:avLst/>
                <a:gdLst/>
                <a:ahLst/>
                <a:rect l="l" t="t" r="r" b="b"/>
                <a:pathLst>
                  <a:path w="179" h="327">
                    <a:moveTo>
                      <a:pt x="89" y="0"/>
                    </a:moveTo>
                    <a:lnTo>
                      <a:pt x="0" y="169"/>
                    </a:lnTo>
                    <a:lnTo>
                      <a:pt x="95" y="327"/>
                    </a:lnTo>
                    <a:lnTo>
                      <a:pt x="179" y="16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Group 734"/>
              <p:cNvGrpSpPr/>
              <p:nvPr/>
            </p:nvGrpSpPr>
            <p:grpSpPr>
              <a:xfrm>
                <a:off x="3922200" y="1424880"/>
                <a:ext cx="213120" cy="265680"/>
                <a:chOff x="3922200" y="1424880"/>
                <a:chExt cx="213120" cy="265680"/>
              </a:xfrm>
            </p:grpSpPr>
            <p:sp>
              <p:nvSpPr>
                <p:cNvPr id="240" name="Freeform 735"/>
                <p:cNvSpPr/>
                <p:nvPr/>
              </p:nvSpPr>
              <p:spPr>
                <a:xfrm rot="1341600">
                  <a:off x="3961080" y="1441800"/>
                  <a:ext cx="135000" cy="231840"/>
                </a:xfrm>
                <a:custGeom>
                  <a:avLst/>
                  <a:gdLst/>
                  <a:ahLst/>
                  <a:rect l="l" t="t" r="r" b="b"/>
                  <a:pathLst>
                    <a:path w="170" h="293">
                      <a:moveTo>
                        <a:pt x="52" y="290"/>
                      </a:moveTo>
                      <a:lnTo>
                        <a:pt x="0" y="290"/>
                      </a:lnTo>
                      <a:lnTo>
                        <a:pt x="41" y="0"/>
                      </a:lnTo>
                      <a:lnTo>
                        <a:pt x="127" y="0"/>
                      </a:lnTo>
                      <a:lnTo>
                        <a:pt x="170" y="293"/>
                      </a:lnTo>
                      <a:lnTo>
                        <a:pt x="112" y="293"/>
                      </a:lnTo>
                      <a:lnTo>
                        <a:pt x="102" y="240"/>
                      </a:lnTo>
                      <a:lnTo>
                        <a:pt x="65" y="240"/>
                      </a:lnTo>
                      <a:lnTo>
                        <a:pt x="52" y="29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736"/>
                <p:cNvSpPr/>
                <p:nvPr/>
              </p:nvSpPr>
              <p:spPr>
                <a:xfrm rot="1341600">
                  <a:off x="4018320" y="1497240"/>
                  <a:ext cx="27000" cy="93960"/>
                </a:xfrm>
                <a:custGeom>
                  <a:avLst/>
                  <a:gdLst/>
                  <a:ahLst/>
                  <a:rect l="l" t="t" r="r" b="b"/>
                  <a:pathLst>
                    <a:path w="36" h="118">
                      <a:moveTo>
                        <a:pt x="36" y="118"/>
                      </a:moveTo>
                      <a:lnTo>
                        <a:pt x="0" y="115"/>
                      </a:lnTo>
                      <a:lnTo>
                        <a:pt x="19" y="0"/>
                      </a:lnTo>
                      <a:lnTo>
                        <a:pt x="36" y="11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Group 737"/>
              <p:cNvGrpSpPr/>
              <p:nvPr/>
            </p:nvGrpSpPr>
            <p:grpSpPr>
              <a:xfrm>
                <a:off x="4311720" y="3811320"/>
                <a:ext cx="213120" cy="265680"/>
                <a:chOff x="4311720" y="3811320"/>
                <a:chExt cx="213120" cy="265680"/>
              </a:xfrm>
            </p:grpSpPr>
            <p:sp>
              <p:nvSpPr>
                <p:cNvPr id="243" name="Freeform 738"/>
                <p:cNvSpPr/>
                <p:nvPr/>
              </p:nvSpPr>
              <p:spPr>
                <a:xfrm rot="1341600">
                  <a:off x="4350600" y="3828240"/>
                  <a:ext cx="135000" cy="231840"/>
                </a:xfrm>
                <a:custGeom>
                  <a:avLst/>
                  <a:gdLst/>
                  <a:ahLst/>
                  <a:rect l="l" t="t" r="r" b="b"/>
                  <a:pathLst>
                    <a:path w="170" h="292">
                      <a:moveTo>
                        <a:pt x="51" y="3"/>
                      </a:moveTo>
                      <a:lnTo>
                        <a:pt x="0" y="3"/>
                      </a:lnTo>
                      <a:lnTo>
                        <a:pt x="39" y="292"/>
                      </a:lnTo>
                      <a:lnTo>
                        <a:pt x="126" y="292"/>
                      </a:lnTo>
                      <a:lnTo>
                        <a:pt x="170" y="0"/>
                      </a:lnTo>
                      <a:lnTo>
                        <a:pt x="111" y="0"/>
                      </a:lnTo>
                      <a:lnTo>
                        <a:pt x="101" y="52"/>
                      </a:lnTo>
                      <a:lnTo>
                        <a:pt x="65" y="52"/>
                      </a:lnTo>
                      <a:lnTo>
                        <a:pt x="51" y="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739"/>
                <p:cNvSpPr/>
                <p:nvPr/>
              </p:nvSpPr>
              <p:spPr>
                <a:xfrm rot="1341600">
                  <a:off x="4398120" y="3909600"/>
                  <a:ext cx="28440" cy="93600"/>
                </a:xfrm>
                <a:custGeom>
                  <a:avLst/>
                  <a:gdLst/>
                  <a:ahLst/>
                  <a:rect l="l" t="t" r="r" b="b"/>
                  <a:pathLst>
                    <a:path w="35" h="119">
                      <a:moveTo>
                        <a:pt x="35" y="0"/>
                      </a:moveTo>
                      <a:lnTo>
                        <a:pt x="0" y="4"/>
                      </a:lnTo>
                      <a:lnTo>
                        <a:pt x="18" y="119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5" name="Freeform 924"/>
          <p:cNvSpPr/>
          <p:nvPr/>
        </p:nvSpPr>
        <p:spPr>
          <a:xfrm rot="1110600">
            <a:off x="3048120" y="1218960"/>
            <a:ext cx="1915920" cy="2603520"/>
          </a:xfrm>
          <a:custGeom>
            <a:avLst/>
            <a:gdLst/>
            <a:ahLst/>
            <a:rect l="l" t="t" r="r" b="b"/>
            <a:pathLst>
              <a:path w="2416" h="3279">
                <a:moveTo>
                  <a:pt x="41" y="316"/>
                </a:moveTo>
                <a:lnTo>
                  <a:pt x="88" y="266"/>
                </a:lnTo>
                <a:lnTo>
                  <a:pt x="150" y="245"/>
                </a:lnTo>
                <a:lnTo>
                  <a:pt x="1848" y="0"/>
                </a:lnTo>
                <a:lnTo>
                  <a:pt x="1914" y="33"/>
                </a:lnTo>
                <a:lnTo>
                  <a:pt x="1967" y="75"/>
                </a:lnTo>
                <a:lnTo>
                  <a:pt x="1997" y="169"/>
                </a:lnTo>
                <a:lnTo>
                  <a:pt x="2416" y="2894"/>
                </a:lnTo>
                <a:lnTo>
                  <a:pt x="2416" y="2960"/>
                </a:lnTo>
                <a:lnTo>
                  <a:pt x="2387" y="3017"/>
                </a:lnTo>
                <a:lnTo>
                  <a:pt x="2317" y="3048"/>
                </a:lnTo>
                <a:lnTo>
                  <a:pt x="2240" y="3070"/>
                </a:lnTo>
                <a:lnTo>
                  <a:pt x="648" y="3278"/>
                </a:lnTo>
                <a:lnTo>
                  <a:pt x="547" y="3279"/>
                </a:lnTo>
                <a:lnTo>
                  <a:pt x="457" y="3234"/>
                </a:lnTo>
                <a:lnTo>
                  <a:pt x="430" y="3146"/>
                </a:lnTo>
                <a:lnTo>
                  <a:pt x="0" y="420"/>
                </a:lnTo>
                <a:lnTo>
                  <a:pt x="10" y="359"/>
                </a:lnTo>
                <a:lnTo>
                  <a:pt x="41" y="3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827"/>
          <p:cNvGrpSpPr/>
          <p:nvPr/>
        </p:nvGrpSpPr>
        <p:grpSpPr>
          <a:xfrm>
            <a:off x="2417760" y="884520"/>
            <a:ext cx="3159000" cy="3430440"/>
            <a:chOff x="2417760" y="884520"/>
            <a:chExt cx="3159000" cy="3430440"/>
          </a:xfrm>
        </p:grpSpPr>
        <p:sp>
          <p:nvSpPr>
            <p:cNvPr id="247" name="Freeform 828"/>
            <p:cNvSpPr/>
            <p:nvPr/>
          </p:nvSpPr>
          <p:spPr>
            <a:xfrm rot="1489200">
              <a:off x="2895120" y="1219320"/>
              <a:ext cx="2203560" cy="2760480"/>
            </a:xfrm>
            <a:custGeom>
              <a:avLst/>
              <a:gdLst/>
              <a:ahLst/>
              <a:rect l="l" t="t" r="r" b="b"/>
              <a:pathLst>
                <a:path w="2777" h="3479">
                  <a:moveTo>
                    <a:pt x="49" y="497"/>
                  </a:moveTo>
                  <a:lnTo>
                    <a:pt x="143" y="445"/>
                  </a:lnTo>
                  <a:lnTo>
                    <a:pt x="1770" y="11"/>
                  </a:lnTo>
                  <a:lnTo>
                    <a:pt x="1905" y="0"/>
                  </a:lnTo>
                  <a:lnTo>
                    <a:pt x="2003" y="48"/>
                  </a:lnTo>
                  <a:lnTo>
                    <a:pt x="2049" y="126"/>
                  </a:lnTo>
                  <a:lnTo>
                    <a:pt x="2777" y="2880"/>
                  </a:lnTo>
                  <a:lnTo>
                    <a:pt x="2759" y="2973"/>
                  </a:lnTo>
                  <a:lnTo>
                    <a:pt x="2714" y="3038"/>
                  </a:lnTo>
                  <a:lnTo>
                    <a:pt x="2612" y="3071"/>
                  </a:lnTo>
                  <a:lnTo>
                    <a:pt x="1057" y="3464"/>
                  </a:lnTo>
                  <a:lnTo>
                    <a:pt x="909" y="3479"/>
                  </a:lnTo>
                  <a:lnTo>
                    <a:pt x="830" y="3450"/>
                  </a:lnTo>
                  <a:lnTo>
                    <a:pt x="796" y="3368"/>
                  </a:lnTo>
                  <a:lnTo>
                    <a:pt x="13" y="667"/>
                  </a:lnTo>
                  <a:lnTo>
                    <a:pt x="0" y="567"/>
                  </a:lnTo>
                  <a:lnTo>
                    <a:pt x="49" y="497"/>
                  </a:lnTo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Group 829"/>
            <p:cNvGrpSpPr/>
            <p:nvPr/>
          </p:nvGrpSpPr>
          <p:grpSpPr>
            <a:xfrm>
              <a:off x="2945520" y="1323000"/>
              <a:ext cx="2093760" cy="2576160"/>
              <a:chOff x="2945520" y="1323000"/>
              <a:chExt cx="2093760" cy="2576160"/>
            </a:xfrm>
          </p:grpSpPr>
          <p:grpSp>
            <p:nvGrpSpPr>
              <p:cNvPr id="249" name="Group 830"/>
              <p:cNvGrpSpPr/>
              <p:nvPr/>
            </p:nvGrpSpPr>
            <p:grpSpPr>
              <a:xfrm>
                <a:off x="3372120" y="1323000"/>
                <a:ext cx="280080" cy="556920"/>
                <a:chOff x="3372120" y="1323000"/>
                <a:chExt cx="280080" cy="556920"/>
              </a:xfrm>
            </p:grpSpPr>
            <p:sp>
              <p:nvSpPr>
                <p:cNvPr id="250" name="Freeform 831"/>
                <p:cNvSpPr/>
                <p:nvPr/>
              </p:nvSpPr>
              <p:spPr>
                <a:xfrm rot="1489200">
                  <a:off x="3415680" y="1626840"/>
                  <a:ext cx="130320" cy="236520"/>
                </a:xfrm>
                <a:custGeom>
                  <a:avLst/>
                  <a:gdLst/>
                  <a:ahLst/>
                  <a:rect l="l" t="t" r="r" b="b"/>
                  <a:pathLst>
                    <a:path w="165" h="298">
                      <a:moveTo>
                        <a:pt x="43" y="0"/>
                      </a:moveTo>
                      <a:lnTo>
                        <a:pt x="0" y="171"/>
                      </a:lnTo>
                      <a:lnTo>
                        <a:pt x="132" y="298"/>
                      </a:lnTo>
                      <a:lnTo>
                        <a:pt x="165" y="123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832"/>
                <p:cNvSpPr/>
                <p:nvPr/>
              </p:nvSpPr>
              <p:spPr>
                <a:xfrm rot="1489200">
                  <a:off x="3455280" y="1342800"/>
                  <a:ext cx="150840" cy="252360"/>
                </a:xfrm>
                <a:custGeom>
                  <a:avLst/>
                  <a:gdLst/>
                  <a:ahLst/>
                  <a:rect l="l" t="t" r="r" b="b"/>
                  <a:pathLst>
                    <a:path w="188" h="319">
                      <a:moveTo>
                        <a:pt x="84" y="0"/>
                      </a:moveTo>
                      <a:lnTo>
                        <a:pt x="29" y="21"/>
                      </a:lnTo>
                      <a:lnTo>
                        <a:pt x="0" y="71"/>
                      </a:lnTo>
                      <a:lnTo>
                        <a:pt x="48" y="274"/>
                      </a:lnTo>
                      <a:lnTo>
                        <a:pt x="99" y="293"/>
                      </a:lnTo>
                      <a:lnTo>
                        <a:pt x="110" y="319"/>
                      </a:lnTo>
                      <a:lnTo>
                        <a:pt x="157" y="309"/>
                      </a:lnTo>
                      <a:lnTo>
                        <a:pt x="154" y="282"/>
                      </a:lnTo>
                      <a:lnTo>
                        <a:pt x="188" y="227"/>
                      </a:lnTo>
                      <a:lnTo>
                        <a:pt x="138" y="32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Freeform 833"/>
              <p:cNvSpPr/>
              <p:nvPr/>
            </p:nvSpPr>
            <p:spPr>
              <a:xfrm rot="1489200">
                <a:off x="3500640" y="1389600"/>
                <a:ext cx="65160" cy="147600"/>
              </a:xfrm>
              <a:custGeom>
                <a:avLst/>
                <a:gdLst/>
                <a:ahLst/>
                <a:rect l="l" t="t" r="r" b="b"/>
                <a:pathLst>
                  <a:path w="82" h="185">
                    <a:moveTo>
                      <a:pt x="37" y="0"/>
                    </a:moveTo>
                    <a:lnTo>
                      <a:pt x="0" y="11"/>
                    </a:lnTo>
                    <a:lnTo>
                      <a:pt x="42" y="185"/>
                    </a:lnTo>
                    <a:lnTo>
                      <a:pt x="82" y="171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Group 834"/>
              <p:cNvGrpSpPr/>
              <p:nvPr/>
            </p:nvGrpSpPr>
            <p:grpSpPr>
              <a:xfrm>
                <a:off x="4332960" y="3341520"/>
                <a:ext cx="280800" cy="557640"/>
                <a:chOff x="4332960" y="3341520"/>
                <a:chExt cx="280800" cy="557640"/>
              </a:xfrm>
            </p:grpSpPr>
            <p:sp>
              <p:nvSpPr>
                <p:cNvPr id="254" name="Freeform 835"/>
                <p:cNvSpPr/>
                <p:nvPr/>
              </p:nvSpPr>
              <p:spPr>
                <a:xfrm rot="1489200">
                  <a:off x="4439520" y="3357720"/>
                  <a:ext cx="130320" cy="236520"/>
                </a:xfrm>
                <a:custGeom>
                  <a:avLst/>
                  <a:gdLst/>
                  <a:ahLst/>
                  <a:rect l="l" t="t" r="r" b="b"/>
                  <a:pathLst>
                    <a:path w="165" h="298">
                      <a:moveTo>
                        <a:pt x="122" y="298"/>
                      </a:moveTo>
                      <a:lnTo>
                        <a:pt x="165" y="127"/>
                      </a:lnTo>
                      <a:lnTo>
                        <a:pt x="40" y="0"/>
                      </a:lnTo>
                      <a:lnTo>
                        <a:pt x="0" y="174"/>
                      </a:lnTo>
                      <a:lnTo>
                        <a:pt x="122" y="29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Freeform 836"/>
                <p:cNvSpPr/>
                <p:nvPr/>
              </p:nvSpPr>
              <p:spPr>
                <a:xfrm rot="1489200">
                  <a:off x="4379040" y="3625560"/>
                  <a:ext cx="149400" cy="253800"/>
                </a:xfrm>
                <a:custGeom>
                  <a:avLst/>
                  <a:gdLst/>
                  <a:ahLst/>
                  <a:rect l="l" t="t" r="r" b="b"/>
                  <a:pathLst>
                    <a:path w="188" h="319">
                      <a:moveTo>
                        <a:pt x="104" y="319"/>
                      </a:moveTo>
                      <a:lnTo>
                        <a:pt x="159" y="298"/>
                      </a:lnTo>
                      <a:lnTo>
                        <a:pt x="188" y="248"/>
                      </a:lnTo>
                      <a:lnTo>
                        <a:pt x="140" y="45"/>
                      </a:lnTo>
                      <a:lnTo>
                        <a:pt x="89" y="26"/>
                      </a:lnTo>
                      <a:lnTo>
                        <a:pt x="78" y="0"/>
                      </a:lnTo>
                      <a:lnTo>
                        <a:pt x="31" y="10"/>
                      </a:lnTo>
                      <a:lnTo>
                        <a:pt x="34" y="36"/>
                      </a:lnTo>
                      <a:lnTo>
                        <a:pt x="0" y="91"/>
                      </a:lnTo>
                      <a:lnTo>
                        <a:pt x="50" y="287"/>
                      </a:lnTo>
                      <a:lnTo>
                        <a:pt x="104" y="31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Freeform 837"/>
              <p:cNvSpPr/>
              <p:nvPr/>
            </p:nvSpPr>
            <p:spPr>
              <a:xfrm rot="1489200">
                <a:off x="4419000" y="3685680"/>
                <a:ext cx="65160" cy="147960"/>
              </a:xfrm>
              <a:custGeom>
                <a:avLst/>
                <a:gdLst/>
                <a:ahLst/>
                <a:rect l="l" t="t" r="r" b="b"/>
                <a:pathLst>
                  <a:path w="82" h="186">
                    <a:moveTo>
                      <a:pt x="45" y="186"/>
                    </a:moveTo>
                    <a:lnTo>
                      <a:pt x="82" y="175"/>
                    </a:lnTo>
                    <a:lnTo>
                      <a:pt x="40" y="0"/>
                    </a:lnTo>
                    <a:lnTo>
                      <a:pt x="0" y="15"/>
                    </a:lnTo>
                    <a:lnTo>
                      <a:pt x="45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Group 838"/>
              <p:cNvGrpSpPr/>
              <p:nvPr/>
            </p:nvGrpSpPr>
            <p:grpSpPr>
              <a:xfrm>
                <a:off x="2945520" y="1423800"/>
                <a:ext cx="2093760" cy="2300040"/>
                <a:chOff x="2945520" y="1423800"/>
                <a:chExt cx="2093760" cy="2300040"/>
              </a:xfrm>
            </p:grpSpPr>
            <p:sp>
              <p:nvSpPr>
                <p:cNvPr id="258" name="Freeform 839"/>
                <p:cNvSpPr/>
                <p:nvPr/>
              </p:nvSpPr>
              <p:spPr>
                <a:xfrm rot="1489200">
                  <a:off x="3270600" y="1640160"/>
                  <a:ext cx="1443240" cy="1866600"/>
                </a:xfrm>
                <a:custGeom>
                  <a:avLst/>
                  <a:gdLst/>
                  <a:ahLst/>
                  <a:rect l="l" t="t" r="r" b="b"/>
                  <a:pathLst>
                    <a:path w="1817" h="2353">
                      <a:moveTo>
                        <a:pt x="0" y="334"/>
                      </a:moveTo>
                      <a:lnTo>
                        <a:pt x="1264" y="0"/>
                      </a:lnTo>
                      <a:lnTo>
                        <a:pt x="1817" y="2012"/>
                      </a:lnTo>
                      <a:lnTo>
                        <a:pt x="553" y="2353"/>
                      </a:lnTo>
                      <a:lnTo>
                        <a:pt x="0" y="334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840"/>
                <p:cNvSpPr/>
                <p:nvPr/>
              </p:nvSpPr>
              <p:spPr>
                <a:xfrm rot="1489200">
                  <a:off x="3642480" y="1725480"/>
                  <a:ext cx="209520" cy="377640"/>
                </a:xfrm>
                <a:custGeom>
                  <a:avLst/>
                  <a:gdLst/>
                  <a:ahLst/>
                  <a:rect l="l" t="t" r="r" b="b"/>
                  <a:pathLst>
                    <a:path w="266" h="475">
                      <a:moveTo>
                        <a:pt x="69" y="0"/>
                      </a:moveTo>
                      <a:lnTo>
                        <a:pt x="0" y="273"/>
                      </a:lnTo>
                      <a:lnTo>
                        <a:pt x="213" y="475"/>
                      </a:lnTo>
                      <a:lnTo>
                        <a:pt x="266" y="197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Freeform 841"/>
                <p:cNvSpPr/>
                <p:nvPr/>
              </p:nvSpPr>
              <p:spPr>
                <a:xfrm rot="1489200">
                  <a:off x="4142160" y="3074040"/>
                  <a:ext cx="176040" cy="316080"/>
                </a:xfrm>
                <a:custGeom>
                  <a:avLst/>
                  <a:gdLst/>
                  <a:ahLst/>
                  <a:rect l="l" t="t" r="r" b="b"/>
                  <a:pathLst>
                    <a:path w="221" h="397">
                      <a:moveTo>
                        <a:pt x="57" y="0"/>
                      </a:moveTo>
                      <a:lnTo>
                        <a:pt x="0" y="227"/>
                      </a:lnTo>
                      <a:lnTo>
                        <a:pt x="177" y="397"/>
                      </a:lnTo>
                      <a:lnTo>
                        <a:pt x="221" y="165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Group 842"/>
                <p:cNvGrpSpPr/>
                <p:nvPr/>
              </p:nvGrpSpPr>
              <p:grpSpPr>
                <a:xfrm>
                  <a:off x="3471480" y="1715400"/>
                  <a:ext cx="1263240" cy="1099080"/>
                  <a:chOff x="3471480" y="1715400"/>
                  <a:chExt cx="1263240" cy="1099080"/>
                </a:xfrm>
              </p:grpSpPr>
              <p:sp>
                <p:nvSpPr>
                  <p:cNvPr id="262" name="Freeform 843"/>
                  <p:cNvSpPr/>
                  <p:nvPr/>
                </p:nvSpPr>
                <p:spPr>
                  <a:xfrm rot="1489200">
                    <a:off x="4309200" y="1789920"/>
                    <a:ext cx="29052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6" h="421">
                        <a:moveTo>
                          <a:pt x="271" y="0"/>
                        </a:moveTo>
                        <a:lnTo>
                          <a:pt x="0" y="71"/>
                        </a:lnTo>
                        <a:lnTo>
                          <a:pt x="34" y="213"/>
                        </a:lnTo>
                        <a:lnTo>
                          <a:pt x="170" y="338"/>
                        </a:lnTo>
                        <a:lnTo>
                          <a:pt x="304" y="421"/>
                        </a:lnTo>
                        <a:lnTo>
                          <a:pt x="366" y="325"/>
                        </a:lnTo>
                        <a:lnTo>
                          <a:pt x="283" y="259"/>
                        </a:lnTo>
                        <a:lnTo>
                          <a:pt x="245" y="123"/>
                        </a:lnTo>
                        <a:lnTo>
                          <a:pt x="271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Freeform 844"/>
                  <p:cNvSpPr/>
                  <p:nvPr/>
                </p:nvSpPr>
                <p:spPr>
                  <a:xfrm rot="1489200">
                    <a:off x="4196160" y="1843560"/>
                    <a:ext cx="46836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550">
                        <a:moveTo>
                          <a:pt x="84" y="0"/>
                        </a:moveTo>
                        <a:lnTo>
                          <a:pt x="0" y="22"/>
                        </a:lnTo>
                        <a:lnTo>
                          <a:pt x="36" y="156"/>
                        </a:lnTo>
                        <a:lnTo>
                          <a:pt x="220" y="331"/>
                        </a:lnTo>
                        <a:lnTo>
                          <a:pt x="589" y="550"/>
                        </a:lnTo>
                        <a:lnTo>
                          <a:pt x="560" y="457"/>
                        </a:lnTo>
                        <a:lnTo>
                          <a:pt x="256" y="273"/>
                        </a:lnTo>
                        <a:lnTo>
                          <a:pt x="120" y="151"/>
                        </a:lnTo>
                        <a:lnTo>
                          <a:pt x="84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Freeform 845"/>
                  <p:cNvSpPr/>
                  <p:nvPr/>
                </p:nvSpPr>
                <p:spPr>
                  <a:xfrm rot="1489200">
                    <a:off x="3927960" y="1713960"/>
                    <a:ext cx="108000" cy="52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655">
                        <a:moveTo>
                          <a:pt x="113" y="0"/>
                        </a:moveTo>
                        <a:lnTo>
                          <a:pt x="135" y="92"/>
                        </a:lnTo>
                        <a:lnTo>
                          <a:pt x="51" y="289"/>
                        </a:lnTo>
                        <a:lnTo>
                          <a:pt x="47" y="413"/>
                        </a:lnTo>
                        <a:lnTo>
                          <a:pt x="91" y="597"/>
                        </a:lnTo>
                        <a:lnTo>
                          <a:pt x="57" y="655"/>
                        </a:lnTo>
                        <a:lnTo>
                          <a:pt x="0" y="424"/>
                        </a:lnTo>
                        <a:lnTo>
                          <a:pt x="5" y="283"/>
                        </a:lnTo>
                        <a:lnTo>
                          <a:pt x="69" y="96"/>
                        </a:lnTo>
                        <a:lnTo>
                          <a:pt x="51" y="21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Freeform 846"/>
                  <p:cNvSpPr/>
                  <p:nvPr/>
                </p:nvSpPr>
                <p:spPr>
                  <a:xfrm rot="1489200">
                    <a:off x="4050360" y="1762200"/>
                    <a:ext cx="290520" cy="3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6" h="489">
                        <a:moveTo>
                          <a:pt x="0" y="60"/>
                        </a:moveTo>
                        <a:lnTo>
                          <a:pt x="93" y="409"/>
                        </a:lnTo>
                        <a:lnTo>
                          <a:pt x="159" y="465"/>
                        </a:lnTo>
                        <a:lnTo>
                          <a:pt x="190" y="489"/>
                        </a:lnTo>
                        <a:lnTo>
                          <a:pt x="300" y="459"/>
                        </a:lnTo>
                        <a:lnTo>
                          <a:pt x="366" y="344"/>
                        </a:lnTo>
                        <a:lnTo>
                          <a:pt x="335" y="212"/>
                        </a:lnTo>
                        <a:lnTo>
                          <a:pt x="240" y="123"/>
                        </a:lnTo>
                        <a:lnTo>
                          <a:pt x="209" y="0"/>
                        </a:lnTo>
                        <a:lnTo>
                          <a:pt x="0" y="6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Freeform 847"/>
                  <p:cNvSpPr/>
                  <p:nvPr/>
                </p:nvSpPr>
                <p:spPr>
                  <a:xfrm rot="1489200">
                    <a:off x="4101840" y="1747080"/>
                    <a:ext cx="1000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82">
                        <a:moveTo>
                          <a:pt x="0" y="28"/>
                        </a:moveTo>
                        <a:lnTo>
                          <a:pt x="40" y="182"/>
                        </a:lnTo>
                        <a:lnTo>
                          <a:pt x="126" y="83"/>
                        </a:lnTo>
                        <a:lnTo>
                          <a:pt x="104" y="0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Freeform 848"/>
                  <p:cNvSpPr/>
                  <p:nvPr/>
                </p:nvSpPr>
                <p:spPr>
                  <a:xfrm rot="1489200">
                    <a:off x="4193640" y="1775520"/>
                    <a:ext cx="1461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77">
                        <a:moveTo>
                          <a:pt x="184" y="177"/>
                        </a:moveTo>
                        <a:lnTo>
                          <a:pt x="22" y="113"/>
                        </a:lnTo>
                        <a:lnTo>
                          <a:pt x="0" y="27"/>
                        </a:lnTo>
                        <a:lnTo>
                          <a:pt x="95" y="0"/>
                        </a:lnTo>
                        <a:lnTo>
                          <a:pt x="128" y="121"/>
                        </a:lnTo>
                        <a:lnTo>
                          <a:pt x="184" y="17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Freeform 849"/>
                  <p:cNvSpPr/>
                  <p:nvPr/>
                </p:nvSpPr>
                <p:spPr>
                  <a:xfrm rot="1489200">
                    <a:off x="4016520" y="2040480"/>
                    <a:ext cx="3081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88" h="224">
                        <a:moveTo>
                          <a:pt x="317" y="0"/>
                        </a:moveTo>
                        <a:lnTo>
                          <a:pt x="246" y="116"/>
                        </a:lnTo>
                        <a:lnTo>
                          <a:pt x="139" y="145"/>
                        </a:lnTo>
                        <a:lnTo>
                          <a:pt x="33" y="66"/>
                        </a:lnTo>
                        <a:lnTo>
                          <a:pt x="0" y="131"/>
                        </a:lnTo>
                        <a:lnTo>
                          <a:pt x="78" y="199"/>
                        </a:lnTo>
                        <a:lnTo>
                          <a:pt x="134" y="224"/>
                        </a:lnTo>
                        <a:lnTo>
                          <a:pt x="270" y="186"/>
                        </a:lnTo>
                        <a:lnTo>
                          <a:pt x="338" y="148"/>
                        </a:lnTo>
                        <a:lnTo>
                          <a:pt x="388" y="59"/>
                        </a:lnTo>
                        <a:lnTo>
                          <a:pt x="31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Freeform 850"/>
                  <p:cNvSpPr/>
                  <p:nvPr/>
                </p:nvSpPr>
                <p:spPr>
                  <a:xfrm rot="1489200">
                    <a:off x="4015440" y="2036160"/>
                    <a:ext cx="31104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232">
                        <a:moveTo>
                          <a:pt x="315" y="11"/>
                        </a:moveTo>
                        <a:lnTo>
                          <a:pt x="325" y="9"/>
                        </a:lnTo>
                        <a:lnTo>
                          <a:pt x="254" y="125"/>
                        </a:lnTo>
                        <a:lnTo>
                          <a:pt x="252" y="125"/>
                        </a:lnTo>
                        <a:lnTo>
                          <a:pt x="144" y="154"/>
                        </a:lnTo>
                        <a:lnTo>
                          <a:pt x="142" y="154"/>
                        </a:lnTo>
                        <a:lnTo>
                          <a:pt x="142" y="155"/>
                        </a:lnTo>
                        <a:lnTo>
                          <a:pt x="139" y="151"/>
                        </a:lnTo>
                        <a:lnTo>
                          <a:pt x="33" y="72"/>
                        </a:lnTo>
                        <a:lnTo>
                          <a:pt x="38" y="72"/>
                        </a:lnTo>
                        <a:lnTo>
                          <a:pt x="10" y="136"/>
                        </a:lnTo>
                        <a:lnTo>
                          <a:pt x="8" y="133"/>
                        </a:lnTo>
                        <a:lnTo>
                          <a:pt x="83" y="202"/>
                        </a:lnTo>
                        <a:lnTo>
                          <a:pt x="83" y="199"/>
                        </a:lnTo>
                        <a:lnTo>
                          <a:pt x="139" y="224"/>
                        </a:lnTo>
                        <a:lnTo>
                          <a:pt x="137" y="224"/>
                        </a:lnTo>
                        <a:lnTo>
                          <a:pt x="273" y="189"/>
                        </a:lnTo>
                        <a:lnTo>
                          <a:pt x="339" y="149"/>
                        </a:lnTo>
                        <a:lnTo>
                          <a:pt x="332" y="151"/>
                        </a:lnTo>
                        <a:lnTo>
                          <a:pt x="385" y="60"/>
                        </a:lnTo>
                        <a:lnTo>
                          <a:pt x="387" y="67"/>
                        </a:lnTo>
                        <a:lnTo>
                          <a:pt x="315" y="11"/>
                        </a:lnTo>
                        <a:lnTo>
                          <a:pt x="323" y="2"/>
                        </a:lnTo>
                        <a:lnTo>
                          <a:pt x="393" y="60"/>
                        </a:lnTo>
                        <a:lnTo>
                          <a:pt x="393" y="70"/>
                        </a:lnTo>
                        <a:lnTo>
                          <a:pt x="343" y="158"/>
                        </a:lnTo>
                        <a:lnTo>
                          <a:pt x="275" y="199"/>
                        </a:lnTo>
                        <a:lnTo>
                          <a:pt x="139" y="232"/>
                        </a:lnTo>
                        <a:lnTo>
                          <a:pt x="137" y="232"/>
                        </a:lnTo>
                        <a:lnTo>
                          <a:pt x="81" y="208"/>
                        </a:lnTo>
                        <a:lnTo>
                          <a:pt x="76" y="208"/>
                        </a:lnTo>
                        <a:lnTo>
                          <a:pt x="0" y="139"/>
                        </a:lnTo>
                        <a:lnTo>
                          <a:pt x="0" y="136"/>
                        </a:lnTo>
                        <a:lnTo>
                          <a:pt x="31" y="70"/>
                        </a:lnTo>
                        <a:lnTo>
                          <a:pt x="36" y="65"/>
                        </a:lnTo>
                        <a:lnTo>
                          <a:pt x="36" y="67"/>
                        </a:lnTo>
                        <a:lnTo>
                          <a:pt x="144" y="147"/>
                        </a:lnTo>
                        <a:lnTo>
                          <a:pt x="142" y="147"/>
                        </a:lnTo>
                        <a:lnTo>
                          <a:pt x="249" y="117"/>
                        </a:lnTo>
                        <a:lnTo>
                          <a:pt x="244" y="117"/>
                        </a:lnTo>
                        <a:lnTo>
                          <a:pt x="315" y="2"/>
                        </a:lnTo>
                        <a:lnTo>
                          <a:pt x="318" y="2"/>
                        </a:lnTo>
                        <a:lnTo>
                          <a:pt x="315" y="2"/>
                        </a:lnTo>
                        <a:lnTo>
                          <a:pt x="318" y="2"/>
                        </a:lnTo>
                        <a:lnTo>
                          <a:pt x="320" y="0"/>
                        </a:lnTo>
                        <a:lnTo>
                          <a:pt x="323" y="2"/>
                        </a:lnTo>
                        <a:lnTo>
                          <a:pt x="315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Freeform 851"/>
                  <p:cNvSpPr/>
                  <p:nvPr/>
                </p:nvSpPr>
                <p:spPr>
                  <a:xfrm rot="1489200">
                    <a:off x="4279320" y="2017080"/>
                    <a:ext cx="18396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3" h="201">
                        <a:moveTo>
                          <a:pt x="0" y="0"/>
                        </a:moveTo>
                        <a:lnTo>
                          <a:pt x="29" y="135"/>
                        </a:lnTo>
                        <a:lnTo>
                          <a:pt x="115" y="201"/>
                        </a:lnTo>
                        <a:lnTo>
                          <a:pt x="233" y="174"/>
                        </a:lnTo>
                        <a:lnTo>
                          <a:pt x="93" y="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Freeform 852"/>
                  <p:cNvSpPr/>
                  <p:nvPr/>
                </p:nvSpPr>
                <p:spPr>
                  <a:xfrm rot="1489200">
                    <a:off x="3911400" y="2088360"/>
                    <a:ext cx="54000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80" h="368">
                        <a:moveTo>
                          <a:pt x="597" y="0"/>
                        </a:moveTo>
                        <a:lnTo>
                          <a:pt x="487" y="28"/>
                        </a:lnTo>
                        <a:lnTo>
                          <a:pt x="444" y="123"/>
                        </a:lnTo>
                        <a:lnTo>
                          <a:pt x="376" y="164"/>
                        </a:lnTo>
                        <a:lnTo>
                          <a:pt x="200" y="212"/>
                        </a:lnTo>
                        <a:lnTo>
                          <a:pt x="68" y="155"/>
                        </a:lnTo>
                        <a:lnTo>
                          <a:pt x="0" y="265"/>
                        </a:lnTo>
                        <a:lnTo>
                          <a:pt x="140" y="344"/>
                        </a:lnTo>
                        <a:lnTo>
                          <a:pt x="246" y="368"/>
                        </a:lnTo>
                        <a:lnTo>
                          <a:pt x="423" y="317"/>
                        </a:lnTo>
                        <a:lnTo>
                          <a:pt x="555" y="212"/>
                        </a:lnTo>
                        <a:lnTo>
                          <a:pt x="680" y="45"/>
                        </a:lnTo>
                        <a:lnTo>
                          <a:pt x="597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Freeform 853"/>
                  <p:cNvSpPr/>
                  <p:nvPr/>
                </p:nvSpPr>
                <p:spPr>
                  <a:xfrm rot="1489200">
                    <a:off x="3689280" y="2133360"/>
                    <a:ext cx="863640" cy="52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0" h="660">
                        <a:moveTo>
                          <a:pt x="1090" y="323"/>
                        </a:moveTo>
                        <a:lnTo>
                          <a:pt x="838" y="196"/>
                        </a:lnTo>
                        <a:lnTo>
                          <a:pt x="688" y="345"/>
                        </a:lnTo>
                        <a:lnTo>
                          <a:pt x="739" y="529"/>
                        </a:lnTo>
                        <a:lnTo>
                          <a:pt x="681" y="545"/>
                        </a:lnTo>
                        <a:lnTo>
                          <a:pt x="631" y="361"/>
                        </a:lnTo>
                        <a:lnTo>
                          <a:pt x="441" y="408"/>
                        </a:lnTo>
                        <a:lnTo>
                          <a:pt x="225" y="330"/>
                        </a:lnTo>
                        <a:lnTo>
                          <a:pt x="253" y="444"/>
                        </a:lnTo>
                        <a:lnTo>
                          <a:pt x="212" y="556"/>
                        </a:lnTo>
                        <a:lnTo>
                          <a:pt x="295" y="649"/>
                        </a:lnTo>
                        <a:lnTo>
                          <a:pt x="263" y="660"/>
                        </a:lnTo>
                        <a:lnTo>
                          <a:pt x="0" y="483"/>
                        </a:lnTo>
                        <a:lnTo>
                          <a:pt x="26" y="437"/>
                        </a:lnTo>
                        <a:lnTo>
                          <a:pt x="170" y="515"/>
                        </a:lnTo>
                        <a:lnTo>
                          <a:pt x="214" y="441"/>
                        </a:lnTo>
                        <a:lnTo>
                          <a:pt x="171" y="314"/>
                        </a:lnTo>
                        <a:lnTo>
                          <a:pt x="119" y="281"/>
                        </a:lnTo>
                        <a:lnTo>
                          <a:pt x="168" y="226"/>
                        </a:lnTo>
                        <a:lnTo>
                          <a:pt x="298" y="310"/>
                        </a:lnTo>
                        <a:lnTo>
                          <a:pt x="444" y="356"/>
                        </a:lnTo>
                        <a:lnTo>
                          <a:pt x="649" y="297"/>
                        </a:lnTo>
                        <a:lnTo>
                          <a:pt x="808" y="158"/>
                        </a:lnTo>
                        <a:lnTo>
                          <a:pt x="911" y="0"/>
                        </a:lnTo>
                        <a:lnTo>
                          <a:pt x="948" y="19"/>
                        </a:lnTo>
                        <a:lnTo>
                          <a:pt x="925" y="63"/>
                        </a:lnTo>
                        <a:lnTo>
                          <a:pt x="1031" y="117"/>
                        </a:lnTo>
                        <a:lnTo>
                          <a:pt x="1090" y="32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Freeform 854"/>
                  <p:cNvSpPr/>
                  <p:nvPr/>
                </p:nvSpPr>
                <p:spPr>
                  <a:xfrm rot="1489200">
                    <a:off x="4396320" y="2359440"/>
                    <a:ext cx="1634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81">
                        <a:moveTo>
                          <a:pt x="173" y="72"/>
                        </a:moveTo>
                        <a:lnTo>
                          <a:pt x="37" y="0"/>
                        </a:lnTo>
                        <a:lnTo>
                          <a:pt x="0" y="72"/>
                        </a:lnTo>
                        <a:lnTo>
                          <a:pt x="205" y="181"/>
                        </a:lnTo>
                        <a:lnTo>
                          <a:pt x="173" y="7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Freeform 855"/>
                  <p:cNvSpPr/>
                  <p:nvPr/>
                </p:nvSpPr>
                <p:spPr>
                  <a:xfrm rot="1489200">
                    <a:off x="4207320" y="2379240"/>
                    <a:ext cx="19188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328">
                        <a:moveTo>
                          <a:pt x="146" y="0"/>
                        </a:moveTo>
                        <a:lnTo>
                          <a:pt x="0" y="155"/>
                        </a:lnTo>
                        <a:lnTo>
                          <a:pt x="45" y="328"/>
                        </a:lnTo>
                        <a:lnTo>
                          <a:pt x="148" y="303"/>
                        </a:lnTo>
                        <a:lnTo>
                          <a:pt x="243" y="55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Freeform 856"/>
                  <p:cNvSpPr/>
                  <p:nvPr/>
                </p:nvSpPr>
                <p:spPr>
                  <a:xfrm rot="1489200">
                    <a:off x="4357080" y="2506320"/>
                    <a:ext cx="16848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05">
                        <a:moveTo>
                          <a:pt x="184" y="47"/>
                        </a:moveTo>
                        <a:lnTo>
                          <a:pt x="84" y="0"/>
                        </a:lnTo>
                        <a:lnTo>
                          <a:pt x="0" y="205"/>
                        </a:lnTo>
                        <a:lnTo>
                          <a:pt x="211" y="146"/>
                        </a:lnTo>
                        <a:lnTo>
                          <a:pt x="184" y="4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Freeform 857"/>
                  <p:cNvSpPr/>
                  <p:nvPr/>
                </p:nvSpPr>
                <p:spPr>
                  <a:xfrm rot="1489200">
                    <a:off x="3809520" y="2352960"/>
                    <a:ext cx="368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315">
                        <a:moveTo>
                          <a:pt x="445" y="153"/>
                        </a:moveTo>
                        <a:lnTo>
                          <a:pt x="465" y="212"/>
                        </a:lnTo>
                        <a:lnTo>
                          <a:pt x="86" y="315"/>
                        </a:lnTo>
                        <a:lnTo>
                          <a:pt x="0" y="223"/>
                        </a:lnTo>
                        <a:lnTo>
                          <a:pt x="43" y="118"/>
                        </a:lnTo>
                        <a:lnTo>
                          <a:pt x="16" y="0"/>
                        </a:lnTo>
                        <a:lnTo>
                          <a:pt x="140" y="48"/>
                        </a:lnTo>
                        <a:lnTo>
                          <a:pt x="228" y="82"/>
                        </a:lnTo>
                        <a:lnTo>
                          <a:pt x="291" y="66"/>
                        </a:lnTo>
                        <a:lnTo>
                          <a:pt x="319" y="189"/>
                        </a:lnTo>
                        <a:lnTo>
                          <a:pt x="445" y="15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Freeform 858"/>
                  <p:cNvSpPr/>
                  <p:nvPr/>
                </p:nvSpPr>
                <p:spPr>
                  <a:xfrm rot="1489200">
                    <a:off x="3719160" y="2211480"/>
                    <a:ext cx="1476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235">
                        <a:moveTo>
                          <a:pt x="90" y="0"/>
                        </a:moveTo>
                        <a:lnTo>
                          <a:pt x="0" y="150"/>
                        </a:lnTo>
                        <a:lnTo>
                          <a:pt x="142" y="235"/>
                        </a:lnTo>
                        <a:lnTo>
                          <a:pt x="186" y="157"/>
                        </a:lnTo>
                        <a:lnTo>
                          <a:pt x="146" y="35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Freeform 859"/>
                  <p:cNvSpPr/>
                  <p:nvPr/>
                </p:nvSpPr>
                <p:spPr>
                  <a:xfrm rot="1489200">
                    <a:off x="3507120" y="2318400"/>
                    <a:ext cx="21924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75">
                        <a:moveTo>
                          <a:pt x="146" y="0"/>
                        </a:moveTo>
                        <a:lnTo>
                          <a:pt x="276" y="88"/>
                        </a:lnTo>
                        <a:lnTo>
                          <a:pt x="205" y="221"/>
                        </a:lnTo>
                        <a:lnTo>
                          <a:pt x="16" y="275"/>
                        </a:lnTo>
                        <a:lnTo>
                          <a:pt x="0" y="219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Freeform 860"/>
                  <p:cNvSpPr/>
                  <p:nvPr/>
                </p:nvSpPr>
                <p:spPr>
                  <a:xfrm rot="1489200">
                    <a:off x="3539520" y="2220480"/>
                    <a:ext cx="15876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213">
                        <a:moveTo>
                          <a:pt x="201" y="54"/>
                        </a:moveTo>
                        <a:lnTo>
                          <a:pt x="119" y="0"/>
                        </a:lnTo>
                        <a:lnTo>
                          <a:pt x="59" y="19"/>
                        </a:lnTo>
                        <a:lnTo>
                          <a:pt x="109" y="75"/>
                        </a:lnTo>
                        <a:lnTo>
                          <a:pt x="0" y="70"/>
                        </a:lnTo>
                        <a:lnTo>
                          <a:pt x="32" y="188"/>
                        </a:lnTo>
                        <a:lnTo>
                          <a:pt x="96" y="213"/>
                        </a:lnTo>
                        <a:lnTo>
                          <a:pt x="179" y="92"/>
                        </a:lnTo>
                        <a:lnTo>
                          <a:pt x="201" y="5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Freeform 861"/>
                  <p:cNvSpPr/>
                  <p:nvPr/>
                </p:nvSpPr>
                <p:spPr>
                  <a:xfrm rot="1489200">
                    <a:off x="3621600" y="2112480"/>
                    <a:ext cx="1796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56">
                        <a:moveTo>
                          <a:pt x="70" y="156"/>
                        </a:moveTo>
                        <a:lnTo>
                          <a:pt x="68" y="116"/>
                        </a:lnTo>
                        <a:lnTo>
                          <a:pt x="0" y="91"/>
                        </a:lnTo>
                        <a:lnTo>
                          <a:pt x="62" y="73"/>
                        </a:lnTo>
                        <a:lnTo>
                          <a:pt x="73" y="20"/>
                        </a:lnTo>
                        <a:lnTo>
                          <a:pt x="107" y="56"/>
                        </a:lnTo>
                        <a:lnTo>
                          <a:pt x="138" y="0"/>
                        </a:lnTo>
                        <a:lnTo>
                          <a:pt x="177" y="29"/>
                        </a:lnTo>
                        <a:lnTo>
                          <a:pt x="156" y="62"/>
                        </a:lnTo>
                        <a:lnTo>
                          <a:pt x="227" y="66"/>
                        </a:lnTo>
                        <a:lnTo>
                          <a:pt x="188" y="88"/>
                        </a:lnTo>
                        <a:lnTo>
                          <a:pt x="206" y="121"/>
                        </a:lnTo>
                        <a:lnTo>
                          <a:pt x="131" y="106"/>
                        </a:lnTo>
                        <a:lnTo>
                          <a:pt x="107" y="145"/>
                        </a:lnTo>
                        <a:lnTo>
                          <a:pt x="70" y="156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Freeform 862"/>
                  <p:cNvSpPr/>
                  <p:nvPr/>
                </p:nvSpPr>
                <p:spPr>
                  <a:xfrm rot="1489200">
                    <a:off x="3573000" y="2111760"/>
                    <a:ext cx="6516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35">
                        <a:moveTo>
                          <a:pt x="83" y="114"/>
                        </a:moveTo>
                        <a:lnTo>
                          <a:pt x="71" y="57"/>
                        </a:lnTo>
                        <a:lnTo>
                          <a:pt x="44" y="66"/>
                        </a:lnTo>
                        <a:lnTo>
                          <a:pt x="29" y="0"/>
                        </a:lnTo>
                        <a:lnTo>
                          <a:pt x="16" y="66"/>
                        </a:lnTo>
                        <a:lnTo>
                          <a:pt x="0" y="70"/>
                        </a:lnTo>
                        <a:lnTo>
                          <a:pt x="11" y="135"/>
                        </a:lnTo>
                        <a:lnTo>
                          <a:pt x="33" y="112"/>
                        </a:lnTo>
                        <a:lnTo>
                          <a:pt x="38" y="135"/>
                        </a:lnTo>
                        <a:lnTo>
                          <a:pt x="83" y="11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863"/>
                  <p:cNvSpPr/>
                  <p:nvPr/>
                </p:nvSpPr>
                <p:spPr>
                  <a:xfrm rot="1489200">
                    <a:off x="4044240" y="2424960"/>
                    <a:ext cx="13320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62">
                        <a:moveTo>
                          <a:pt x="129" y="0"/>
                        </a:moveTo>
                        <a:lnTo>
                          <a:pt x="0" y="33"/>
                        </a:lnTo>
                        <a:lnTo>
                          <a:pt x="30" y="162"/>
                        </a:lnTo>
                        <a:lnTo>
                          <a:pt x="167" y="121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Freeform 864"/>
                  <p:cNvSpPr/>
                  <p:nvPr/>
                </p:nvSpPr>
                <p:spPr>
                  <a:xfrm rot="1489200">
                    <a:off x="3997080" y="2084400"/>
                    <a:ext cx="32868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198">
                        <a:moveTo>
                          <a:pt x="384" y="0"/>
                        </a:moveTo>
                        <a:lnTo>
                          <a:pt x="339" y="80"/>
                        </a:lnTo>
                        <a:lnTo>
                          <a:pt x="289" y="118"/>
                        </a:lnTo>
                        <a:lnTo>
                          <a:pt x="144" y="158"/>
                        </a:lnTo>
                        <a:lnTo>
                          <a:pt x="88" y="136"/>
                        </a:lnTo>
                        <a:lnTo>
                          <a:pt x="13" y="77"/>
                        </a:lnTo>
                        <a:lnTo>
                          <a:pt x="0" y="138"/>
                        </a:lnTo>
                        <a:lnTo>
                          <a:pt x="128" y="198"/>
                        </a:lnTo>
                        <a:lnTo>
                          <a:pt x="310" y="149"/>
                        </a:lnTo>
                        <a:lnTo>
                          <a:pt x="378" y="102"/>
                        </a:lnTo>
                        <a:lnTo>
                          <a:pt x="413" y="20"/>
                        </a:lnTo>
                        <a:lnTo>
                          <a:pt x="38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Freeform 865"/>
                  <p:cNvSpPr/>
                  <p:nvPr/>
                </p:nvSpPr>
                <p:spPr>
                  <a:xfrm rot="1489200">
                    <a:off x="3958200" y="1810800"/>
                    <a:ext cx="125640" cy="3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489">
                        <a:moveTo>
                          <a:pt x="157" y="253"/>
                        </a:moveTo>
                        <a:lnTo>
                          <a:pt x="89" y="0"/>
                        </a:lnTo>
                        <a:lnTo>
                          <a:pt x="11" y="174"/>
                        </a:lnTo>
                        <a:lnTo>
                          <a:pt x="0" y="300"/>
                        </a:lnTo>
                        <a:lnTo>
                          <a:pt x="49" y="489"/>
                        </a:lnTo>
                        <a:lnTo>
                          <a:pt x="113" y="383"/>
                        </a:lnTo>
                        <a:lnTo>
                          <a:pt x="123" y="323"/>
                        </a:lnTo>
                        <a:lnTo>
                          <a:pt x="157" y="25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Freeform 866"/>
                  <p:cNvSpPr/>
                  <p:nvPr/>
                </p:nvSpPr>
                <p:spPr>
                  <a:xfrm rot="1489200">
                    <a:off x="4312800" y="2455920"/>
                    <a:ext cx="1141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246">
                        <a:moveTo>
                          <a:pt x="67" y="227"/>
                        </a:moveTo>
                        <a:lnTo>
                          <a:pt x="0" y="246"/>
                        </a:lnTo>
                        <a:lnTo>
                          <a:pt x="97" y="0"/>
                        </a:lnTo>
                        <a:lnTo>
                          <a:pt x="144" y="22"/>
                        </a:lnTo>
                        <a:lnTo>
                          <a:pt x="67" y="2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867"/>
                  <p:cNvSpPr/>
                  <p:nvPr/>
                </p:nvSpPr>
                <p:spPr>
                  <a:xfrm rot="1489200">
                    <a:off x="4479840" y="2319840"/>
                    <a:ext cx="824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88">
                        <a:moveTo>
                          <a:pt x="105" y="88"/>
                        </a:moveTo>
                        <a:lnTo>
                          <a:pt x="0" y="35"/>
                        </a:lnTo>
                        <a:lnTo>
                          <a:pt x="17" y="0"/>
                        </a:lnTo>
                        <a:lnTo>
                          <a:pt x="89" y="33"/>
                        </a:lnTo>
                        <a:lnTo>
                          <a:pt x="105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Freeform 868"/>
                  <p:cNvSpPr/>
                  <p:nvPr/>
                </p:nvSpPr>
                <p:spPr>
                  <a:xfrm rot="1489200">
                    <a:off x="4337640" y="219780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00">
                        <a:moveTo>
                          <a:pt x="57" y="0"/>
                        </a:moveTo>
                        <a:lnTo>
                          <a:pt x="90" y="38"/>
                        </a:lnTo>
                        <a:lnTo>
                          <a:pt x="79" y="88"/>
                        </a:lnTo>
                        <a:lnTo>
                          <a:pt x="37" y="100"/>
                        </a:lnTo>
                        <a:lnTo>
                          <a:pt x="0" y="64"/>
                        </a:lnTo>
                        <a:lnTo>
                          <a:pt x="10" y="11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Freeform 869"/>
                  <p:cNvSpPr/>
                  <p:nvPr/>
                </p:nvSpPr>
                <p:spPr>
                  <a:xfrm rot="1489200">
                    <a:off x="4227840" y="2242440"/>
                    <a:ext cx="8280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2">
                        <a:moveTo>
                          <a:pt x="67" y="0"/>
                        </a:moveTo>
                        <a:lnTo>
                          <a:pt x="103" y="36"/>
                        </a:lnTo>
                        <a:lnTo>
                          <a:pt x="84" y="91"/>
                        </a:lnTo>
                        <a:lnTo>
                          <a:pt x="34" y="102"/>
                        </a:lnTo>
                        <a:lnTo>
                          <a:pt x="0" y="64"/>
                        </a:lnTo>
                        <a:lnTo>
                          <a:pt x="14" y="12"/>
                        </a:lnTo>
                        <a:lnTo>
                          <a:pt x="6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Freeform 870"/>
                  <p:cNvSpPr/>
                  <p:nvPr/>
                </p:nvSpPr>
                <p:spPr>
                  <a:xfrm rot="1489200">
                    <a:off x="4109400" y="2241000"/>
                    <a:ext cx="8388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5">
                        <a:moveTo>
                          <a:pt x="64" y="0"/>
                        </a:moveTo>
                        <a:lnTo>
                          <a:pt x="105" y="46"/>
                        </a:lnTo>
                        <a:lnTo>
                          <a:pt x="93" y="99"/>
                        </a:lnTo>
                        <a:lnTo>
                          <a:pt x="38" y="115"/>
                        </a:lnTo>
                        <a:lnTo>
                          <a:pt x="0" y="72"/>
                        </a:lnTo>
                        <a:lnTo>
                          <a:pt x="11" y="14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Freeform 871"/>
                  <p:cNvSpPr/>
                  <p:nvPr/>
                </p:nvSpPr>
                <p:spPr>
                  <a:xfrm rot="1489200">
                    <a:off x="4012560" y="2219040"/>
                    <a:ext cx="7308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94">
                        <a:moveTo>
                          <a:pt x="57" y="0"/>
                        </a:moveTo>
                        <a:lnTo>
                          <a:pt x="93" y="38"/>
                        </a:lnTo>
                        <a:lnTo>
                          <a:pt x="81" y="85"/>
                        </a:lnTo>
                        <a:lnTo>
                          <a:pt x="36" y="94"/>
                        </a:lnTo>
                        <a:lnTo>
                          <a:pt x="0" y="61"/>
                        </a:lnTo>
                        <a:lnTo>
                          <a:pt x="14" y="8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Freeform 872"/>
                  <p:cNvSpPr/>
                  <p:nvPr/>
                </p:nvSpPr>
                <p:spPr>
                  <a:xfrm rot="1489200">
                    <a:off x="3955680" y="2153880"/>
                    <a:ext cx="572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95">
                        <a:moveTo>
                          <a:pt x="41" y="0"/>
                        </a:moveTo>
                        <a:lnTo>
                          <a:pt x="72" y="38"/>
                        </a:lnTo>
                        <a:lnTo>
                          <a:pt x="63" y="83"/>
                        </a:lnTo>
                        <a:lnTo>
                          <a:pt x="30" y="95"/>
                        </a:lnTo>
                        <a:lnTo>
                          <a:pt x="0" y="58"/>
                        </a:lnTo>
                        <a:lnTo>
                          <a:pt x="6" y="11"/>
                        </a:lnTo>
                        <a:lnTo>
                          <a:pt x="4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Freeform 873"/>
                  <p:cNvSpPr/>
                  <p:nvPr/>
                </p:nvSpPr>
                <p:spPr>
                  <a:xfrm rot="1489200">
                    <a:off x="4188960" y="1956600"/>
                    <a:ext cx="698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25">
                        <a:moveTo>
                          <a:pt x="88" y="0"/>
                        </a:moveTo>
                        <a:lnTo>
                          <a:pt x="0" y="19"/>
                        </a:lnTo>
                        <a:lnTo>
                          <a:pt x="33" y="12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Line 874"/>
                  <p:cNvSpPr/>
                  <p:nvPr/>
                </p:nvSpPr>
                <p:spPr>
                  <a:xfrm>
                    <a:off x="4109400" y="1914120"/>
                    <a:ext cx="70560" cy="136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Line 875"/>
                  <p:cNvSpPr/>
                  <p:nvPr/>
                </p:nvSpPr>
                <p:spPr>
                  <a:xfrm>
                    <a:off x="4229640" y="1937880"/>
                    <a:ext cx="6660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Line 876"/>
                  <p:cNvSpPr/>
                  <p:nvPr/>
                </p:nvSpPr>
                <p:spPr>
                  <a:xfrm>
                    <a:off x="4106880" y="1942560"/>
                    <a:ext cx="49680" cy="104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Freeform 877"/>
                  <p:cNvSpPr/>
                  <p:nvPr/>
                </p:nvSpPr>
                <p:spPr>
                  <a:xfrm rot="1489200">
                    <a:off x="4168080" y="2043720"/>
                    <a:ext cx="46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">
                        <a:moveTo>
                          <a:pt x="0" y="15"/>
                        </a:moveTo>
                        <a:lnTo>
                          <a:pt x="59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Line 878"/>
                  <p:cNvSpPr/>
                  <p:nvPr/>
                </p:nvSpPr>
                <p:spPr>
                  <a:xfrm flipH="1">
                    <a:off x="4181760" y="2093760"/>
                    <a:ext cx="2160" cy="273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Freeform 879"/>
                  <p:cNvSpPr/>
                  <p:nvPr/>
                </p:nvSpPr>
                <p:spPr>
                  <a:xfrm rot="1489200">
                    <a:off x="3657240" y="2439000"/>
                    <a:ext cx="15408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34">
                        <a:moveTo>
                          <a:pt x="195" y="83"/>
                        </a:moveTo>
                        <a:lnTo>
                          <a:pt x="77" y="0"/>
                        </a:lnTo>
                        <a:lnTo>
                          <a:pt x="0" y="134"/>
                        </a:lnTo>
                        <a:lnTo>
                          <a:pt x="195" y="8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Freeform 880"/>
                  <p:cNvSpPr/>
                  <p:nvPr/>
                </p:nvSpPr>
                <p:spPr>
                  <a:xfrm rot="1489200">
                    <a:off x="4359960" y="1832400"/>
                    <a:ext cx="222120" cy="26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331">
                        <a:moveTo>
                          <a:pt x="0" y="15"/>
                        </a:moveTo>
                        <a:lnTo>
                          <a:pt x="29" y="145"/>
                        </a:lnTo>
                        <a:lnTo>
                          <a:pt x="129" y="248"/>
                        </a:lnTo>
                        <a:lnTo>
                          <a:pt x="260" y="331"/>
                        </a:lnTo>
                        <a:lnTo>
                          <a:pt x="280" y="303"/>
                        </a:lnTo>
                        <a:lnTo>
                          <a:pt x="161" y="226"/>
                        </a:lnTo>
                        <a:lnTo>
                          <a:pt x="79" y="133"/>
                        </a:lnTo>
                        <a:lnTo>
                          <a:pt x="50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Line 881"/>
                  <p:cNvSpPr/>
                  <p:nvPr/>
                </p:nvSpPr>
                <p:spPr>
                  <a:xfrm>
                    <a:off x="4155480" y="2084040"/>
                    <a:ext cx="64080" cy="12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Group 882"/>
                <p:cNvGrpSpPr/>
                <p:nvPr/>
              </p:nvGrpSpPr>
              <p:grpSpPr>
                <a:xfrm>
                  <a:off x="3259440" y="2324520"/>
                  <a:ext cx="1261080" cy="1098000"/>
                  <a:chOff x="3259440" y="2324520"/>
                  <a:chExt cx="1261080" cy="1098000"/>
                </a:xfrm>
              </p:grpSpPr>
              <p:sp>
                <p:nvSpPr>
                  <p:cNvPr id="302" name="Freeform 883"/>
                  <p:cNvSpPr/>
                  <p:nvPr/>
                </p:nvSpPr>
                <p:spPr>
                  <a:xfrm rot="1489200">
                    <a:off x="3392640" y="3013920"/>
                    <a:ext cx="29052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6" h="421">
                        <a:moveTo>
                          <a:pt x="95" y="421"/>
                        </a:moveTo>
                        <a:lnTo>
                          <a:pt x="366" y="351"/>
                        </a:lnTo>
                        <a:lnTo>
                          <a:pt x="332" y="209"/>
                        </a:lnTo>
                        <a:lnTo>
                          <a:pt x="196" y="83"/>
                        </a:lnTo>
                        <a:lnTo>
                          <a:pt x="62" y="0"/>
                        </a:lnTo>
                        <a:lnTo>
                          <a:pt x="0" y="96"/>
                        </a:lnTo>
                        <a:lnTo>
                          <a:pt x="83" y="162"/>
                        </a:lnTo>
                        <a:lnTo>
                          <a:pt x="120" y="298"/>
                        </a:lnTo>
                        <a:lnTo>
                          <a:pt x="95" y="421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Freeform 884"/>
                  <p:cNvSpPr/>
                  <p:nvPr/>
                </p:nvSpPr>
                <p:spPr>
                  <a:xfrm rot="1489200">
                    <a:off x="3329280" y="2859120"/>
                    <a:ext cx="46692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550">
                        <a:moveTo>
                          <a:pt x="505" y="550"/>
                        </a:moveTo>
                        <a:lnTo>
                          <a:pt x="589" y="528"/>
                        </a:lnTo>
                        <a:lnTo>
                          <a:pt x="552" y="395"/>
                        </a:lnTo>
                        <a:lnTo>
                          <a:pt x="369" y="219"/>
                        </a:lnTo>
                        <a:lnTo>
                          <a:pt x="0" y="0"/>
                        </a:lnTo>
                        <a:lnTo>
                          <a:pt x="28" y="93"/>
                        </a:lnTo>
                        <a:lnTo>
                          <a:pt x="333" y="278"/>
                        </a:lnTo>
                        <a:lnTo>
                          <a:pt x="469" y="400"/>
                        </a:lnTo>
                        <a:lnTo>
                          <a:pt x="505" y="55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Freeform 885"/>
                  <p:cNvSpPr/>
                  <p:nvPr/>
                </p:nvSpPr>
                <p:spPr>
                  <a:xfrm rot="1489200">
                    <a:off x="3956760" y="2904480"/>
                    <a:ext cx="10800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654">
                        <a:moveTo>
                          <a:pt x="22" y="654"/>
                        </a:moveTo>
                        <a:lnTo>
                          <a:pt x="0" y="563"/>
                        </a:lnTo>
                        <a:lnTo>
                          <a:pt x="84" y="365"/>
                        </a:lnTo>
                        <a:lnTo>
                          <a:pt x="88" y="242"/>
                        </a:lnTo>
                        <a:lnTo>
                          <a:pt x="44" y="57"/>
                        </a:lnTo>
                        <a:lnTo>
                          <a:pt x="78" y="0"/>
                        </a:lnTo>
                        <a:lnTo>
                          <a:pt x="135" y="231"/>
                        </a:lnTo>
                        <a:lnTo>
                          <a:pt x="130" y="371"/>
                        </a:lnTo>
                        <a:lnTo>
                          <a:pt x="66" y="558"/>
                        </a:lnTo>
                        <a:lnTo>
                          <a:pt x="84" y="634"/>
                        </a:lnTo>
                        <a:lnTo>
                          <a:pt x="22" y="65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Freeform 886"/>
                  <p:cNvSpPr/>
                  <p:nvPr/>
                </p:nvSpPr>
                <p:spPr>
                  <a:xfrm rot="1489200">
                    <a:off x="3652920" y="2987640"/>
                    <a:ext cx="289080" cy="3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490">
                        <a:moveTo>
                          <a:pt x="365" y="430"/>
                        </a:moveTo>
                        <a:lnTo>
                          <a:pt x="273" y="81"/>
                        </a:lnTo>
                        <a:lnTo>
                          <a:pt x="207" y="24"/>
                        </a:lnTo>
                        <a:lnTo>
                          <a:pt x="176" y="0"/>
                        </a:lnTo>
                        <a:lnTo>
                          <a:pt x="66" y="31"/>
                        </a:lnTo>
                        <a:lnTo>
                          <a:pt x="0" y="145"/>
                        </a:lnTo>
                        <a:lnTo>
                          <a:pt x="31" y="277"/>
                        </a:lnTo>
                        <a:lnTo>
                          <a:pt x="126" y="366"/>
                        </a:lnTo>
                        <a:lnTo>
                          <a:pt x="157" y="490"/>
                        </a:lnTo>
                        <a:lnTo>
                          <a:pt x="365" y="4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Freeform 887"/>
                  <p:cNvSpPr/>
                  <p:nvPr/>
                </p:nvSpPr>
                <p:spPr>
                  <a:xfrm rot="1489200">
                    <a:off x="3791520" y="3247200"/>
                    <a:ext cx="982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82">
                        <a:moveTo>
                          <a:pt x="126" y="154"/>
                        </a:moveTo>
                        <a:lnTo>
                          <a:pt x="86" y="0"/>
                        </a:lnTo>
                        <a:lnTo>
                          <a:pt x="0" y="99"/>
                        </a:lnTo>
                        <a:lnTo>
                          <a:pt x="22" y="182"/>
                        </a:lnTo>
                        <a:lnTo>
                          <a:pt x="126" y="15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Freeform 888"/>
                  <p:cNvSpPr/>
                  <p:nvPr/>
                </p:nvSpPr>
                <p:spPr>
                  <a:xfrm rot="1489200">
                    <a:off x="3652200" y="3222000"/>
                    <a:ext cx="1461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77">
                        <a:moveTo>
                          <a:pt x="0" y="0"/>
                        </a:moveTo>
                        <a:lnTo>
                          <a:pt x="163" y="65"/>
                        </a:lnTo>
                        <a:lnTo>
                          <a:pt x="185" y="150"/>
                        </a:lnTo>
                        <a:lnTo>
                          <a:pt x="90" y="177"/>
                        </a:lnTo>
                        <a:lnTo>
                          <a:pt x="57" y="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Freeform 889"/>
                  <p:cNvSpPr/>
                  <p:nvPr/>
                </p:nvSpPr>
                <p:spPr>
                  <a:xfrm rot="1489200">
                    <a:off x="3667680" y="2920320"/>
                    <a:ext cx="309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388" h="223">
                        <a:moveTo>
                          <a:pt x="71" y="223"/>
                        </a:moveTo>
                        <a:lnTo>
                          <a:pt x="141" y="107"/>
                        </a:lnTo>
                        <a:lnTo>
                          <a:pt x="249" y="78"/>
                        </a:lnTo>
                        <a:lnTo>
                          <a:pt x="356" y="157"/>
                        </a:lnTo>
                        <a:lnTo>
                          <a:pt x="388" y="93"/>
                        </a:lnTo>
                        <a:lnTo>
                          <a:pt x="310" y="24"/>
                        </a:lnTo>
                        <a:lnTo>
                          <a:pt x="254" y="0"/>
                        </a:lnTo>
                        <a:lnTo>
                          <a:pt x="118" y="38"/>
                        </a:lnTo>
                        <a:lnTo>
                          <a:pt x="50" y="76"/>
                        </a:lnTo>
                        <a:lnTo>
                          <a:pt x="0" y="165"/>
                        </a:lnTo>
                        <a:lnTo>
                          <a:pt x="71" y="22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Freeform 890"/>
                  <p:cNvSpPr/>
                  <p:nvPr/>
                </p:nvSpPr>
                <p:spPr>
                  <a:xfrm rot="1489200">
                    <a:off x="3665160" y="2918520"/>
                    <a:ext cx="31284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4" h="232">
                        <a:moveTo>
                          <a:pt x="79" y="221"/>
                        </a:moveTo>
                        <a:lnTo>
                          <a:pt x="69" y="224"/>
                        </a:lnTo>
                        <a:lnTo>
                          <a:pt x="140" y="108"/>
                        </a:lnTo>
                        <a:lnTo>
                          <a:pt x="142" y="108"/>
                        </a:lnTo>
                        <a:lnTo>
                          <a:pt x="250" y="79"/>
                        </a:lnTo>
                        <a:lnTo>
                          <a:pt x="252" y="79"/>
                        </a:lnTo>
                        <a:lnTo>
                          <a:pt x="252" y="77"/>
                        </a:lnTo>
                        <a:lnTo>
                          <a:pt x="254" y="81"/>
                        </a:lnTo>
                        <a:lnTo>
                          <a:pt x="361" y="160"/>
                        </a:lnTo>
                        <a:lnTo>
                          <a:pt x="356" y="160"/>
                        </a:lnTo>
                        <a:lnTo>
                          <a:pt x="384" y="97"/>
                        </a:lnTo>
                        <a:lnTo>
                          <a:pt x="386" y="99"/>
                        </a:lnTo>
                        <a:lnTo>
                          <a:pt x="311" y="31"/>
                        </a:lnTo>
                        <a:lnTo>
                          <a:pt x="311" y="33"/>
                        </a:lnTo>
                        <a:lnTo>
                          <a:pt x="254" y="9"/>
                        </a:lnTo>
                        <a:lnTo>
                          <a:pt x="257" y="9"/>
                        </a:lnTo>
                        <a:lnTo>
                          <a:pt x="121" y="43"/>
                        </a:lnTo>
                        <a:lnTo>
                          <a:pt x="55" y="83"/>
                        </a:lnTo>
                        <a:lnTo>
                          <a:pt x="61" y="81"/>
                        </a:lnTo>
                        <a:lnTo>
                          <a:pt x="9" y="173"/>
                        </a:lnTo>
                        <a:lnTo>
                          <a:pt x="6" y="165"/>
                        </a:lnTo>
                        <a:lnTo>
                          <a:pt x="79" y="221"/>
                        </a:lnTo>
                        <a:lnTo>
                          <a:pt x="71" y="230"/>
                        </a:lnTo>
                        <a:lnTo>
                          <a:pt x="0" y="173"/>
                        </a:lnTo>
                        <a:lnTo>
                          <a:pt x="0" y="163"/>
                        </a:lnTo>
                        <a:lnTo>
                          <a:pt x="50" y="75"/>
                        </a:lnTo>
                        <a:lnTo>
                          <a:pt x="119" y="33"/>
                        </a:lnTo>
                        <a:lnTo>
                          <a:pt x="254" y="0"/>
                        </a:lnTo>
                        <a:lnTo>
                          <a:pt x="257" y="0"/>
                        </a:lnTo>
                        <a:lnTo>
                          <a:pt x="313" y="25"/>
                        </a:lnTo>
                        <a:lnTo>
                          <a:pt x="318" y="25"/>
                        </a:lnTo>
                        <a:lnTo>
                          <a:pt x="394" y="93"/>
                        </a:lnTo>
                        <a:lnTo>
                          <a:pt x="394" y="97"/>
                        </a:lnTo>
                        <a:lnTo>
                          <a:pt x="363" y="163"/>
                        </a:lnTo>
                        <a:lnTo>
                          <a:pt x="358" y="168"/>
                        </a:lnTo>
                        <a:lnTo>
                          <a:pt x="358" y="165"/>
                        </a:lnTo>
                        <a:lnTo>
                          <a:pt x="250" y="86"/>
                        </a:lnTo>
                        <a:lnTo>
                          <a:pt x="252" y="86"/>
                        </a:lnTo>
                        <a:lnTo>
                          <a:pt x="144" y="115"/>
                        </a:lnTo>
                        <a:lnTo>
                          <a:pt x="149" y="115"/>
                        </a:lnTo>
                        <a:lnTo>
                          <a:pt x="79" y="230"/>
                        </a:lnTo>
                        <a:lnTo>
                          <a:pt x="76" y="230"/>
                        </a:lnTo>
                        <a:lnTo>
                          <a:pt x="79" y="230"/>
                        </a:lnTo>
                        <a:lnTo>
                          <a:pt x="76" y="230"/>
                        </a:lnTo>
                        <a:lnTo>
                          <a:pt x="74" y="232"/>
                        </a:lnTo>
                        <a:lnTo>
                          <a:pt x="71" y="230"/>
                        </a:lnTo>
                        <a:lnTo>
                          <a:pt x="79" y="2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Freeform 891"/>
                  <p:cNvSpPr/>
                  <p:nvPr/>
                </p:nvSpPr>
                <p:spPr>
                  <a:xfrm rot="1489200">
                    <a:off x="3528720" y="2961360"/>
                    <a:ext cx="1857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200">
                        <a:moveTo>
                          <a:pt x="234" y="200"/>
                        </a:moveTo>
                        <a:lnTo>
                          <a:pt x="204" y="66"/>
                        </a:lnTo>
                        <a:lnTo>
                          <a:pt x="119" y="0"/>
                        </a:lnTo>
                        <a:lnTo>
                          <a:pt x="0" y="27"/>
                        </a:lnTo>
                        <a:lnTo>
                          <a:pt x="141" y="114"/>
                        </a:lnTo>
                        <a:lnTo>
                          <a:pt x="234" y="2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Freeform 892"/>
                  <p:cNvSpPr/>
                  <p:nvPr/>
                </p:nvSpPr>
                <p:spPr>
                  <a:xfrm rot="1489200">
                    <a:off x="3541320" y="2756880"/>
                    <a:ext cx="53964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80" h="368">
                        <a:moveTo>
                          <a:pt x="83" y="368"/>
                        </a:moveTo>
                        <a:lnTo>
                          <a:pt x="193" y="339"/>
                        </a:lnTo>
                        <a:lnTo>
                          <a:pt x="236" y="244"/>
                        </a:lnTo>
                        <a:lnTo>
                          <a:pt x="304" y="204"/>
                        </a:lnTo>
                        <a:lnTo>
                          <a:pt x="480" y="155"/>
                        </a:lnTo>
                        <a:lnTo>
                          <a:pt x="612" y="212"/>
                        </a:lnTo>
                        <a:lnTo>
                          <a:pt x="680" y="103"/>
                        </a:lnTo>
                        <a:lnTo>
                          <a:pt x="540" y="23"/>
                        </a:lnTo>
                        <a:lnTo>
                          <a:pt x="433" y="0"/>
                        </a:lnTo>
                        <a:lnTo>
                          <a:pt x="256" y="50"/>
                        </a:lnTo>
                        <a:lnTo>
                          <a:pt x="124" y="155"/>
                        </a:lnTo>
                        <a:lnTo>
                          <a:pt x="0" y="322"/>
                        </a:lnTo>
                        <a:lnTo>
                          <a:pt x="83" y="36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Freeform 893"/>
                  <p:cNvSpPr/>
                  <p:nvPr/>
                </p:nvSpPr>
                <p:spPr>
                  <a:xfrm rot="1489200">
                    <a:off x="3439440" y="2481840"/>
                    <a:ext cx="865080" cy="5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9" h="660">
                        <a:moveTo>
                          <a:pt x="0" y="338"/>
                        </a:moveTo>
                        <a:lnTo>
                          <a:pt x="252" y="465"/>
                        </a:lnTo>
                        <a:lnTo>
                          <a:pt x="402" y="316"/>
                        </a:lnTo>
                        <a:lnTo>
                          <a:pt x="351" y="131"/>
                        </a:lnTo>
                        <a:lnTo>
                          <a:pt x="409" y="115"/>
                        </a:lnTo>
                        <a:lnTo>
                          <a:pt x="459" y="300"/>
                        </a:lnTo>
                        <a:lnTo>
                          <a:pt x="649" y="252"/>
                        </a:lnTo>
                        <a:lnTo>
                          <a:pt x="865" y="330"/>
                        </a:lnTo>
                        <a:lnTo>
                          <a:pt x="837" y="217"/>
                        </a:lnTo>
                        <a:lnTo>
                          <a:pt x="878" y="104"/>
                        </a:lnTo>
                        <a:lnTo>
                          <a:pt x="795" y="11"/>
                        </a:lnTo>
                        <a:lnTo>
                          <a:pt x="827" y="0"/>
                        </a:lnTo>
                        <a:lnTo>
                          <a:pt x="1089" y="177"/>
                        </a:lnTo>
                        <a:lnTo>
                          <a:pt x="1064" y="224"/>
                        </a:lnTo>
                        <a:lnTo>
                          <a:pt x="920" y="146"/>
                        </a:lnTo>
                        <a:lnTo>
                          <a:pt x="876" y="219"/>
                        </a:lnTo>
                        <a:lnTo>
                          <a:pt x="918" y="346"/>
                        </a:lnTo>
                        <a:lnTo>
                          <a:pt x="971" y="379"/>
                        </a:lnTo>
                        <a:lnTo>
                          <a:pt x="922" y="434"/>
                        </a:lnTo>
                        <a:lnTo>
                          <a:pt x="791" y="351"/>
                        </a:lnTo>
                        <a:lnTo>
                          <a:pt x="646" y="305"/>
                        </a:lnTo>
                        <a:lnTo>
                          <a:pt x="441" y="363"/>
                        </a:lnTo>
                        <a:lnTo>
                          <a:pt x="282" y="502"/>
                        </a:lnTo>
                        <a:lnTo>
                          <a:pt x="178" y="660"/>
                        </a:lnTo>
                        <a:lnTo>
                          <a:pt x="142" y="642"/>
                        </a:lnTo>
                        <a:lnTo>
                          <a:pt x="165" y="598"/>
                        </a:lnTo>
                        <a:lnTo>
                          <a:pt x="59" y="544"/>
                        </a:lnTo>
                        <a:lnTo>
                          <a:pt x="0" y="33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Freeform 894"/>
                  <p:cNvSpPr/>
                  <p:nvPr/>
                </p:nvSpPr>
                <p:spPr>
                  <a:xfrm rot="1489200">
                    <a:off x="3432600" y="2634480"/>
                    <a:ext cx="1634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180">
                        <a:moveTo>
                          <a:pt x="31" y="108"/>
                        </a:moveTo>
                        <a:lnTo>
                          <a:pt x="168" y="180"/>
                        </a:lnTo>
                        <a:lnTo>
                          <a:pt x="205" y="108"/>
                        </a:lnTo>
                        <a:lnTo>
                          <a:pt x="0" y="0"/>
                        </a:lnTo>
                        <a:lnTo>
                          <a:pt x="31" y="10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Freeform 895"/>
                  <p:cNvSpPr/>
                  <p:nvPr/>
                </p:nvSpPr>
                <p:spPr>
                  <a:xfrm rot="1489200">
                    <a:off x="3593520" y="2497320"/>
                    <a:ext cx="191880" cy="26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329">
                        <a:moveTo>
                          <a:pt x="96" y="329"/>
                        </a:moveTo>
                        <a:lnTo>
                          <a:pt x="243" y="174"/>
                        </a:lnTo>
                        <a:lnTo>
                          <a:pt x="198" y="0"/>
                        </a:lnTo>
                        <a:lnTo>
                          <a:pt x="95" y="26"/>
                        </a:lnTo>
                        <a:lnTo>
                          <a:pt x="0" y="274"/>
                        </a:lnTo>
                        <a:lnTo>
                          <a:pt x="96" y="32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Freeform 896"/>
                  <p:cNvSpPr/>
                  <p:nvPr/>
                </p:nvSpPr>
                <p:spPr>
                  <a:xfrm rot="1489200">
                    <a:off x="3466800" y="2468880"/>
                    <a:ext cx="16812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06">
                        <a:moveTo>
                          <a:pt x="27" y="158"/>
                        </a:moveTo>
                        <a:lnTo>
                          <a:pt x="127" y="206"/>
                        </a:lnTo>
                        <a:lnTo>
                          <a:pt x="211" y="0"/>
                        </a:lnTo>
                        <a:lnTo>
                          <a:pt x="0" y="59"/>
                        </a:lnTo>
                        <a:lnTo>
                          <a:pt x="27" y="15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Freeform 897"/>
                  <p:cNvSpPr/>
                  <p:nvPr/>
                </p:nvSpPr>
                <p:spPr>
                  <a:xfrm rot="1489200">
                    <a:off x="3815640" y="2535840"/>
                    <a:ext cx="3682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4" h="316">
                        <a:moveTo>
                          <a:pt x="20" y="163"/>
                        </a:moveTo>
                        <a:lnTo>
                          <a:pt x="0" y="103"/>
                        </a:lnTo>
                        <a:lnTo>
                          <a:pt x="379" y="0"/>
                        </a:lnTo>
                        <a:lnTo>
                          <a:pt x="464" y="92"/>
                        </a:lnTo>
                        <a:lnTo>
                          <a:pt x="422" y="197"/>
                        </a:lnTo>
                        <a:lnTo>
                          <a:pt x="448" y="316"/>
                        </a:lnTo>
                        <a:lnTo>
                          <a:pt x="325" y="268"/>
                        </a:lnTo>
                        <a:lnTo>
                          <a:pt x="237" y="234"/>
                        </a:lnTo>
                        <a:lnTo>
                          <a:pt x="174" y="250"/>
                        </a:lnTo>
                        <a:lnTo>
                          <a:pt x="146" y="126"/>
                        </a:lnTo>
                        <a:lnTo>
                          <a:pt x="20" y="16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Freeform 898"/>
                  <p:cNvSpPr/>
                  <p:nvPr/>
                </p:nvSpPr>
                <p:spPr>
                  <a:xfrm rot="1489200">
                    <a:off x="4126680" y="2741040"/>
                    <a:ext cx="14796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236">
                        <a:moveTo>
                          <a:pt x="96" y="236"/>
                        </a:moveTo>
                        <a:lnTo>
                          <a:pt x="185" y="86"/>
                        </a:lnTo>
                        <a:lnTo>
                          <a:pt x="44" y="0"/>
                        </a:lnTo>
                        <a:lnTo>
                          <a:pt x="0" y="78"/>
                        </a:lnTo>
                        <a:lnTo>
                          <a:pt x="40" y="200"/>
                        </a:lnTo>
                        <a:lnTo>
                          <a:pt x="96" y="2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Freeform 899"/>
                  <p:cNvSpPr/>
                  <p:nvPr/>
                </p:nvSpPr>
                <p:spPr>
                  <a:xfrm rot="1489200">
                    <a:off x="4266000" y="2602440"/>
                    <a:ext cx="2188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75">
                        <a:moveTo>
                          <a:pt x="130" y="275"/>
                        </a:moveTo>
                        <a:lnTo>
                          <a:pt x="0" y="187"/>
                        </a:lnTo>
                        <a:lnTo>
                          <a:pt x="71" y="54"/>
                        </a:lnTo>
                        <a:lnTo>
                          <a:pt x="260" y="0"/>
                        </a:lnTo>
                        <a:lnTo>
                          <a:pt x="276" y="57"/>
                        </a:lnTo>
                        <a:lnTo>
                          <a:pt x="130" y="27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Freeform 900"/>
                  <p:cNvSpPr/>
                  <p:nvPr/>
                </p:nvSpPr>
                <p:spPr>
                  <a:xfrm rot="1489200">
                    <a:off x="4293720" y="2749320"/>
                    <a:ext cx="15876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212">
                        <a:moveTo>
                          <a:pt x="0" y="158"/>
                        </a:moveTo>
                        <a:lnTo>
                          <a:pt x="82" y="212"/>
                        </a:lnTo>
                        <a:lnTo>
                          <a:pt x="142" y="194"/>
                        </a:lnTo>
                        <a:lnTo>
                          <a:pt x="92" y="138"/>
                        </a:lnTo>
                        <a:lnTo>
                          <a:pt x="201" y="143"/>
                        </a:lnTo>
                        <a:lnTo>
                          <a:pt x="169" y="24"/>
                        </a:lnTo>
                        <a:lnTo>
                          <a:pt x="105" y="0"/>
                        </a:lnTo>
                        <a:lnTo>
                          <a:pt x="22" y="121"/>
                        </a:lnTo>
                        <a:lnTo>
                          <a:pt x="0" y="15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Freeform 901"/>
                  <p:cNvSpPr/>
                  <p:nvPr/>
                </p:nvSpPr>
                <p:spPr>
                  <a:xfrm rot="1489200">
                    <a:off x="4191480" y="2900880"/>
                    <a:ext cx="1810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57">
                        <a:moveTo>
                          <a:pt x="156" y="0"/>
                        </a:moveTo>
                        <a:lnTo>
                          <a:pt x="159" y="41"/>
                        </a:lnTo>
                        <a:lnTo>
                          <a:pt x="227" y="65"/>
                        </a:lnTo>
                        <a:lnTo>
                          <a:pt x="165" y="83"/>
                        </a:lnTo>
                        <a:lnTo>
                          <a:pt x="154" y="136"/>
                        </a:lnTo>
                        <a:lnTo>
                          <a:pt x="120" y="101"/>
                        </a:lnTo>
                        <a:lnTo>
                          <a:pt x="89" y="157"/>
                        </a:lnTo>
                        <a:lnTo>
                          <a:pt x="50" y="127"/>
                        </a:lnTo>
                        <a:lnTo>
                          <a:pt x="71" y="94"/>
                        </a:lnTo>
                        <a:lnTo>
                          <a:pt x="0" y="91"/>
                        </a:lnTo>
                        <a:lnTo>
                          <a:pt x="39" y="69"/>
                        </a:lnTo>
                        <a:lnTo>
                          <a:pt x="21" y="36"/>
                        </a:lnTo>
                        <a:lnTo>
                          <a:pt x="95" y="51"/>
                        </a:lnTo>
                        <a:lnTo>
                          <a:pt x="120" y="11"/>
                        </a:lnTo>
                        <a:lnTo>
                          <a:pt x="156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Freeform 902"/>
                  <p:cNvSpPr/>
                  <p:nvPr/>
                </p:nvSpPr>
                <p:spPr>
                  <a:xfrm rot="1489200">
                    <a:off x="4354200" y="2918880"/>
                    <a:ext cx="666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36">
                        <a:moveTo>
                          <a:pt x="0" y="21"/>
                        </a:moveTo>
                        <a:lnTo>
                          <a:pt x="12" y="78"/>
                        </a:lnTo>
                        <a:lnTo>
                          <a:pt x="39" y="70"/>
                        </a:lnTo>
                        <a:lnTo>
                          <a:pt x="54" y="136"/>
                        </a:lnTo>
                        <a:lnTo>
                          <a:pt x="67" y="70"/>
                        </a:lnTo>
                        <a:lnTo>
                          <a:pt x="83" y="65"/>
                        </a:lnTo>
                        <a:lnTo>
                          <a:pt x="72" y="0"/>
                        </a:lnTo>
                        <a:lnTo>
                          <a:pt x="50" y="23"/>
                        </a:lnTo>
                        <a:lnTo>
                          <a:pt x="45" y="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Freeform 903"/>
                  <p:cNvSpPr/>
                  <p:nvPr/>
                </p:nvSpPr>
                <p:spPr>
                  <a:xfrm rot="1489200">
                    <a:off x="3816360" y="2583720"/>
                    <a:ext cx="13320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62">
                        <a:moveTo>
                          <a:pt x="38" y="162"/>
                        </a:moveTo>
                        <a:lnTo>
                          <a:pt x="167" y="129"/>
                        </a:lnTo>
                        <a:lnTo>
                          <a:pt x="137" y="0"/>
                        </a:lnTo>
                        <a:lnTo>
                          <a:pt x="0" y="41"/>
                        </a:lnTo>
                        <a:lnTo>
                          <a:pt x="38" y="16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Freeform 904"/>
                  <p:cNvSpPr/>
                  <p:nvPr/>
                </p:nvSpPr>
                <p:spPr>
                  <a:xfrm rot="1489200">
                    <a:off x="3668040" y="2897280"/>
                    <a:ext cx="32724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198">
                        <a:moveTo>
                          <a:pt x="28" y="198"/>
                        </a:moveTo>
                        <a:lnTo>
                          <a:pt x="74" y="119"/>
                        </a:lnTo>
                        <a:lnTo>
                          <a:pt x="124" y="81"/>
                        </a:lnTo>
                        <a:lnTo>
                          <a:pt x="269" y="41"/>
                        </a:lnTo>
                        <a:lnTo>
                          <a:pt x="325" y="63"/>
                        </a:lnTo>
                        <a:lnTo>
                          <a:pt x="400" y="121"/>
                        </a:lnTo>
                        <a:lnTo>
                          <a:pt x="413" y="60"/>
                        </a:lnTo>
                        <a:lnTo>
                          <a:pt x="285" y="0"/>
                        </a:lnTo>
                        <a:lnTo>
                          <a:pt x="104" y="50"/>
                        </a:lnTo>
                        <a:lnTo>
                          <a:pt x="34" y="97"/>
                        </a:lnTo>
                        <a:lnTo>
                          <a:pt x="0" y="179"/>
                        </a:lnTo>
                        <a:lnTo>
                          <a:pt x="28" y="19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Freeform 905"/>
                  <p:cNvSpPr/>
                  <p:nvPr/>
                </p:nvSpPr>
                <p:spPr>
                  <a:xfrm rot="1489200">
                    <a:off x="3909600" y="2937240"/>
                    <a:ext cx="12528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490">
                        <a:moveTo>
                          <a:pt x="0" y="237"/>
                        </a:moveTo>
                        <a:lnTo>
                          <a:pt x="68" y="490"/>
                        </a:lnTo>
                        <a:lnTo>
                          <a:pt x="146" y="315"/>
                        </a:lnTo>
                        <a:lnTo>
                          <a:pt x="157" y="189"/>
                        </a:lnTo>
                        <a:lnTo>
                          <a:pt x="108" y="0"/>
                        </a:lnTo>
                        <a:lnTo>
                          <a:pt x="44" y="106"/>
                        </a:lnTo>
                        <a:lnTo>
                          <a:pt x="34" y="166"/>
                        </a:lnTo>
                        <a:lnTo>
                          <a:pt x="0" y="23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Freeform 906"/>
                  <p:cNvSpPr/>
                  <p:nvPr/>
                </p:nvSpPr>
                <p:spPr>
                  <a:xfrm rot="1489200">
                    <a:off x="3567240" y="2486880"/>
                    <a:ext cx="1141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245">
                        <a:moveTo>
                          <a:pt x="77" y="18"/>
                        </a:moveTo>
                        <a:lnTo>
                          <a:pt x="144" y="0"/>
                        </a:lnTo>
                        <a:lnTo>
                          <a:pt x="46" y="245"/>
                        </a:lnTo>
                        <a:lnTo>
                          <a:pt x="0" y="223"/>
                        </a:lnTo>
                        <a:lnTo>
                          <a:pt x="7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Freeform 907"/>
                  <p:cNvSpPr/>
                  <p:nvPr/>
                </p:nvSpPr>
                <p:spPr>
                  <a:xfrm rot="1489200">
                    <a:off x="3430080" y="2747880"/>
                    <a:ext cx="84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88">
                        <a:moveTo>
                          <a:pt x="0" y="0"/>
                        </a:moveTo>
                        <a:lnTo>
                          <a:pt x="105" y="52"/>
                        </a:lnTo>
                        <a:lnTo>
                          <a:pt x="88" y="88"/>
                        </a:lnTo>
                        <a:lnTo>
                          <a:pt x="16" y="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Freeform 908"/>
                  <p:cNvSpPr/>
                  <p:nvPr/>
                </p:nvSpPr>
                <p:spPr>
                  <a:xfrm rot="1489200">
                    <a:off x="3583080" y="2861280"/>
                    <a:ext cx="7164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91" h="100">
                        <a:moveTo>
                          <a:pt x="33" y="100"/>
                        </a:moveTo>
                        <a:lnTo>
                          <a:pt x="0" y="63"/>
                        </a:lnTo>
                        <a:lnTo>
                          <a:pt x="11" y="12"/>
                        </a:lnTo>
                        <a:lnTo>
                          <a:pt x="54" y="0"/>
                        </a:lnTo>
                        <a:lnTo>
                          <a:pt x="91" y="37"/>
                        </a:lnTo>
                        <a:lnTo>
                          <a:pt x="81" y="89"/>
                        </a:lnTo>
                        <a:lnTo>
                          <a:pt x="33" y="10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Freeform 909"/>
                  <p:cNvSpPr/>
                  <p:nvPr/>
                </p:nvSpPr>
                <p:spPr>
                  <a:xfrm rot="1489200">
                    <a:off x="3683880" y="2814480"/>
                    <a:ext cx="8244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3">
                        <a:moveTo>
                          <a:pt x="36" y="103"/>
                        </a:moveTo>
                        <a:lnTo>
                          <a:pt x="0" y="66"/>
                        </a:lnTo>
                        <a:lnTo>
                          <a:pt x="19" y="11"/>
                        </a:lnTo>
                        <a:lnTo>
                          <a:pt x="69" y="0"/>
                        </a:lnTo>
                        <a:lnTo>
                          <a:pt x="103" y="38"/>
                        </a:lnTo>
                        <a:lnTo>
                          <a:pt x="89" y="91"/>
                        </a:lnTo>
                        <a:lnTo>
                          <a:pt x="36" y="1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Freeform 910"/>
                  <p:cNvSpPr/>
                  <p:nvPr/>
                </p:nvSpPr>
                <p:spPr>
                  <a:xfrm rot="1489200">
                    <a:off x="3800520" y="2806200"/>
                    <a:ext cx="824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15">
                        <a:moveTo>
                          <a:pt x="42" y="115"/>
                        </a:moveTo>
                        <a:lnTo>
                          <a:pt x="0" y="70"/>
                        </a:lnTo>
                        <a:lnTo>
                          <a:pt x="13" y="16"/>
                        </a:lnTo>
                        <a:lnTo>
                          <a:pt x="68" y="0"/>
                        </a:lnTo>
                        <a:lnTo>
                          <a:pt x="105" y="43"/>
                        </a:lnTo>
                        <a:lnTo>
                          <a:pt x="94" y="102"/>
                        </a:lnTo>
                        <a:lnTo>
                          <a:pt x="42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Freeform 911"/>
                  <p:cNvSpPr/>
                  <p:nvPr/>
                </p:nvSpPr>
                <p:spPr>
                  <a:xfrm rot="1489200">
                    <a:off x="3907080" y="2843640"/>
                    <a:ext cx="7452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95">
                        <a:moveTo>
                          <a:pt x="36" y="95"/>
                        </a:moveTo>
                        <a:lnTo>
                          <a:pt x="0" y="57"/>
                        </a:lnTo>
                        <a:lnTo>
                          <a:pt x="12" y="9"/>
                        </a:lnTo>
                        <a:lnTo>
                          <a:pt x="57" y="0"/>
                        </a:lnTo>
                        <a:lnTo>
                          <a:pt x="92" y="33"/>
                        </a:lnTo>
                        <a:lnTo>
                          <a:pt x="79" y="86"/>
                        </a:lnTo>
                        <a:lnTo>
                          <a:pt x="36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Freeform 912"/>
                  <p:cNvSpPr/>
                  <p:nvPr/>
                </p:nvSpPr>
                <p:spPr>
                  <a:xfrm rot="1489200">
                    <a:off x="3979800" y="2908080"/>
                    <a:ext cx="5724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95">
                        <a:moveTo>
                          <a:pt x="30" y="95"/>
                        </a:moveTo>
                        <a:lnTo>
                          <a:pt x="0" y="57"/>
                        </a:lnTo>
                        <a:lnTo>
                          <a:pt x="8" y="12"/>
                        </a:lnTo>
                        <a:lnTo>
                          <a:pt x="41" y="0"/>
                        </a:lnTo>
                        <a:lnTo>
                          <a:pt x="72" y="36"/>
                        </a:lnTo>
                        <a:lnTo>
                          <a:pt x="66" y="84"/>
                        </a:lnTo>
                        <a:lnTo>
                          <a:pt x="3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Freeform 913"/>
                  <p:cNvSpPr/>
                  <p:nvPr/>
                </p:nvSpPr>
                <p:spPr>
                  <a:xfrm rot="1489200">
                    <a:off x="3732840" y="3081960"/>
                    <a:ext cx="698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25">
                        <a:moveTo>
                          <a:pt x="0" y="125"/>
                        </a:moveTo>
                        <a:lnTo>
                          <a:pt x="88" y="107"/>
                        </a:lnTo>
                        <a:lnTo>
                          <a:pt x="5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Line 914"/>
                  <p:cNvSpPr/>
                  <p:nvPr/>
                </p:nvSpPr>
                <p:spPr>
                  <a:xfrm flipH="1" flipV="1">
                    <a:off x="3812760" y="3209760"/>
                    <a:ext cx="70920" cy="133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Line 915"/>
                  <p:cNvSpPr/>
                  <p:nvPr/>
                </p:nvSpPr>
                <p:spPr>
                  <a:xfrm flipH="1" flipV="1">
                    <a:off x="3697560" y="3189600"/>
                    <a:ext cx="65160" cy="108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Line 916"/>
                  <p:cNvSpPr/>
                  <p:nvPr/>
                </p:nvSpPr>
                <p:spPr>
                  <a:xfrm flipH="1" flipV="1">
                    <a:off x="3835800" y="3185280"/>
                    <a:ext cx="50760" cy="115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Freeform 917"/>
                  <p:cNvSpPr/>
                  <p:nvPr/>
                </p:nvSpPr>
                <p:spPr>
                  <a:xfrm rot="1489200">
                    <a:off x="3777840" y="3084120"/>
                    <a:ext cx="457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15">
                        <a:moveTo>
                          <a:pt x="59" y="0"/>
                        </a:moveTo>
                        <a:lnTo>
                          <a:pt x="0" y="15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Line 918"/>
                  <p:cNvSpPr/>
                  <p:nvPr/>
                </p:nvSpPr>
                <p:spPr>
                  <a:xfrm flipV="1">
                    <a:off x="3808800" y="3016800"/>
                    <a:ext cx="3960" cy="280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Freeform 919"/>
                  <p:cNvSpPr/>
                  <p:nvPr/>
                </p:nvSpPr>
                <p:spPr>
                  <a:xfrm rot="1489200">
                    <a:off x="4180680" y="2593440"/>
                    <a:ext cx="15552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34">
                        <a:moveTo>
                          <a:pt x="0" y="51"/>
                        </a:moveTo>
                        <a:lnTo>
                          <a:pt x="118" y="134"/>
                        </a:lnTo>
                        <a:lnTo>
                          <a:pt x="195" y="0"/>
                        </a:lnTo>
                        <a:lnTo>
                          <a:pt x="0" y="51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Freeform 920"/>
                  <p:cNvSpPr/>
                  <p:nvPr/>
                </p:nvSpPr>
                <p:spPr>
                  <a:xfrm rot="1489200">
                    <a:off x="3411360" y="3044880"/>
                    <a:ext cx="22068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331">
                        <a:moveTo>
                          <a:pt x="280" y="317"/>
                        </a:moveTo>
                        <a:lnTo>
                          <a:pt x="251" y="186"/>
                        </a:lnTo>
                        <a:lnTo>
                          <a:pt x="151" y="83"/>
                        </a:lnTo>
                        <a:lnTo>
                          <a:pt x="20" y="0"/>
                        </a:lnTo>
                        <a:lnTo>
                          <a:pt x="0" y="28"/>
                        </a:lnTo>
                        <a:lnTo>
                          <a:pt x="119" y="105"/>
                        </a:lnTo>
                        <a:lnTo>
                          <a:pt x="201" y="198"/>
                        </a:lnTo>
                        <a:lnTo>
                          <a:pt x="230" y="331"/>
                        </a:lnTo>
                        <a:lnTo>
                          <a:pt x="280" y="317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Line 921"/>
                  <p:cNvSpPr/>
                  <p:nvPr/>
                </p:nvSpPr>
                <p:spPr>
                  <a:xfrm flipH="1" flipV="1">
                    <a:off x="3781800" y="3043080"/>
                    <a:ext cx="64080" cy="12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41" name="Group 999"/>
          <p:cNvGrpSpPr/>
          <p:nvPr/>
        </p:nvGrpSpPr>
        <p:grpSpPr>
          <a:xfrm>
            <a:off x="2753640" y="1143000"/>
            <a:ext cx="3026520" cy="3250440"/>
            <a:chOff x="2753640" y="1143000"/>
            <a:chExt cx="3026520" cy="3250440"/>
          </a:xfrm>
        </p:grpSpPr>
        <p:grpSp>
          <p:nvGrpSpPr>
            <p:cNvPr id="342" name="Group 740"/>
            <p:cNvGrpSpPr/>
            <p:nvPr/>
          </p:nvGrpSpPr>
          <p:grpSpPr>
            <a:xfrm>
              <a:off x="2753640" y="1143000"/>
              <a:ext cx="2961720" cy="3212640"/>
              <a:chOff x="2753640" y="1143000"/>
              <a:chExt cx="2961720" cy="3212640"/>
            </a:xfrm>
          </p:grpSpPr>
          <p:sp>
            <p:nvSpPr>
              <p:cNvPr id="343" name="Freeform 741"/>
              <p:cNvSpPr/>
              <p:nvPr/>
            </p:nvSpPr>
            <p:spPr>
              <a:xfrm rot="1802400">
                <a:off x="3276360" y="1447560"/>
                <a:ext cx="1915920" cy="2603160"/>
              </a:xfrm>
              <a:custGeom>
                <a:avLst/>
                <a:gdLst/>
                <a:ahLst/>
                <a:rect l="l" t="t" r="r" b="b"/>
                <a:pathLst>
                  <a:path w="2416" h="3279">
                    <a:moveTo>
                      <a:pt x="41" y="316"/>
                    </a:moveTo>
                    <a:lnTo>
                      <a:pt x="88" y="266"/>
                    </a:lnTo>
                    <a:lnTo>
                      <a:pt x="150" y="245"/>
                    </a:lnTo>
                    <a:lnTo>
                      <a:pt x="1848" y="0"/>
                    </a:lnTo>
                    <a:lnTo>
                      <a:pt x="1914" y="33"/>
                    </a:lnTo>
                    <a:lnTo>
                      <a:pt x="1967" y="75"/>
                    </a:lnTo>
                    <a:lnTo>
                      <a:pt x="1997" y="169"/>
                    </a:lnTo>
                    <a:lnTo>
                      <a:pt x="2416" y="2894"/>
                    </a:lnTo>
                    <a:lnTo>
                      <a:pt x="2416" y="2960"/>
                    </a:lnTo>
                    <a:lnTo>
                      <a:pt x="2387" y="3017"/>
                    </a:lnTo>
                    <a:lnTo>
                      <a:pt x="2317" y="3048"/>
                    </a:lnTo>
                    <a:lnTo>
                      <a:pt x="2240" y="3070"/>
                    </a:lnTo>
                    <a:lnTo>
                      <a:pt x="648" y="3278"/>
                    </a:lnTo>
                    <a:lnTo>
                      <a:pt x="547" y="3279"/>
                    </a:lnTo>
                    <a:lnTo>
                      <a:pt x="457" y="3234"/>
                    </a:lnTo>
                    <a:lnTo>
                      <a:pt x="430" y="3146"/>
                    </a:lnTo>
                    <a:lnTo>
                      <a:pt x="0" y="420"/>
                    </a:lnTo>
                    <a:lnTo>
                      <a:pt x="10" y="359"/>
                    </a:lnTo>
                    <a:lnTo>
                      <a:pt x="41" y="316"/>
                    </a:lnTo>
                    <a:close/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Group 742"/>
              <p:cNvGrpSpPr/>
              <p:nvPr/>
            </p:nvGrpSpPr>
            <p:grpSpPr>
              <a:xfrm>
                <a:off x="3160800" y="1426680"/>
                <a:ext cx="2142720" cy="2690280"/>
                <a:chOff x="3160800" y="1426680"/>
                <a:chExt cx="2142720" cy="2690280"/>
              </a:xfrm>
            </p:grpSpPr>
            <p:sp>
              <p:nvSpPr>
                <p:cNvPr id="345" name="Freeform 743"/>
                <p:cNvSpPr/>
                <p:nvPr/>
              </p:nvSpPr>
              <p:spPr>
                <a:xfrm rot="1802400">
                  <a:off x="3927240" y="1452960"/>
                  <a:ext cx="169560" cy="239400"/>
                </a:xfrm>
                <a:custGeom>
                  <a:avLst/>
                  <a:gdLst/>
                  <a:ahLst/>
                  <a:rect l="l" t="t" r="r" b="b"/>
                  <a:pathLst>
                    <a:path w="215" h="303">
                      <a:moveTo>
                        <a:pt x="53" y="15"/>
                      </a:moveTo>
                      <a:lnTo>
                        <a:pt x="0" y="20"/>
                      </a:lnTo>
                      <a:lnTo>
                        <a:pt x="30" y="303"/>
                      </a:lnTo>
                      <a:lnTo>
                        <a:pt x="91" y="286"/>
                      </a:lnTo>
                      <a:lnTo>
                        <a:pt x="78" y="187"/>
                      </a:lnTo>
                      <a:lnTo>
                        <a:pt x="136" y="270"/>
                      </a:lnTo>
                      <a:lnTo>
                        <a:pt x="215" y="260"/>
                      </a:lnTo>
                      <a:lnTo>
                        <a:pt x="125" y="143"/>
                      </a:lnTo>
                      <a:lnTo>
                        <a:pt x="168" y="0"/>
                      </a:lnTo>
                      <a:lnTo>
                        <a:pt x="102" y="8"/>
                      </a:lnTo>
                      <a:lnTo>
                        <a:pt x="72" y="121"/>
                      </a:lnTo>
                      <a:lnTo>
                        <a:pt x="53" y="1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744"/>
                <p:cNvSpPr/>
                <p:nvPr/>
              </p:nvSpPr>
              <p:spPr>
                <a:xfrm rot="1802400">
                  <a:off x="4383000" y="3886200"/>
                  <a:ext cx="158400" cy="204480"/>
                </a:xfrm>
                <a:custGeom>
                  <a:avLst/>
                  <a:gdLst/>
                  <a:ahLst/>
                  <a:rect l="l" t="t" r="r" b="b"/>
                  <a:pathLst>
                    <a:path w="200" h="259">
                      <a:moveTo>
                        <a:pt x="148" y="245"/>
                      </a:moveTo>
                      <a:lnTo>
                        <a:pt x="200" y="242"/>
                      </a:lnTo>
                      <a:lnTo>
                        <a:pt x="171" y="0"/>
                      </a:lnTo>
                      <a:lnTo>
                        <a:pt x="111" y="8"/>
                      </a:lnTo>
                      <a:lnTo>
                        <a:pt x="123" y="91"/>
                      </a:lnTo>
                      <a:lnTo>
                        <a:pt x="67" y="16"/>
                      </a:lnTo>
                      <a:lnTo>
                        <a:pt x="0" y="25"/>
                      </a:lnTo>
                      <a:lnTo>
                        <a:pt x="77" y="130"/>
                      </a:lnTo>
                      <a:lnTo>
                        <a:pt x="35" y="259"/>
                      </a:lnTo>
                      <a:lnTo>
                        <a:pt x="101" y="253"/>
                      </a:lnTo>
                      <a:lnTo>
                        <a:pt x="129" y="150"/>
                      </a:lnTo>
                      <a:lnTo>
                        <a:pt x="148" y="24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Freeform 745"/>
                <p:cNvSpPr/>
                <p:nvPr/>
              </p:nvSpPr>
              <p:spPr>
                <a:xfrm rot="1802400">
                  <a:off x="3815280" y="1689840"/>
                  <a:ext cx="129960" cy="242640"/>
                </a:xfrm>
                <a:custGeom>
                  <a:avLst/>
                  <a:gdLst/>
                  <a:ahLst/>
                  <a:rect l="l" t="t" r="r" b="b"/>
                  <a:pathLst>
                    <a:path w="165" h="306">
                      <a:moveTo>
                        <a:pt x="50" y="0"/>
                      </a:moveTo>
                      <a:lnTo>
                        <a:pt x="0" y="186"/>
                      </a:lnTo>
                      <a:lnTo>
                        <a:pt x="125" y="306"/>
                      </a:lnTo>
                      <a:lnTo>
                        <a:pt x="165" y="131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746"/>
                <p:cNvSpPr/>
                <p:nvPr/>
              </p:nvSpPr>
              <p:spPr>
                <a:xfrm rot="1802400">
                  <a:off x="4499280" y="3643560"/>
                  <a:ext cx="129600" cy="242640"/>
                </a:xfrm>
                <a:custGeom>
                  <a:avLst/>
                  <a:gdLst/>
                  <a:ahLst/>
                  <a:rect l="l" t="t" r="r" b="b"/>
                  <a:pathLst>
                    <a:path w="164" h="305">
                      <a:moveTo>
                        <a:pt x="50" y="0"/>
                      </a:moveTo>
                      <a:lnTo>
                        <a:pt x="0" y="185"/>
                      </a:lnTo>
                      <a:lnTo>
                        <a:pt x="124" y="305"/>
                      </a:lnTo>
                      <a:lnTo>
                        <a:pt x="164" y="130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9" name="Group 747"/>
                <p:cNvGrpSpPr/>
                <p:nvPr/>
              </p:nvGrpSpPr>
              <p:grpSpPr>
                <a:xfrm>
                  <a:off x="3160800" y="1615680"/>
                  <a:ext cx="2142720" cy="2318040"/>
                  <a:chOff x="3160800" y="1615680"/>
                  <a:chExt cx="2142720" cy="2318040"/>
                </a:xfrm>
              </p:grpSpPr>
              <p:sp>
                <p:nvSpPr>
                  <p:cNvPr id="350" name="Freeform 748"/>
                  <p:cNvSpPr/>
                  <p:nvPr/>
                </p:nvSpPr>
                <p:spPr>
                  <a:xfrm rot="1802400">
                    <a:off x="3536280" y="1838160"/>
                    <a:ext cx="1391760" cy="18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3" h="2359">
                        <a:moveTo>
                          <a:pt x="0" y="208"/>
                        </a:moveTo>
                        <a:lnTo>
                          <a:pt x="1414" y="0"/>
                        </a:lnTo>
                        <a:lnTo>
                          <a:pt x="1753" y="2182"/>
                        </a:lnTo>
                        <a:lnTo>
                          <a:pt x="357" y="2359"/>
                        </a:lnTo>
                        <a:lnTo>
                          <a:pt x="0" y="208"/>
                        </a:lnTo>
                        <a:close/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1" name="Group 749"/>
                  <p:cNvGrpSpPr/>
                  <p:nvPr/>
                </p:nvGrpSpPr>
                <p:grpSpPr>
                  <a:xfrm>
                    <a:off x="3687480" y="1797840"/>
                    <a:ext cx="1436040" cy="1323000"/>
                    <a:chOff x="3687480" y="1797840"/>
                    <a:chExt cx="1436040" cy="1323000"/>
                  </a:xfrm>
                </p:grpSpPr>
                <p:sp>
                  <p:nvSpPr>
                    <p:cNvPr id="352" name="Freeform 750"/>
                    <p:cNvSpPr/>
                    <p:nvPr/>
                  </p:nvSpPr>
                  <p:spPr>
                    <a:xfrm rot="1802400">
                      <a:off x="3976920" y="1860840"/>
                      <a:ext cx="229680" cy="40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9" h="514">
                          <a:moveTo>
                            <a:pt x="102" y="0"/>
                          </a:moveTo>
                          <a:lnTo>
                            <a:pt x="0" y="272"/>
                          </a:lnTo>
                          <a:lnTo>
                            <a:pt x="187" y="514"/>
                          </a:lnTo>
                          <a:lnTo>
                            <a:pt x="289" y="236"/>
                          </a:lnTo>
                          <a:lnTo>
                            <a:pt x="102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3" name="Group 751"/>
                    <p:cNvGrpSpPr/>
                    <p:nvPr/>
                  </p:nvGrpSpPr>
                  <p:grpSpPr>
                    <a:xfrm>
                      <a:off x="3687480" y="1797840"/>
                      <a:ext cx="1436040" cy="1323000"/>
                      <a:chOff x="3687480" y="1797840"/>
                      <a:chExt cx="1436040" cy="1323000"/>
                    </a:xfrm>
                  </p:grpSpPr>
                  <p:sp>
                    <p:nvSpPr>
                      <p:cNvPr id="354" name="Freeform 752"/>
                      <p:cNvSpPr/>
                      <p:nvPr/>
                    </p:nvSpPr>
                    <p:spPr>
                      <a:xfrm rot="1802400">
                        <a:off x="3742200" y="2351520"/>
                        <a:ext cx="1128240" cy="52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2" h="659">
                            <a:moveTo>
                              <a:pt x="451" y="109"/>
                            </a:moveTo>
                            <a:lnTo>
                              <a:pt x="0" y="383"/>
                            </a:lnTo>
                            <a:lnTo>
                              <a:pt x="44" y="659"/>
                            </a:lnTo>
                            <a:lnTo>
                              <a:pt x="317" y="615"/>
                            </a:lnTo>
                            <a:lnTo>
                              <a:pt x="244" y="476"/>
                            </a:lnTo>
                            <a:lnTo>
                              <a:pt x="315" y="405"/>
                            </a:lnTo>
                            <a:lnTo>
                              <a:pt x="370" y="607"/>
                            </a:lnTo>
                            <a:lnTo>
                              <a:pt x="1422" y="436"/>
                            </a:lnTo>
                            <a:lnTo>
                              <a:pt x="1389" y="237"/>
                            </a:lnTo>
                            <a:lnTo>
                              <a:pt x="1080" y="0"/>
                            </a:lnTo>
                            <a:lnTo>
                              <a:pt x="451" y="10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5" name="Freeform 753"/>
                      <p:cNvSpPr/>
                      <p:nvPr/>
                    </p:nvSpPr>
                    <p:spPr>
                      <a:xfrm rot="1802400">
                        <a:off x="4816800" y="2180160"/>
                        <a:ext cx="158400" cy="63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2" h="799">
                            <a:moveTo>
                              <a:pt x="73" y="0"/>
                            </a:moveTo>
                            <a:lnTo>
                              <a:pt x="202" y="799"/>
                            </a:lnTo>
                            <a:lnTo>
                              <a:pt x="102" y="719"/>
                            </a:lnTo>
                            <a:lnTo>
                              <a:pt x="0" y="59"/>
                            </a:lnTo>
                            <a:lnTo>
                              <a:pt x="73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6" name="Freeform 754"/>
                      <p:cNvSpPr/>
                      <p:nvPr/>
                    </p:nvSpPr>
                    <p:spPr>
                      <a:xfrm rot="1802400">
                        <a:off x="4867920" y="2261880"/>
                        <a:ext cx="60120" cy="10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138">
                            <a:moveTo>
                              <a:pt x="0" y="10"/>
                            </a:moveTo>
                            <a:lnTo>
                              <a:pt x="57" y="0"/>
                            </a:lnTo>
                            <a:lnTo>
                              <a:pt x="76" y="130"/>
                            </a:lnTo>
                            <a:lnTo>
                              <a:pt x="19" y="138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Freeform 755"/>
                      <p:cNvSpPr/>
                      <p:nvPr/>
                    </p:nvSpPr>
                    <p:spPr>
                      <a:xfrm rot="1802400">
                        <a:off x="4759200" y="2136600"/>
                        <a:ext cx="139320" cy="28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" h="360">
                            <a:moveTo>
                              <a:pt x="143" y="104"/>
                            </a:moveTo>
                            <a:lnTo>
                              <a:pt x="129" y="0"/>
                            </a:lnTo>
                            <a:lnTo>
                              <a:pt x="0" y="162"/>
                            </a:lnTo>
                            <a:lnTo>
                              <a:pt x="14" y="247"/>
                            </a:lnTo>
                            <a:lnTo>
                              <a:pt x="176" y="360"/>
                            </a:lnTo>
                            <a:lnTo>
                              <a:pt x="160" y="247"/>
                            </a:lnTo>
                            <a:lnTo>
                              <a:pt x="64" y="195"/>
                            </a:lnTo>
                            <a:lnTo>
                              <a:pt x="143" y="104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Freeform 756"/>
                      <p:cNvSpPr/>
                      <p:nvPr/>
                    </p:nvSpPr>
                    <p:spPr>
                      <a:xfrm rot="1802400">
                        <a:off x="4271400" y="1932120"/>
                        <a:ext cx="590040" cy="19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3" h="248">
                            <a:moveTo>
                              <a:pt x="0" y="110"/>
                            </a:moveTo>
                            <a:lnTo>
                              <a:pt x="743" y="0"/>
                            </a:lnTo>
                            <a:lnTo>
                              <a:pt x="641" y="167"/>
                            </a:lnTo>
                            <a:lnTo>
                              <a:pt x="649" y="225"/>
                            </a:lnTo>
                            <a:lnTo>
                              <a:pt x="509" y="248"/>
                            </a:lnTo>
                            <a:lnTo>
                              <a:pt x="310" y="207"/>
                            </a:lnTo>
                            <a:lnTo>
                              <a:pt x="133" y="234"/>
                            </a:lnTo>
                            <a:lnTo>
                              <a:pt x="0" y="11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Freeform 757"/>
                      <p:cNvSpPr/>
                      <p:nvPr/>
                    </p:nvSpPr>
                    <p:spPr>
                      <a:xfrm rot="1802400">
                        <a:off x="4185000" y="2101680"/>
                        <a:ext cx="626400" cy="43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9" h="553">
                            <a:moveTo>
                              <a:pt x="55" y="30"/>
                            </a:moveTo>
                            <a:lnTo>
                              <a:pt x="83" y="173"/>
                            </a:lnTo>
                            <a:lnTo>
                              <a:pt x="33" y="241"/>
                            </a:lnTo>
                            <a:lnTo>
                              <a:pt x="39" y="276"/>
                            </a:lnTo>
                            <a:lnTo>
                              <a:pt x="73" y="270"/>
                            </a:lnTo>
                            <a:lnTo>
                              <a:pt x="100" y="290"/>
                            </a:lnTo>
                            <a:lnTo>
                              <a:pt x="130" y="316"/>
                            </a:lnTo>
                            <a:lnTo>
                              <a:pt x="115" y="330"/>
                            </a:lnTo>
                            <a:lnTo>
                              <a:pt x="131" y="411"/>
                            </a:lnTo>
                            <a:lnTo>
                              <a:pt x="115" y="460"/>
                            </a:lnTo>
                            <a:lnTo>
                              <a:pt x="67" y="467"/>
                            </a:lnTo>
                            <a:lnTo>
                              <a:pt x="64" y="433"/>
                            </a:lnTo>
                            <a:lnTo>
                              <a:pt x="28" y="435"/>
                            </a:lnTo>
                            <a:lnTo>
                              <a:pt x="0" y="491"/>
                            </a:lnTo>
                            <a:lnTo>
                              <a:pt x="81" y="553"/>
                            </a:lnTo>
                            <a:lnTo>
                              <a:pt x="189" y="533"/>
                            </a:lnTo>
                            <a:lnTo>
                              <a:pt x="240" y="489"/>
                            </a:lnTo>
                            <a:lnTo>
                              <a:pt x="345" y="472"/>
                            </a:lnTo>
                            <a:lnTo>
                              <a:pt x="342" y="447"/>
                            </a:lnTo>
                            <a:lnTo>
                              <a:pt x="789" y="377"/>
                            </a:lnTo>
                            <a:lnTo>
                              <a:pt x="784" y="340"/>
                            </a:lnTo>
                            <a:lnTo>
                              <a:pt x="737" y="349"/>
                            </a:lnTo>
                            <a:lnTo>
                              <a:pt x="720" y="231"/>
                            </a:lnTo>
                            <a:lnTo>
                              <a:pt x="604" y="125"/>
                            </a:lnTo>
                            <a:lnTo>
                              <a:pt x="569" y="20"/>
                            </a:lnTo>
                            <a:lnTo>
                              <a:pt x="431" y="41"/>
                            </a:lnTo>
                            <a:lnTo>
                              <a:pt x="230" y="0"/>
                            </a:lnTo>
                            <a:lnTo>
                              <a:pt x="55" y="3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0" name="Freeform 758"/>
                      <p:cNvSpPr/>
                      <p:nvPr/>
                    </p:nvSpPr>
                    <p:spPr>
                      <a:xfrm rot="1802400">
                        <a:off x="3767760" y="2364840"/>
                        <a:ext cx="232920" cy="253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6" h="320">
                            <a:moveTo>
                              <a:pt x="233" y="0"/>
                            </a:moveTo>
                            <a:lnTo>
                              <a:pt x="0" y="201"/>
                            </a:lnTo>
                            <a:lnTo>
                              <a:pt x="17" y="320"/>
                            </a:lnTo>
                            <a:lnTo>
                              <a:pt x="296" y="59"/>
                            </a:lnTo>
                            <a:lnTo>
                              <a:pt x="233" y="0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1" name="Freeform 759"/>
                      <p:cNvSpPr/>
                      <p:nvPr/>
                    </p:nvSpPr>
                    <p:spPr>
                      <a:xfrm rot="1802400">
                        <a:off x="3764160" y="2523600"/>
                        <a:ext cx="122040" cy="9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4" h="115">
                            <a:moveTo>
                              <a:pt x="0" y="61"/>
                            </a:moveTo>
                            <a:lnTo>
                              <a:pt x="65" y="0"/>
                            </a:lnTo>
                            <a:lnTo>
                              <a:pt x="154" y="95"/>
                            </a:lnTo>
                            <a:lnTo>
                              <a:pt x="51" y="115"/>
                            </a:lnTo>
                            <a:lnTo>
                              <a:pt x="0" y="61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2" name="Freeform 760"/>
                      <p:cNvSpPr/>
                      <p:nvPr/>
                    </p:nvSpPr>
                    <p:spPr>
                      <a:xfrm rot="1802400">
                        <a:off x="3916440" y="2382480"/>
                        <a:ext cx="226800" cy="28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6" h="361">
                            <a:moveTo>
                              <a:pt x="0" y="32"/>
                            </a:moveTo>
                            <a:lnTo>
                              <a:pt x="146" y="154"/>
                            </a:lnTo>
                            <a:lnTo>
                              <a:pt x="236" y="361"/>
                            </a:lnTo>
                            <a:lnTo>
                              <a:pt x="286" y="355"/>
                            </a:lnTo>
                            <a:lnTo>
                              <a:pt x="196" y="122"/>
                            </a:lnTo>
                            <a:lnTo>
                              <a:pt x="57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3" name="Freeform 761"/>
                      <p:cNvSpPr/>
                      <p:nvPr/>
                    </p:nvSpPr>
                    <p:spPr>
                      <a:xfrm rot="1802400">
                        <a:off x="4568040" y="2691720"/>
                        <a:ext cx="176040" cy="22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280">
                            <a:moveTo>
                              <a:pt x="0" y="39"/>
                            </a:moveTo>
                            <a:lnTo>
                              <a:pt x="29" y="0"/>
                            </a:lnTo>
                            <a:lnTo>
                              <a:pt x="203" y="141"/>
                            </a:lnTo>
                            <a:lnTo>
                              <a:pt x="222" y="270"/>
                            </a:lnTo>
                            <a:lnTo>
                              <a:pt x="179" y="280"/>
                            </a:lnTo>
                            <a:lnTo>
                              <a:pt x="160" y="165"/>
                            </a:lnTo>
                            <a:lnTo>
                              <a:pt x="0" y="39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Freeform 762"/>
                      <p:cNvSpPr/>
                      <p:nvPr/>
                    </p:nvSpPr>
                    <p:spPr>
                      <a:xfrm rot="1802400">
                        <a:off x="4514040" y="2724120"/>
                        <a:ext cx="131400" cy="16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213">
                            <a:moveTo>
                              <a:pt x="25" y="0"/>
                            </a:moveTo>
                            <a:lnTo>
                              <a:pt x="149" y="100"/>
                            </a:lnTo>
                            <a:lnTo>
                              <a:pt x="166" y="202"/>
                            </a:lnTo>
                            <a:lnTo>
                              <a:pt x="116" y="213"/>
                            </a:lnTo>
                            <a:lnTo>
                              <a:pt x="97" y="110"/>
                            </a:lnTo>
                            <a:lnTo>
                              <a:pt x="0" y="36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Freeform 763"/>
                      <p:cNvSpPr/>
                      <p:nvPr/>
                    </p:nvSpPr>
                    <p:spPr>
                      <a:xfrm rot="1802400">
                        <a:off x="4159080" y="2619000"/>
                        <a:ext cx="2106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7" h="220">
                            <a:moveTo>
                              <a:pt x="0" y="220"/>
                            </a:moveTo>
                            <a:lnTo>
                              <a:pt x="15" y="99"/>
                            </a:lnTo>
                            <a:lnTo>
                              <a:pt x="70" y="30"/>
                            </a:lnTo>
                            <a:lnTo>
                              <a:pt x="267" y="0"/>
                            </a:lnTo>
                            <a:lnTo>
                              <a:pt x="245" y="135"/>
                            </a:lnTo>
                            <a:lnTo>
                              <a:pt x="246" y="180"/>
                            </a:lnTo>
                            <a:lnTo>
                              <a:pt x="0" y="22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6" name="Freeform 764"/>
                      <p:cNvSpPr/>
                      <p:nvPr/>
                    </p:nvSpPr>
                    <p:spPr>
                      <a:xfrm rot="1802400">
                        <a:off x="4150440" y="2582640"/>
                        <a:ext cx="29340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0" h="275">
                            <a:moveTo>
                              <a:pt x="21" y="275"/>
                            </a:moveTo>
                            <a:lnTo>
                              <a:pt x="0" y="137"/>
                            </a:lnTo>
                            <a:lnTo>
                              <a:pt x="63" y="51"/>
                            </a:lnTo>
                            <a:lnTo>
                              <a:pt x="370" y="0"/>
                            </a:lnTo>
                            <a:lnTo>
                              <a:pt x="328" y="122"/>
                            </a:lnTo>
                            <a:lnTo>
                              <a:pt x="316" y="233"/>
                            </a:lnTo>
                            <a:lnTo>
                              <a:pt x="269" y="240"/>
                            </a:lnTo>
                            <a:lnTo>
                              <a:pt x="270" y="195"/>
                            </a:lnTo>
                            <a:lnTo>
                              <a:pt x="289" y="61"/>
                            </a:lnTo>
                            <a:lnTo>
                              <a:pt x="94" y="93"/>
                            </a:lnTo>
                            <a:lnTo>
                              <a:pt x="34" y="162"/>
                            </a:lnTo>
                            <a:lnTo>
                              <a:pt x="21" y="275"/>
                            </a:lnTo>
                            <a:close/>
                          </a:path>
                        </a:pathLst>
                      </a:custGeom>
                      <a:solidFill>
                        <a:srgbClr val="fafd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7" name="Freeform 765"/>
                      <p:cNvSpPr/>
                      <p:nvPr/>
                    </p:nvSpPr>
                    <p:spPr>
                      <a:xfrm rot="1802400">
                        <a:off x="4150080" y="2533320"/>
                        <a:ext cx="397800" cy="30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2" h="379">
                            <a:moveTo>
                              <a:pt x="400" y="315"/>
                            </a:moveTo>
                            <a:lnTo>
                              <a:pt x="429" y="132"/>
                            </a:lnTo>
                            <a:lnTo>
                              <a:pt x="502" y="0"/>
                            </a:lnTo>
                            <a:lnTo>
                              <a:pt x="114" y="63"/>
                            </a:lnTo>
                            <a:lnTo>
                              <a:pt x="0" y="177"/>
                            </a:lnTo>
                            <a:lnTo>
                              <a:pt x="31" y="379"/>
                            </a:lnTo>
                            <a:lnTo>
                              <a:pt x="8" y="225"/>
                            </a:lnTo>
                            <a:lnTo>
                              <a:pt x="80" y="143"/>
                            </a:lnTo>
                            <a:lnTo>
                              <a:pt x="384" y="95"/>
                            </a:lnTo>
                            <a:lnTo>
                              <a:pt x="343" y="221"/>
                            </a:lnTo>
                            <a:lnTo>
                              <a:pt x="331" y="327"/>
                            </a:lnTo>
                            <a:lnTo>
                              <a:pt x="400" y="315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8" name="Freeform 766"/>
                      <p:cNvSpPr/>
                      <p:nvPr/>
                    </p:nvSpPr>
                    <p:spPr>
                      <a:xfrm rot="1802400">
                        <a:off x="4163400" y="2507760"/>
                        <a:ext cx="480600" cy="30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5" h="380">
                            <a:moveTo>
                              <a:pt x="6" y="241"/>
                            </a:moveTo>
                            <a:lnTo>
                              <a:pt x="0" y="204"/>
                            </a:lnTo>
                            <a:lnTo>
                              <a:pt x="124" y="74"/>
                            </a:lnTo>
                            <a:lnTo>
                              <a:pt x="605" y="0"/>
                            </a:lnTo>
                            <a:lnTo>
                              <a:pt x="493" y="189"/>
                            </a:lnTo>
                            <a:lnTo>
                              <a:pt x="466" y="373"/>
                            </a:lnTo>
                            <a:lnTo>
                              <a:pt x="408" y="380"/>
                            </a:lnTo>
                            <a:lnTo>
                              <a:pt x="434" y="198"/>
                            </a:lnTo>
                            <a:lnTo>
                              <a:pt x="511" y="62"/>
                            </a:lnTo>
                            <a:lnTo>
                              <a:pt x="121" y="125"/>
                            </a:lnTo>
                            <a:lnTo>
                              <a:pt x="6" y="241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9" name="Freeform 767"/>
                      <p:cNvSpPr/>
                      <p:nvPr/>
                    </p:nvSpPr>
                    <p:spPr>
                      <a:xfrm rot="1802400">
                        <a:off x="4368240" y="2424240"/>
                        <a:ext cx="123480" cy="11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145">
                            <a:moveTo>
                              <a:pt x="0" y="12"/>
                            </a:moveTo>
                            <a:lnTo>
                              <a:pt x="12" y="85"/>
                            </a:lnTo>
                            <a:lnTo>
                              <a:pt x="144" y="65"/>
                            </a:lnTo>
                            <a:lnTo>
                              <a:pt x="155" y="134"/>
                            </a:lnTo>
                            <a:lnTo>
                              <a:pt x="90" y="145"/>
                            </a:lnTo>
                            <a:lnTo>
                              <a:pt x="69" y="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0" name="Freeform 768"/>
                      <p:cNvSpPr/>
                      <p:nvPr/>
                    </p:nvSpPr>
                    <p:spPr>
                      <a:xfrm rot="1802400">
                        <a:off x="4420800" y="2446920"/>
                        <a:ext cx="123480" cy="11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142">
                            <a:moveTo>
                              <a:pt x="0" y="11"/>
                            </a:moveTo>
                            <a:lnTo>
                              <a:pt x="11" y="83"/>
                            </a:lnTo>
                            <a:lnTo>
                              <a:pt x="147" y="63"/>
                            </a:lnTo>
                            <a:lnTo>
                              <a:pt x="155" y="133"/>
                            </a:lnTo>
                            <a:lnTo>
                              <a:pt x="92" y="142"/>
                            </a:lnTo>
                            <a:lnTo>
                              <a:pt x="70" y="0"/>
                            </a:lnTo>
                            <a:lnTo>
                              <a:pt x="0" y="1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1" name="Freeform 769"/>
                      <p:cNvSpPr/>
                      <p:nvPr/>
                    </p:nvSpPr>
                    <p:spPr>
                      <a:xfrm rot="1802400">
                        <a:off x="4471560" y="2463480"/>
                        <a:ext cx="122040" cy="11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3" h="145">
                            <a:moveTo>
                              <a:pt x="0" y="11"/>
                            </a:moveTo>
                            <a:lnTo>
                              <a:pt x="11" y="85"/>
                            </a:lnTo>
                            <a:lnTo>
                              <a:pt x="145" y="63"/>
                            </a:lnTo>
                            <a:lnTo>
                              <a:pt x="153" y="134"/>
                            </a:lnTo>
                            <a:lnTo>
                              <a:pt x="89" y="145"/>
                            </a:lnTo>
                            <a:lnTo>
                              <a:pt x="67" y="0"/>
                            </a:lnTo>
                            <a:lnTo>
                              <a:pt x="0" y="11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2" name="Freeform 770"/>
                      <p:cNvSpPr/>
                      <p:nvPr/>
                    </p:nvSpPr>
                    <p:spPr>
                      <a:xfrm rot="1802400">
                        <a:off x="4526640" y="2482560"/>
                        <a:ext cx="122040" cy="11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4" h="147">
                            <a:moveTo>
                              <a:pt x="0" y="14"/>
                            </a:moveTo>
                            <a:lnTo>
                              <a:pt x="11" y="87"/>
                            </a:lnTo>
                            <a:lnTo>
                              <a:pt x="144" y="66"/>
                            </a:lnTo>
                            <a:lnTo>
                              <a:pt x="154" y="136"/>
                            </a:lnTo>
                            <a:lnTo>
                              <a:pt x="89" y="147"/>
                            </a:lnTo>
                            <a:lnTo>
                              <a:pt x="67" y="0"/>
                            </a:lnTo>
                            <a:lnTo>
                              <a:pt x="0" y="1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3" name="Freeform 771"/>
                      <p:cNvSpPr/>
                      <p:nvPr/>
                    </p:nvSpPr>
                    <p:spPr>
                      <a:xfrm rot="1802400">
                        <a:off x="4579920" y="2505600"/>
                        <a:ext cx="12168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144">
                            <a:moveTo>
                              <a:pt x="0" y="10"/>
                            </a:moveTo>
                            <a:lnTo>
                              <a:pt x="14" y="84"/>
                            </a:lnTo>
                            <a:lnTo>
                              <a:pt x="145" y="65"/>
                            </a:lnTo>
                            <a:lnTo>
                              <a:pt x="156" y="133"/>
                            </a:lnTo>
                            <a:lnTo>
                              <a:pt x="92" y="144"/>
                            </a:lnTo>
                            <a:lnTo>
                              <a:pt x="70" y="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4" name="Freeform 772"/>
                      <p:cNvSpPr/>
                      <p:nvPr/>
                    </p:nvSpPr>
                    <p:spPr>
                      <a:xfrm rot="1802400">
                        <a:off x="4629240" y="2525040"/>
                        <a:ext cx="12204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144">
                            <a:moveTo>
                              <a:pt x="0" y="10"/>
                            </a:moveTo>
                            <a:lnTo>
                              <a:pt x="11" y="84"/>
                            </a:lnTo>
                            <a:lnTo>
                              <a:pt x="145" y="64"/>
                            </a:lnTo>
                            <a:lnTo>
                              <a:pt x="156" y="134"/>
                            </a:lnTo>
                            <a:lnTo>
                              <a:pt x="92" y="144"/>
                            </a:lnTo>
                            <a:lnTo>
                              <a:pt x="70" y="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5" name="Freeform 773"/>
                      <p:cNvSpPr/>
                      <p:nvPr/>
                    </p:nvSpPr>
                    <p:spPr>
                      <a:xfrm rot="1802400">
                        <a:off x="4677480" y="2542680"/>
                        <a:ext cx="123480" cy="11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145">
                            <a:moveTo>
                              <a:pt x="0" y="12"/>
                            </a:moveTo>
                            <a:lnTo>
                              <a:pt x="11" y="85"/>
                            </a:lnTo>
                            <a:lnTo>
                              <a:pt x="144" y="65"/>
                            </a:lnTo>
                            <a:lnTo>
                              <a:pt x="155" y="134"/>
                            </a:lnTo>
                            <a:lnTo>
                              <a:pt x="89" y="145"/>
                            </a:lnTo>
                            <a:lnTo>
                              <a:pt x="70" y="0"/>
                            </a:lnTo>
                            <a:lnTo>
                              <a:pt x="0" y="12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6" name="Freeform 774"/>
                      <p:cNvSpPr/>
                      <p:nvPr/>
                    </p:nvSpPr>
                    <p:spPr>
                      <a:xfrm rot="1802400">
                        <a:off x="4006080" y="2363400"/>
                        <a:ext cx="214200" cy="34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430">
                            <a:moveTo>
                              <a:pt x="0" y="42"/>
                            </a:moveTo>
                            <a:lnTo>
                              <a:pt x="140" y="167"/>
                            </a:lnTo>
                            <a:lnTo>
                              <a:pt x="224" y="430"/>
                            </a:lnTo>
                            <a:lnTo>
                              <a:pt x="271" y="417"/>
                            </a:lnTo>
                            <a:lnTo>
                              <a:pt x="216" y="149"/>
                            </a:lnTo>
                            <a:lnTo>
                              <a:pt x="77" y="0"/>
                            </a:lnTo>
                            <a:lnTo>
                              <a:pt x="0" y="42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7" name="Freeform 775"/>
                      <p:cNvSpPr/>
                      <p:nvPr/>
                    </p:nvSpPr>
                    <p:spPr>
                      <a:xfrm rot="1802400">
                        <a:off x="4313520" y="2038320"/>
                        <a:ext cx="44892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6" h="69">
                            <a:moveTo>
                              <a:pt x="0" y="36"/>
                            </a:moveTo>
                            <a:lnTo>
                              <a:pt x="250" y="0"/>
                            </a:lnTo>
                            <a:lnTo>
                              <a:pt x="430" y="40"/>
                            </a:lnTo>
                            <a:lnTo>
                              <a:pt x="559" y="20"/>
                            </a:lnTo>
                            <a:lnTo>
                              <a:pt x="566" y="49"/>
                            </a:lnTo>
                            <a:lnTo>
                              <a:pt x="436" y="69"/>
                            </a:lnTo>
                            <a:lnTo>
                              <a:pt x="248" y="27"/>
                            </a:lnTo>
                            <a:lnTo>
                              <a:pt x="28" y="61"/>
                            </a:lnTo>
                            <a:lnTo>
                              <a:pt x="0" y="36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8" name="Freeform 776"/>
                      <p:cNvSpPr/>
                      <p:nvPr/>
                    </p:nvSpPr>
                    <p:spPr>
                      <a:xfrm rot="1802400">
                        <a:off x="4605840" y="2219400"/>
                        <a:ext cx="155160" cy="28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7" h="363">
                            <a:moveTo>
                              <a:pt x="37" y="0"/>
                            </a:moveTo>
                            <a:lnTo>
                              <a:pt x="58" y="118"/>
                            </a:lnTo>
                            <a:lnTo>
                              <a:pt x="180" y="229"/>
                            </a:lnTo>
                            <a:lnTo>
                              <a:pt x="197" y="350"/>
                            </a:lnTo>
                            <a:lnTo>
                              <a:pt x="164" y="363"/>
                            </a:lnTo>
                            <a:lnTo>
                              <a:pt x="147" y="239"/>
                            </a:lnTo>
                            <a:lnTo>
                              <a:pt x="22" y="124"/>
                            </a:lnTo>
                            <a:lnTo>
                              <a:pt x="0" y="8"/>
                            </a:lnTo>
                            <a:lnTo>
                              <a:pt x="37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79" name="Freeform 777"/>
                      <p:cNvSpPr/>
                      <p:nvPr/>
                    </p:nvSpPr>
                    <p:spPr>
                      <a:xfrm rot="1802400">
                        <a:off x="4546440" y="2195640"/>
                        <a:ext cx="153720" cy="28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" h="364">
                            <a:moveTo>
                              <a:pt x="41" y="0"/>
                            </a:moveTo>
                            <a:lnTo>
                              <a:pt x="59" y="124"/>
                            </a:lnTo>
                            <a:lnTo>
                              <a:pt x="177" y="237"/>
                            </a:lnTo>
                            <a:lnTo>
                              <a:pt x="194" y="352"/>
                            </a:lnTo>
                            <a:lnTo>
                              <a:pt x="149" y="364"/>
                            </a:lnTo>
                            <a:lnTo>
                              <a:pt x="136" y="244"/>
                            </a:lnTo>
                            <a:lnTo>
                              <a:pt x="19" y="131"/>
                            </a:lnTo>
                            <a:lnTo>
                              <a:pt x="0" y="2"/>
                            </a:lnTo>
                            <a:lnTo>
                              <a:pt x="4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0" name="Freeform 778"/>
                      <p:cNvSpPr/>
                      <p:nvPr/>
                    </p:nvSpPr>
                    <p:spPr>
                      <a:xfrm rot="1802400">
                        <a:off x="4484520" y="2154240"/>
                        <a:ext cx="156600" cy="30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6" h="380">
                            <a:moveTo>
                              <a:pt x="44" y="13"/>
                            </a:moveTo>
                            <a:lnTo>
                              <a:pt x="60" y="142"/>
                            </a:lnTo>
                            <a:lnTo>
                              <a:pt x="179" y="264"/>
                            </a:lnTo>
                            <a:lnTo>
                              <a:pt x="196" y="378"/>
                            </a:lnTo>
                            <a:lnTo>
                              <a:pt x="160" y="380"/>
                            </a:lnTo>
                            <a:lnTo>
                              <a:pt x="145" y="274"/>
                            </a:lnTo>
                            <a:lnTo>
                              <a:pt x="21" y="148"/>
                            </a:lnTo>
                            <a:lnTo>
                              <a:pt x="0" y="0"/>
                            </a:lnTo>
                            <a:lnTo>
                              <a:pt x="44" y="1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Freeform 779"/>
                      <p:cNvSpPr/>
                      <p:nvPr/>
                    </p:nvSpPr>
                    <p:spPr>
                      <a:xfrm rot="1802400">
                        <a:off x="4271760" y="2202120"/>
                        <a:ext cx="122040" cy="10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136">
                            <a:moveTo>
                              <a:pt x="0" y="44"/>
                            </a:moveTo>
                            <a:lnTo>
                              <a:pt x="113" y="92"/>
                            </a:lnTo>
                            <a:lnTo>
                              <a:pt x="143" y="64"/>
                            </a:lnTo>
                            <a:lnTo>
                              <a:pt x="156" y="0"/>
                            </a:lnTo>
                            <a:lnTo>
                              <a:pt x="120" y="51"/>
                            </a:lnTo>
                            <a:lnTo>
                              <a:pt x="63" y="130"/>
                            </a:lnTo>
                            <a:lnTo>
                              <a:pt x="24" y="136"/>
                            </a:lnTo>
                            <a:lnTo>
                              <a:pt x="53" y="92"/>
                            </a:lnTo>
                            <a:lnTo>
                              <a:pt x="0" y="4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Freeform 780"/>
                      <p:cNvSpPr/>
                      <p:nvPr/>
                    </p:nvSpPr>
                    <p:spPr>
                      <a:xfrm rot="1802400">
                        <a:off x="4425120" y="2108880"/>
                        <a:ext cx="161640" cy="33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4" h="418">
                            <a:moveTo>
                              <a:pt x="39" y="10"/>
                            </a:moveTo>
                            <a:lnTo>
                              <a:pt x="63" y="174"/>
                            </a:lnTo>
                            <a:lnTo>
                              <a:pt x="187" y="295"/>
                            </a:lnTo>
                            <a:lnTo>
                              <a:pt x="204" y="408"/>
                            </a:lnTo>
                            <a:lnTo>
                              <a:pt x="170" y="418"/>
                            </a:lnTo>
                            <a:lnTo>
                              <a:pt x="153" y="308"/>
                            </a:lnTo>
                            <a:lnTo>
                              <a:pt x="30" y="186"/>
                            </a:lnTo>
                            <a:lnTo>
                              <a:pt x="0" y="0"/>
                            </a:lnTo>
                            <a:lnTo>
                              <a:pt x="39" y="1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Freeform 781"/>
                      <p:cNvSpPr/>
                      <p:nvPr/>
                    </p:nvSpPr>
                    <p:spPr>
                      <a:xfrm rot="1802400">
                        <a:off x="4338000" y="2101680"/>
                        <a:ext cx="8064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" h="67">
                            <a:moveTo>
                              <a:pt x="0" y="0"/>
                            </a:moveTo>
                            <a:lnTo>
                              <a:pt x="100" y="52"/>
                            </a:lnTo>
                            <a:lnTo>
                              <a:pt x="0" y="67"/>
                            </a:lnTo>
                            <a:lnTo>
                              <a:pt x="31" y="4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84" name="Group 782"/>
                  <p:cNvGrpSpPr/>
                  <p:nvPr/>
                </p:nvGrpSpPr>
                <p:grpSpPr>
                  <a:xfrm>
                    <a:off x="3345120" y="2418120"/>
                    <a:ext cx="1436760" cy="1341000"/>
                    <a:chOff x="3345120" y="2418120"/>
                    <a:chExt cx="1436760" cy="1341000"/>
                  </a:xfrm>
                </p:grpSpPr>
                <p:grpSp>
                  <p:nvGrpSpPr>
                    <p:cNvPr id="385" name="Group 783"/>
                    <p:cNvGrpSpPr/>
                    <p:nvPr/>
                  </p:nvGrpSpPr>
                  <p:grpSpPr>
                    <a:xfrm>
                      <a:off x="3345120" y="2418120"/>
                      <a:ext cx="1436760" cy="1341000"/>
                      <a:chOff x="3345120" y="2418120"/>
                      <a:chExt cx="1436760" cy="1341000"/>
                    </a:xfrm>
                  </p:grpSpPr>
                  <p:sp>
                    <p:nvSpPr>
                      <p:cNvPr id="386" name="Freeform 784"/>
                      <p:cNvSpPr/>
                      <p:nvPr/>
                    </p:nvSpPr>
                    <p:spPr>
                      <a:xfrm rot="1802400">
                        <a:off x="3599640" y="2665080"/>
                        <a:ext cx="1126800" cy="52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20" h="658">
                            <a:moveTo>
                              <a:pt x="971" y="549"/>
                            </a:moveTo>
                            <a:lnTo>
                              <a:pt x="1420" y="276"/>
                            </a:lnTo>
                            <a:lnTo>
                              <a:pt x="1376" y="0"/>
                            </a:lnTo>
                            <a:lnTo>
                              <a:pt x="1104" y="44"/>
                            </a:lnTo>
                            <a:lnTo>
                              <a:pt x="1177" y="183"/>
                            </a:lnTo>
                            <a:lnTo>
                              <a:pt x="1105" y="254"/>
                            </a:lnTo>
                            <a:lnTo>
                              <a:pt x="1051" y="51"/>
                            </a:lnTo>
                            <a:lnTo>
                              <a:pt x="0" y="222"/>
                            </a:lnTo>
                            <a:lnTo>
                              <a:pt x="33" y="421"/>
                            </a:lnTo>
                            <a:lnTo>
                              <a:pt x="342" y="658"/>
                            </a:lnTo>
                            <a:lnTo>
                              <a:pt x="971" y="549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7" name="Freeform 785"/>
                      <p:cNvSpPr/>
                      <p:nvPr/>
                    </p:nvSpPr>
                    <p:spPr>
                      <a:xfrm rot="1802400">
                        <a:off x="3492360" y="2725920"/>
                        <a:ext cx="159840" cy="63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0" h="795">
                            <a:moveTo>
                              <a:pt x="128" y="795"/>
                            </a:moveTo>
                            <a:lnTo>
                              <a:pt x="0" y="0"/>
                            </a:lnTo>
                            <a:lnTo>
                              <a:pt x="100" y="77"/>
                            </a:lnTo>
                            <a:lnTo>
                              <a:pt x="200" y="736"/>
                            </a:lnTo>
                            <a:lnTo>
                              <a:pt x="128" y="795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8" name="Freeform 786"/>
                      <p:cNvSpPr/>
                      <p:nvPr/>
                    </p:nvSpPr>
                    <p:spPr>
                      <a:xfrm rot="1802400">
                        <a:off x="3540240" y="3166200"/>
                        <a:ext cx="59760" cy="10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138">
                            <a:moveTo>
                              <a:pt x="76" y="128"/>
                            </a:moveTo>
                            <a:lnTo>
                              <a:pt x="20" y="138"/>
                            </a:lnTo>
                            <a:lnTo>
                              <a:pt x="0" y="9"/>
                            </a:lnTo>
                            <a:lnTo>
                              <a:pt x="58" y="0"/>
                            </a:lnTo>
                            <a:lnTo>
                              <a:pt x="76" y="128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Freeform 787"/>
                      <p:cNvSpPr/>
                      <p:nvPr/>
                    </p:nvSpPr>
                    <p:spPr>
                      <a:xfrm rot="1802400">
                        <a:off x="3570480" y="3115440"/>
                        <a:ext cx="137520" cy="28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360">
                            <a:moveTo>
                              <a:pt x="33" y="257"/>
                            </a:moveTo>
                            <a:lnTo>
                              <a:pt x="48" y="360"/>
                            </a:lnTo>
                            <a:lnTo>
                              <a:pt x="175" y="198"/>
                            </a:lnTo>
                            <a:lnTo>
                              <a:pt x="162" y="114"/>
                            </a:lnTo>
                            <a:lnTo>
                              <a:pt x="0" y="0"/>
                            </a:lnTo>
                            <a:lnTo>
                              <a:pt x="16" y="114"/>
                            </a:lnTo>
                            <a:lnTo>
                              <a:pt x="113" y="165"/>
                            </a:lnTo>
                            <a:lnTo>
                              <a:pt x="33" y="257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0" name="Freeform 788"/>
                      <p:cNvSpPr/>
                      <p:nvPr/>
                    </p:nvSpPr>
                    <p:spPr>
                      <a:xfrm rot="1802400">
                        <a:off x="3584880" y="3408120"/>
                        <a:ext cx="628200" cy="20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1" h="262">
                            <a:moveTo>
                              <a:pt x="791" y="158"/>
                            </a:moveTo>
                            <a:lnTo>
                              <a:pt x="0" y="262"/>
                            </a:lnTo>
                            <a:lnTo>
                              <a:pt x="127" y="81"/>
                            </a:lnTo>
                            <a:lnTo>
                              <a:pt x="118" y="23"/>
                            </a:lnTo>
                            <a:lnTo>
                              <a:pt x="257" y="0"/>
                            </a:lnTo>
                            <a:lnTo>
                              <a:pt x="456" y="40"/>
                            </a:lnTo>
                            <a:lnTo>
                              <a:pt x="634" y="13"/>
                            </a:lnTo>
                            <a:lnTo>
                              <a:pt x="791" y="158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1" name="Freeform 789"/>
                      <p:cNvSpPr/>
                      <p:nvPr/>
                    </p:nvSpPr>
                    <p:spPr>
                      <a:xfrm rot="1802400">
                        <a:off x="3657960" y="2998080"/>
                        <a:ext cx="626400" cy="43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9" h="552">
                            <a:moveTo>
                              <a:pt x="734" y="523"/>
                            </a:moveTo>
                            <a:lnTo>
                              <a:pt x="706" y="380"/>
                            </a:lnTo>
                            <a:lnTo>
                              <a:pt x="756" y="311"/>
                            </a:lnTo>
                            <a:lnTo>
                              <a:pt x="750" y="276"/>
                            </a:lnTo>
                            <a:lnTo>
                              <a:pt x="716" y="282"/>
                            </a:lnTo>
                            <a:lnTo>
                              <a:pt x="689" y="262"/>
                            </a:lnTo>
                            <a:lnTo>
                              <a:pt x="660" y="237"/>
                            </a:lnTo>
                            <a:lnTo>
                              <a:pt x="675" y="222"/>
                            </a:lnTo>
                            <a:lnTo>
                              <a:pt x="659" y="141"/>
                            </a:lnTo>
                            <a:lnTo>
                              <a:pt x="675" y="93"/>
                            </a:lnTo>
                            <a:lnTo>
                              <a:pt x="722" y="85"/>
                            </a:lnTo>
                            <a:lnTo>
                              <a:pt x="726" y="120"/>
                            </a:lnTo>
                            <a:lnTo>
                              <a:pt x="761" y="117"/>
                            </a:lnTo>
                            <a:lnTo>
                              <a:pt x="789" y="61"/>
                            </a:lnTo>
                            <a:lnTo>
                              <a:pt x="709" y="0"/>
                            </a:lnTo>
                            <a:lnTo>
                              <a:pt x="600" y="19"/>
                            </a:lnTo>
                            <a:lnTo>
                              <a:pt x="550" y="63"/>
                            </a:lnTo>
                            <a:lnTo>
                              <a:pt x="445" y="80"/>
                            </a:lnTo>
                            <a:lnTo>
                              <a:pt x="447" y="105"/>
                            </a:lnTo>
                            <a:lnTo>
                              <a:pt x="0" y="176"/>
                            </a:lnTo>
                            <a:lnTo>
                              <a:pt x="5" y="212"/>
                            </a:lnTo>
                            <a:lnTo>
                              <a:pt x="53" y="204"/>
                            </a:lnTo>
                            <a:lnTo>
                              <a:pt x="70" y="321"/>
                            </a:lnTo>
                            <a:lnTo>
                              <a:pt x="186" y="427"/>
                            </a:lnTo>
                            <a:lnTo>
                              <a:pt x="220" y="532"/>
                            </a:lnTo>
                            <a:lnTo>
                              <a:pt x="358" y="512"/>
                            </a:lnTo>
                            <a:lnTo>
                              <a:pt x="560" y="552"/>
                            </a:lnTo>
                            <a:lnTo>
                              <a:pt x="734" y="52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2" name="Freeform 790"/>
                      <p:cNvSpPr/>
                      <p:nvPr/>
                    </p:nvSpPr>
                    <p:spPr>
                      <a:xfrm rot="1802400">
                        <a:off x="4467240" y="2918520"/>
                        <a:ext cx="234720" cy="25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6" h="320">
                            <a:moveTo>
                              <a:pt x="63" y="320"/>
                            </a:moveTo>
                            <a:lnTo>
                              <a:pt x="296" y="120"/>
                            </a:lnTo>
                            <a:lnTo>
                              <a:pt x="279" y="0"/>
                            </a:lnTo>
                            <a:lnTo>
                              <a:pt x="0" y="261"/>
                            </a:lnTo>
                            <a:lnTo>
                              <a:pt x="63" y="320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Freeform 791"/>
                      <p:cNvSpPr/>
                      <p:nvPr/>
                    </p:nvSpPr>
                    <p:spPr>
                      <a:xfrm rot="1802400">
                        <a:off x="4583520" y="2923560"/>
                        <a:ext cx="120240" cy="9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1" h="115">
                            <a:moveTo>
                              <a:pt x="151" y="54"/>
                            </a:moveTo>
                            <a:lnTo>
                              <a:pt x="88" y="115"/>
                            </a:lnTo>
                            <a:lnTo>
                              <a:pt x="0" y="20"/>
                            </a:lnTo>
                            <a:lnTo>
                              <a:pt x="101" y="0"/>
                            </a:lnTo>
                            <a:lnTo>
                              <a:pt x="151" y="54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Freeform 792"/>
                      <p:cNvSpPr/>
                      <p:nvPr/>
                    </p:nvSpPr>
                    <p:spPr>
                      <a:xfrm rot="1802400">
                        <a:off x="4328280" y="2868840"/>
                        <a:ext cx="225000" cy="28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5" h="362">
                            <a:moveTo>
                              <a:pt x="285" y="330"/>
                            </a:moveTo>
                            <a:lnTo>
                              <a:pt x="140" y="208"/>
                            </a:lnTo>
                            <a:lnTo>
                              <a:pt x="51" y="0"/>
                            </a:lnTo>
                            <a:lnTo>
                              <a:pt x="0" y="6"/>
                            </a:lnTo>
                            <a:lnTo>
                              <a:pt x="91" y="239"/>
                            </a:lnTo>
                            <a:lnTo>
                              <a:pt x="229" y="362"/>
                            </a:lnTo>
                            <a:lnTo>
                              <a:pt x="285" y="330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Freeform 793"/>
                      <p:cNvSpPr/>
                      <p:nvPr/>
                    </p:nvSpPr>
                    <p:spPr>
                      <a:xfrm rot="1802400">
                        <a:off x="3725280" y="2624400"/>
                        <a:ext cx="176040" cy="22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280">
                            <a:moveTo>
                              <a:pt x="223" y="241"/>
                            </a:moveTo>
                            <a:lnTo>
                              <a:pt x="193" y="280"/>
                            </a:lnTo>
                            <a:lnTo>
                              <a:pt x="20" y="140"/>
                            </a:lnTo>
                            <a:lnTo>
                              <a:pt x="0" y="10"/>
                            </a:lnTo>
                            <a:lnTo>
                              <a:pt x="43" y="0"/>
                            </a:lnTo>
                            <a:lnTo>
                              <a:pt x="63" y="115"/>
                            </a:lnTo>
                            <a:lnTo>
                              <a:pt x="223" y="241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6" name="Freeform 794"/>
                      <p:cNvSpPr/>
                      <p:nvPr/>
                    </p:nvSpPr>
                    <p:spPr>
                      <a:xfrm rot="1802400">
                        <a:off x="3822840" y="2646000"/>
                        <a:ext cx="132840" cy="16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212">
                            <a:moveTo>
                              <a:pt x="142" y="212"/>
                            </a:moveTo>
                            <a:lnTo>
                              <a:pt x="17" y="112"/>
                            </a:lnTo>
                            <a:lnTo>
                              <a:pt x="0" y="11"/>
                            </a:lnTo>
                            <a:lnTo>
                              <a:pt x="50" y="0"/>
                            </a:lnTo>
                            <a:lnTo>
                              <a:pt x="70" y="102"/>
                            </a:lnTo>
                            <a:lnTo>
                              <a:pt x="166" y="177"/>
                            </a:lnTo>
                            <a:lnTo>
                              <a:pt x="142" y="212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7" name="Freeform 795"/>
                      <p:cNvSpPr/>
                      <p:nvPr/>
                    </p:nvSpPr>
                    <p:spPr>
                      <a:xfrm rot="1802400">
                        <a:off x="4099320" y="2745720"/>
                        <a:ext cx="2106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5" h="220">
                            <a:moveTo>
                              <a:pt x="265" y="0"/>
                            </a:moveTo>
                            <a:lnTo>
                              <a:pt x="250" y="121"/>
                            </a:lnTo>
                            <a:lnTo>
                              <a:pt x="195" y="191"/>
                            </a:lnTo>
                            <a:lnTo>
                              <a:pt x="0" y="220"/>
                            </a:lnTo>
                            <a:lnTo>
                              <a:pt x="22" y="86"/>
                            </a:lnTo>
                            <a:lnTo>
                              <a:pt x="21" y="40"/>
                            </a:lnTo>
                            <a:lnTo>
                              <a:pt x="265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Freeform 796"/>
                      <p:cNvSpPr/>
                      <p:nvPr/>
                    </p:nvSpPr>
                    <p:spPr>
                      <a:xfrm rot="1802400">
                        <a:off x="4024800" y="2737800"/>
                        <a:ext cx="294840" cy="217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3" h="275">
                            <a:moveTo>
                              <a:pt x="352" y="0"/>
                            </a:moveTo>
                            <a:lnTo>
                              <a:pt x="373" y="138"/>
                            </a:lnTo>
                            <a:lnTo>
                              <a:pt x="308" y="223"/>
                            </a:lnTo>
                            <a:lnTo>
                              <a:pt x="0" y="275"/>
                            </a:lnTo>
                            <a:lnTo>
                              <a:pt x="42" y="152"/>
                            </a:lnTo>
                            <a:lnTo>
                              <a:pt x="54" y="41"/>
                            </a:lnTo>
                            <a:lnTo>
                              <a:pt x="102" y="34"/>
                            </a:lnTo>
                            <a:lnTo>
                              <a:pt x="101" y="79"/>
                            </a:lnTo>
                            <a:lnTo>
                              <a:pt x="81" y="213"/>
                            </a:lnTo>
                            <a:lnTo>
                              <a:pt x="279" y="182"/>
                            </a:lnTo>
                            <a:lnTo>
                              <a:pt x="339" y="112"/>
                            </a:lnTo>
                            <a:lnTo>
                              <a:pt x="352" y="0"/>
                            </a:lnTo>
                            <a:close/>
                          </a:path>
                        </a:pathLst>
                      </a:custGeom>
                      <a:solidFill>
                        <a:srgbClr val="fafd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9" name="Freeform 797"/>
                      <p:cNvSpPr/>
                      <p:nvPr/>
                    </p:nvSpPr>
                    <p:spPr>
                      <a:xfrm rot="1802400">
                        <a:off x="3921840" y="2703600"/>
                        <a:ext cx="396360" cy="300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1" h="378">
                            <a:moveTo>
                              <a:pt x="103" y="63"/>
                            </a:moveTo>
                            <a:lnTo>
                              <a:pt x="74" y="246"/>
                            </a:lnTo>
                            <a:lnTo>
                              <a:pt x="0" y="378"/>
                            </a:lnTo>
                            <a:lnTo>
                              <a:pt x="389" y="315"/>
                            </a:lnTo>
                            <a:lnTo>
                              <a:pt x="501" y="201"/>
                            </a:lnTo>
                            <a:lnTo>
                              <a:pt x="471" y="0"/>
                            </a:lnTo>
                            <a:lnTo>
                              <a:pt x="494" y="154"/>
                            </a:lnTo>
                            <a:lnTo>
                              <a:pt x="422" y="235"/>
                            </a:lnTo>
                            <a:lnTo>
                              <a:pt x="118" y="284"/>
                            </a:lnTo>
                            <a:lnTo>
                              <a:pt x="159" y="157"/>
                            </a:lnTo>
                            <a:lnTo>
                              <a:pt x="170" y="51"/>
                            </a:lnTo>
                            <a:lnTo>
                              <a:pt x="103" y="63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" name="Freeform 798"/>
                      <p:cNvSpPr/>
                      <p:nvPr/>
                    </p:nvSpPr>
                    <p:spPr>
                      <a:xfrm rot="1802400">
                        <a:off x="3823920" y="2728080"/>
                        <a:ext cx="480960" cy="30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6" h="380">
                            <a:moveTo>
                              <a:pt x="600" y="138"/>
                            </a:moveTo>
                            <a:lnTo>
                              <a:pt x="606" y="176"/>
                            </a:lnTo>
                            <a:lnTo>
                              <a:pt x="481" y="305"/>
                            </a:lnTo>
                            <a:lnTo>
                              <a:pt x="0" y="380"/>
                            </a:lnTo>
                            <a:lnTo>
                              <a:pt x="112" y="190"/>
                            </a:lnTo>
                            <a:lnTo>
                              <a:pt x="139" y="6"/>
                            </a:lnTo>
                            <a:lnTo>
                              <a:pt x="198" y="0"/>
                            </a:lnTo>
                            <a:lnTo>
                              <a:pt x="171" y="182"/>
                            </a:lnTo>
                            <a:lnTo>
                              <a:pt x="94" y="317"/>
                            </a:lnTo>
                            <a:lnTo>
                              <a:pt x="485" y="254"/>
                            </a:lnTo>
                            <a:lnTo>
                              <a:pt x="600" y="138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Freeform 799"/>
                      <p:cNvSpPr/>
                      <p:nvPr/>
                    </p:nvSpPr>
                    <p:spPr>
                      <a:xfrm rot="1802400">
                        <a:off x="3976560" y="2998800"/>
                        <a:ext cx="12312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145">
                            <a:moveTo>
                              <a:pt x="155" y="133"/>
                            </a:moveTo>
                            <a:lnTo>
                              <a:pt x="143" y="60"/>
                            </a:lnTo>
                            <a:lnTo>
                              <a:pt x="11" y="81"/>
                            </a:lnTo>
                            <a:lnTo>
                              <a:pt x="0" y="11"/>
                            </a:lnTo>
                            <a:lnTo>
                              <a:pt x="64" y="0"/>
                            </a:lnTo>
                            <a:lnTo>
                              <a:pt x="85" y="145"/>
                            </a:lnTo>
                            <a:lnTo>
                              <a:pt x="155" y="133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Freeform 800"/>
                      <p:cNvSpPr/>
                      <p:nvPr/>
                    </p:nvSpPr>
                    <p:spPr>
                      <a:xfrm rot="1802400">
                        <a:off x="3925440" y="2979720"/>
                        <a:ext cx="121680" cy="11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142">
                            <a:moveTo>
                              <a:pt x="155" y="131"/>
                            </a:moveTo>
                            <a:lnTo>
                              <a:pt x="144" y="59"/>
                            </a:lnTo>
                            <a:lnTo>
                              <a:pt x="9" y="80"/>
                            </a:lnTo>
                            <a:lnTo>
                              <a:pt x="0" y="9"/>
                            </a:lnTo>
                            <a:lnTo>
                              <a:pt x="64" y="0"/>
                            </a:lnTo>
                            <a:lnTo>
                              <a:pt x="86" y="142"/>
                            </a:lnTo>
                            <a:lnTo>
                              <a:pt x="155" y="13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Freeform 801"/>
                      <p:cNvSpPr/>
                      <p:nvPr/>
                    </p:nvSpPr>
                    <p:spPr>
                      <a:xfrm rot="1802400">
                        <a:off x="3874320" y="2959560"/>
                        <a:ext cx="121680" cy="11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145">
                            <a:moveTo>
                              <a:pt x="155" y="134"/>
                            </a:moveTo>
                            <a:lnTo>
                              <a:pt x="144" y="60"/>
                            </a:lnTo>
                            <a:lnTo>
                              <a:pt x="8" y="82"/>
                            </a:lnTo>
                            <a:lnTo>
                              <a:pt x="0" y="11"/>
                            </a:lnTo>
                            <a:lnTo>
                              <a:pt x="65" y="0"/>
                            </a:lnTo>
                            <a:lnTo>
                              <a:pt x="87" y="145"/>
                            </a:lnTo>
                            <a:lnTo>
                              <a:pt x="155" y="134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Freeform 802"/>
                      <p:cNvSpPr/>
                      <p:nvPr/>
                    </p:nvSpPr>
                    <p:spPr>
                      <a:xfrm rot="1802400">
                        <a:off x="3819600" y="2939400"/>
                        <a:ext cx="123480" cy="115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147">
                            <a:moveTo>
                              <a:pt x="156" y="133"/>
                            </a:moveTo>
                            <a:lnTo>
                              <a:pt x="145" y="60"/>
                            </a:lnTo>
                            <a:lnTo>
                              <a:pt x="10" y="81"/>
                            </a:lnTo>
                            <a:lnTo>
                              <a:pt x="0" y="11"/>
                            </a:lnTo>
                            <a:lnTo>
                              <a:pt x="65" y="0"/>
                            </a:lnTo>
                            <a:lnTo>
                              <a:pt x="88" y="147"/>
                            </a:lnTo>
                            <a:lnTo>
                              <a:pt x="156" y="133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Freeform 803"/>
                      <p:cNvSpPr/>
                      <p:nvPr/>
                    </p:nvSpPr>
                    <p:spPr>
                      <a:xfrm rot="1802400">
                        <a:off x="3766320" y="2918160"/>
                        <a:ext cx="12528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144">
                            <a:moveTo>
                              <a:pt x="156" y="135"/>
                            </a:moveTo>
                            <a:lnTo>
                              <a:pt x="143" y="60"/>
                            </a:lnTo>
                            <a:lnTo>
                              <a:pt x="11" y="80"/>
                            </a:lnTo>
                            <a:lnTo>
                              <a:pt x="0" y="11"/>
                            </a:lnTo>
                            <a:lnTo>
                              <a:pt x="63" y="0"/>
                            </a:lnTo>
                            <a:lnTo>
                              <a:pt x="85" y="144"/>
                            </a:lnTo>
                            <a:lnTo>
                              <a:pt x="156" y="135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Freeform 804"/>
                      <p:cNvSpPr/>
                      <p:nvPr/>
                    </p:nvSpPr>
                    <p:spPr>
                      <a:xfrm rot="1802400">
                        <a:off x="3718440" y="2899080"/>
                        <a:ext cx="123480" cy="11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6" h="144">
                            <a:moveTo>
                              <a:pt x="156" y="134"/>
                            </a:moveTo>
                            <a:lnTo>
                              <a:pt x="145" y="60"/>
                            </a:lnTo>
                            <a:lnTo>
                              <a:pt x="11" y="81"/>
                            </a:lnTo>
                            <a:lnTo>
                              <a:pt x="0" y="10"/>
                            </a:lnTo>
                            <a:lnTo>
                              <a:pt x="64" y="0"/>
                            </a:lnTo>
                            <a:lnTo>
                              <a:pt x="85" y="144"/>
                            </a:lnTo>
                            <a:lnTo>
                              <a:pt x="156" y="13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Freeform 805"/>
                      <p:cNvSpPr/>
                      <p:nvPr/>
                    </p:nvSpPr>
                    <p:spPr>
                      <a:xfrm rot="1802400">
                        <a:off x="3668400" y="2881440"/>
                        <a:ext cx="123120" cy="11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45">
                            <a:moveTo>
                              <a:pt x="157" y="133"/>
                            </a:moveTo>
                            <a:lnTo>
                              <a:pt x="146" y="60"/>
                            </a:lnTo>
                            <a:lnTo>
                              <a:pt x="11" y="81"/>
                            </a:lnTo>
                            <a:lnTo>
                              <a:pt x="0" y="11"/>
                            </a:lnTo>
                            <a:lnTo>
                              <a:pt x="66" y="0"/>
                            </a:lnTo>
                            <a:lnTo>
                              <a:pt x="86" y="145"/>
                            </a:lnTo>
                            <a:lnTo>
                              <a:pt x="157" y="133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Freeform 806"/>
                      <p:cNvSpPr/>
                      <p:nvPr/>
                    </p:nvSpPr>
                    <p:spPr>
                      <a:xfrm rot="1802400">
                        <a:off x="4248000" y="2833560"/>
                        <a:ext cx="215640" cy="34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1" h="430">
                            <a:moveTo>
                              <a:pt x="271" y="387"/>
                            </a:moveTo>
                            <a:lnTo>
                              <a:pt x="132" y="262"/>
                            </a:lnTo>
                            <a:lnTo>
                              <a:pt x="48" y="0"/>
                            </a:lnTo>
                            <a:lnTo>
                              <a:pt x="0" y="12"/>
                            </a:lnTo>
                            <a:lnTo>
                              <a:pt x="55" y="281"/>
                            </a:lnTo>
                            <a:lnTo>
                              <a:pt x="194" y="430"/>
                            </a:lnTo>
                            <a:lnTo>
                              <a:pt x="271" y="387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Freeform 807"/>
                      <p:cNvSpPr/>
                      <p:nvPr/>
                    </p:nvSpPr>
                    <p:spPr>
                      <a:xfrm rot="1802400">
                        <a:off x="3708720" y="3446640"/>
                        <a:ext cx="44748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4" h="68">
                            <a:moveTo>
                              <a:pt x="564" y="33"/>
                            </a:moveTo>
                            <a:lnTo>
                              <a:pt x="315" y="68"/>
                            </a:lnTo>
                            <a:lnTo>
                              <a:pt x="136" y="28"/>
                            </a:lnTo>
                            <a:lnTo>
                              <a:pt x="6" y="49"/>
                            </a:lnTo>
                            <a:lnTo>
                              <a:pt x="0" y="19"/>
                            </a:lnTo>
                            <a:lnTo>
                              <a:pt x="130" y="0"/>
                            </a:lnTo>
                            <a:lnTo>
                              <a:pt x="318" y="41"/>
                            </a:lnTo>
                            <a:lnTo>
                              <a:pt x="536" y="7"/>
                            </a:lnTo>
                            <a:lnTo>
                              <a:pt x="564" y="33"/>
                            </a:lnTo>
                            <a:close/>
                          </a:path>
                        </a:pathLst>
                      </a:custGeom>
                      <a:solidFill>
                        <a:srgbClr val="ffff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0" name="Freeform 808"/>
                      <p:cNvSpPr/>
                      <p:nvPr/>
                    </p:nvSpPr>
                    <p:spPr>
                      <a:xfrm rot="1802400">
                        <a:off x="3711600" y="3040920"/>
                        <a:ext cx="155160" cy="28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7" h="363">
                            <a:moveTo>
                              <a:pt x="160" y="363"/>
                            </a:moveTo>
                            <a:lnTo>
                              <a:pt x="140" y="245"/>
                            </a:lnTo>
                            <a:lnTo>
                              <a:pt x="17" y="134"/>
                            </a:lnTo>
                            <a:lnTo>
                              <a:pt x="0" y="13"/>
                            </a:lnTo>
                            <a:lnTo>
                              <a:pt x="33" y="0"/>
                            </a:lnTo>
                            <a:lnTo>
                              <a:pt x="50" y="124"/>
                            </a:lnTo>
                            <a:lnTo>
                              <a:pt x="175" y="239"/>
                            </a:lnTo>
                            <a:lnTo>
                              <a:pt x="197" y="355"/>
                            </a:lnTo>
                            <a:lnTo>
                              <a:pt x="160" y="36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1" name="Freeform 809"/>
                      <p:cNvSpPr/>
                      <p:nvPr/>
                    </p:nvSpPr>
                    <p:spPr>
                      <a:xfrm rot="1802400">
                        <a:off x="3771360" y="3063960"/>
                        <a:ext cx="153720" cy="28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4" h="364">
                            <a:moveTo>
                              <a:pt x="153" y="364"/>
                            </a:moveTo>
                            <a:lnTo>
                              <a:pt x="136" y="240"/>
                            </a:lnTo>
                            <a:lnTo>
                              <a:pt x="17" y="127"/>
                            </a:lnTo>
                            <a:lnTo>
                              <a:pt x="0" y="12"/>
                            </a:lnTo>
                            <a:lnTo>
                              <a:pt x="45" y="0"/>
                            </a:lnTo>
                            <a:lnTo>
                              <a:pt x="59" y="120"/>
                            </a:lnTo>
                            <a:lnTo>
                              <a:pt x="175" y="234"/>
                            </a:lnTo>
                            <a:lnTo>
                              <a:pt x="194" y="362"/>
                            </a:lnTo>
                            <a:lnTo>
                              <a:pt x="153" y="36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2" name="Freeform 810"/>
                      <p:cNvSpPr/>
                      <p:nvPr/>
                    </p:nvSpPr>
                    <p:spPr>
                      <a:xfrm rot="1802400">
                        <a:off x="3830400" y="3093120"/>
                        <a:ext cx="158040" cy="30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9" h="380">
                            <a:moveTo>
                              <a:pt x="154" y="367"/>
                            </a:moveTo>
                            <a:lnTo>
                              <a:pt x="138" y="238"/>
                            </a:lnTo>
                            <a:lnTo>
                              <a:pt x="17" y="116"/>
                            </a:lnTo>
                            <a:lnTo>
                              <a:pt x="0" y="2"/>
                            </a:lnTo>
                            <a:lnTo>
                              <a:pt x="38" y="0"/>
                            </a:lnTo>
                            <a:lnTo>
                              <a:pt x="52" y="106"/>
                            </a:lnTo>
                            <a:lnTo>
                              <a:pt x="178" y="232"/>
                            </a:lnTo>
                            <a:lnTo>
                              <a:pt x="199" y="380"/>
                            </a:lnTo>
                            <a:lnTo>
                              <a:pt x="154" y="36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" name="Freeform 811"/>
                      <p:cNvSpPr/>
                      <p:nvPr/>
                    </p:nvSpPr>
                    <p:spPr>
                      <a:xfrm rot="1802400">
                        <a:off x="4070520" y="3233160"/>
                        <a:ext cx="125280" cy="10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7" h="135">
                            <a:moveTo>
                              <a:pt x="157" y="91"/>
                            </a:moveTo>
                            <a:lnTo>
                              <a:pt x="42" y="44"/>
                            </a:lnTo>
                            <a:lnTo>
                              <a:pt x="12" y="72"/>
                            </a:lnTo>
                            <a:lnTo>
                              <a:pt x="0" y="135"/>
                            </a:lnTo>
                            <a:lnTo>
                              <a:pt x="35" y="84"/>
                            </a:lnTo>
                            <a:lnTo>
                              <a:pt x="94" y="6"/>
                            </a:lnTo>
                            <a:lnTo>
                              <a:pt x="133" y="0"/>
                            </a:lnTo>
                            <a:lnTo>
                              <a:pt x="103" y="44"/>
                            </a:lnTo>
                            <a:lnTo>
                              <a:pt x="157" y="9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4" name="Freeform 812"/>
                      <p:cNvSpPr/>
                      <p:nvPr/>
                    </p:nvSpPr>
                    <p:spPr>
                      <a:xfrm rot="1802400">
                        <a:off x="3884400" y="3107520"/>
                        <a:ext cx="161640" cy="33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4" h="418">
                            <a:moveTo>
                              <a:pt x="165" y="408"/>
                            </a:moveTo>
                            <a:lnTo>
                              <a:pt x="142" y="244"/>
                            </a:lnTo>
                            <a:lnTo>
                              <a:pt x="17" y="123"/>
                            </a:lnTo>
                            <a:lnTo>
                              <a:pt x="0" y="10"/>
                            </a:lnTo>
                            <a:lnTo>
                              <a:pt x="34" y="0"/>
                            </a:lnTo>
                            <a:lnTo>
                              <a:pt x="51" y="110"/>
                            </a:lnTo>
                            <a:lnTo>
                              <a:pt x="174" y="232"/>
                            </a:lnTo>
                            <a:lnTo>
                              <a:pt x="204" y="418"/>
                            </a:lnTo>
                            <a:lnTo>
                              <a:pt x="165" y="40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5" name="Freeform 813"/>
                      <p:cNvSpPr/>
                      <p:nvPr/>
                    </p:nvSpPr>
                    <p:spPr>
                      <a:xfrm rot="1802400">
                        <a:off x="4050360" y="3384360"/>
                        <a:ext cx="80640" cy="5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" h="67">
                            <a:moveTo>
                              <a:pt x="102" y="67"/>
                            </a:moveTo>
                            <a:lnTo>
                              <a:pt x="0" y="15"/>
                            </a:lnTo>
                            <a:lnTo>
                              <a:pt x="102" y="0"/>
                            </a:lnTo>
                            <a:lnTo>
                              <a:pt x="70" y="25"/>
                            </a:lnTo>
                            <a:lnTo>
                              <a:pt x="102" y="6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792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6" name="Freeform 814"/>
                    <p:cNvSpPr/>
                    <p:nvPr/>
                  </p:nvSpPr>
                  <p:spPr>
                    <a:xfrm rot="1802400">
                      <a:off x="4249440" y="3294360"/>
                      <a:ext cx="229680" cy="40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9" h="514">
                          <a:moveTo>
                            <a:pt x="102" y="0"/>
                          </a:moveTo>
                          <a:lnTo>
                            <a:pt x="0" y="272"/>
                          </a:lnTo>
                          <a:lnTo>
                            <a:pt x="186" y="514"/>
                          </a:lnTo>
                          <a:lnTo>
                            <a:pt x="289" y="237"/>
                          </a:lnTo>
                          <a:lnTo>
                            <a:pt x="102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17" name="Group 815"/>
            <p:cNvGrpSpPr/>
            <p:nvPr/>
          </p:nvGrpSpPr>
          <p:grpSpPr>
            <a:xfrm>
              <a:off x="3098160" y="1452960"/>
              <a:ext cx="2682000" cy="2940480"/>
              <a:chOff x="3098160" y="1452960"/>
              <a:chExt cx="2682000" cy="2940480"/>
            </a:xfrm>
          </p:grpSpPr>
          <p:sp>
            <p:nvSpPr>
              <p:cNvPr id="418" name="Freeform 816"/>
              <p:cNvSpPr/>
              <p:nvPr/>
            </p:nvSpPr>
            <p:spPr>
              <a:xfrm rot="2023800">
                <a:off x="3658680" y="1676160"/>
                <a:ext cx="1560240" cy="2493720"/>
              </a:xfrm>
              <a:custGeom>
                <a:avLst/>
                <a:gdLst/>
                <a:ahLst/>
                <a:rect l="l" t="t" r="r" b="b"/>
                <a:pathLst>
                  <a:path w="1968" h="3140">
                    <a:moveTo>
                      <a:pt x="0" y="150"/>
                    </a:moveTo>
                    <a:lnTo>
                      <a:pt x="8" y="86"/>
                    </a:lnTo>
                    <a:lnTo>
                      <a:pt x="28" y="38"/>
                    </a:lnTo>
                    <a:lnTo>
                      <a:pt x="69" y="11"/>
                    </a:lnTo>
                    <a:lnTo>
                      <a:pt x="128" y="0"/>
                    </a:lnTo>
                    <a:lnTo>
                      <a:pt x="1816" y="0"/>
                    </a:lnTo>
                    <a:lnTo>
                      <a:pt x="1876" y="5"/>
                    </a:lnTo>
                    <a:lnTo>
                      <a:pt x="1926" y="33"/>
                    </a:lnTo>
                    <a:lnTo>
                      <a:pt x="1957" y="86"/>
                    </a:lnTo>
                    <a:lnTo>
                      <a:pt x="1968" y="161"/>
                    </a:lnTo>
                    <a:lnTo>
                      <a:pt x="1968" y="2965"/>
                    </a:lnTo>
                    <a:lnTo>
                      <a:pt x="1966" y="3040"/>
                    </a:lnTo>
                    <a:lnTo>
                      <a:pt x="1952" y="3084"/>
                    </a:lnTo>
                    <a:lnTo>
                      <a:pt x="1921" y="3117"/>
                    </a:lnTo>
                    <a:lnTo>
                      <a:pt x="1886" y="3139"/>
                    </a:lnTo>
                    <a:lnTo>
                      <a:pt x="110" y="3140"/>
                    </a:lnTo>
                    <a:lnTo>
                      <a:pt x="62" y="3128"/>
                    </a:lnTo>
                    <a:lnTo>
                      <a:pt x="28" y="3101"/>
                    </a:lnTo>
                    <a:lnTo>
                      <a:pt x="8" y="3068"/>
                    </a:lnTo>
                    <a:lnTo>
                      <a:pt x="0" y="3009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Group 817"/>
              <p:cNvGrpSpPr/>
              <p:nvPr/>
            </p:nvGrpSpPr>
            <p:grpSpPr>
              <a:xfrm>
                <a:off x="4136040" y="1564200"/>
                <a:ext cx="598320" cy="2684520"/>
                <a:chOff x="4136040" y="1564200"/>
                <a:chExt cx="598320" cy="2684520"/>
              </a:xfrm>
            </p:grpSpPr>
            <p:sp>
              <p:nvSpPr>
                <p:cNvPr id="420" name="Freeform 818"/>
                <p:cNvSpPr/>
                <p:nvPr/>
              </p:nvSpPr>
              <p:spPr>
                <a:xfrm rot="2023800">
                  <a:off x="4266000" y="2637720"/>
                  <a:ext cx="338040" cy="571320"/>
                </a:xfrm>
                <a:custGeom>
                  <a:avLst/>
                  <a:gdLst/>
                  <a:ahLst/>
                  <a:rect l="l" t="t" r="r" b="b"/>
                  <a:pathLst>
                    <a:path w="425" h="720">
                      <a:moveTo>
                        <a:pt x="215" y="0"/>
                      </a:moveTo>
                      <a:lnTo>
                        <a:pt x="0" y="360"/>
                      </a:lnTo>
                      <a:lnTo>
                        <a:pt x="220" y="720"/>
                      </a:lnTo>
                      <a:lnTo>
                        <a:pt x="425" y="360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e0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819"/>
                <p:cNvSpPr/>
                <p:nvPr/>
              </p:nvSpPr>
              <p:spPr>
                <a:xfrm rot="2023800">
                  <a:off x="4268520" y="1801800"/>
                  <a:ext cx="150840" cy="250920"/>
                </a:xfrm>
                <a:custGeom>
                  <a:avLst/>
                  <a:gdLst/>
                  <a:ahLst/>
                  <a:rect l="l" t="t" r="r" b="b"/>
                  <a:pathLst>
                    <a:path w="189" h="316">
                      <a:moveTo>
                        <a:pt x="100" y="0"/>
                      </a:moveTo>
                      <a:lnTo>
                        <a:pt x="0" y="157"/>
                      </a:lnTo>
                      <a:lnTo>
                        <a:pt x="105" y="316"/>
                      </a:lnTo>
                      <a:lnTo>
                        <a:pt x="189" y="152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820"/>
                <p:cNvSpPr/>
                <p:nvPr/>
              </p:nvSpPr>
              <p:spPr>
                <a:xfrm rot="2023800">
                  <a:off x="4490280" y="3748320"/>
                  <a:ext cx="142920" cy="260280"/>
                </a:xfrm>
                <a:custGeom>
                  <a:avLst/>
                  <a:gdLst/>
                  <a:ahLst/>
                  <a:rect l="l" t="t" r="r" b="b"/>
                  <a:pathLst>
                    <a:path w="179" h="327">
                      <a:moveTo>
                        <a:pt x="89" y="0"/>
                      </a:moveTo>
                      <a:lnTo>
                        <a:pt x="0" y="169"/>
                      </a:lnTo>
                      <a:lnTo>
                        <a:pt x="95" y="327"/>
                      </a:lnTo>
                      <a:lnTo>
                        <a:pt x="179" y="169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Group 821"/>
                <p:cNvGrpSpPr/>
                <p:nvPr/>
              </p:nvGrpSpPr>
              <p:grpSpPr>
                <a:xfrm>
                  <a:off x="4380480" y="1564200"/>
                  <a:ext cx="241200" cy="267840"/>
                  <a:chOff x="4380480" y="1564200"/>
                  <a:chExt cx="241200" cy="267840"/>
                </a:xfrm>
              </p:grpSpPr>
              <p:sp>
                <p:nvSpPr>
                  <p:cNvPr id="424" name="Freeform 822"/>
                  <p:cNvSpPr/>
                  <p:nvPr/>
                </p:nvSpPr>
                <p:spPr>
                  <a:xfrm rot="2023800">
                    <a:off x="4433400" y="1581840"/>
                    <a:ext cx="13500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293">
                        <a:moveTo>
                          <a:pt x="52" y="290"/>
                        </a:moveTo>
                        <a:lnTo>
                          <a:pt x="0" y="290"/>
                        </a:lnTo>
                        <a:lnTo>
                          <a:pt x="41" y="0"/>
                        </a:lnTo>
                        <a:lnTo>
                          <a:pt x="127" y="0"/>
                        </a:lnTo>
                        <a:lnTo>
                          <a:pt x="170" y="293"/>
                        </a:lnTo>
                        <a:lnTo>
                          <a:pt x="112" y="293"/>
                        </a:lnTo>
                        <a:lnTo>
                          <a:pt x="102" y="240"/>
                        </a:lnTo>
                        <a:lnTo>
                          <a:pt x="65" y="240"/>
                        </a:lnTo>
                        <a:lnTo>
                          <a:pt x="52" y="29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Freeform 823"/>
                  <p:cNvSpPr/>
                  <p:nvPr/>
                </p:nvSpPr>
                <p:spPr>
                  <a:xfrm rot="2023800">
                    <a:off x="4493520" y="1638720"/>
                    <a:ext cx="270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18">
                        <a:moveTo>
                          <a:pt x="36" y="118"/>
                        </a:moveTo>
                        <a:lnTo>
                          <a:pt x="0" y="115"/>
                        </a:lnTo>
                        <a:lnTo>
                          <a:pt x="19" y="0"/>
                        </a:lnTo>
                        <a:lnTo>
                          <a:pt x="36" y="11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6" name="Group 824"/>
                <p:cNvGrpSpPr/>
                <p:nvPr/>
              </p:nvGrpSpPr>
              <p:grpSpPr>
                <a:xfrm>
                  <a:off x="4292280" y="3980880"/>
                  <a:ext cx="241200" cy="267840"/>
                  <a:chOff x="4292280" y="3980880"/>
                  <a:chExt cx="241200" cy="267840"/>
                </a:xfrm>
              </p:grpSpPr>
              <p:sp>
                <p:nvSpPr>
                  <p:cNvPr id="427" name="Freeform 825"/>
                  <p:cNvSpPr/>
                  <p:nvPr/>
                </p:nvSpPr>
                <p:spPr>
                  <a:xfrm rot="2023800">
                    <a:off x="4345200" y="3998520"/>
                    <a:ext cx="13500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292">
                        <a:moveTo>
                          <a:pt x="51" y="3"/>
                        </a:moveTo>
                        <a:lnTo>
                          <a:pt x="0" y="3"/>
                        </a:lnTo>
                        <a:lnTo>
                          <a:pt x="39" y="292"/>
                        </a:lnTo>
                        <a:lnTo>
                          <a:pt x="126" y="292"/>
                        </a:lnTo>
                        <a:lnTo>
                          <a:pt x="170" y="0"/>
                        </a:lnTo>
                        <a:lnTo>
                          <a:pt x="111" y="0"/>
                        </a:lnTo>
                        <a:lnTo>
                          <a:pt x="101" y="52"/>
                        </a:lnTo>
                        <a:lnTo>
                          <a:pt x="65" y="52"/>
                        </a:lnTo>
                        <a:lnTo>
                          <a:pt x="51" y="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Freeform 826"/>
                  <p:cNvSpPr/>
                  <p:nvPr/>
                </p:nvSpPr>
                <p:spPr>
                  <a:xfrm rot="2023800">
                    <a:off x="4390560" y="4078800"/>
                    <a:ext cx="284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119">
                        <a:moveTo>
                          <a:pt x="35" y="0"/>
                        </a:moveTo>
                        <a:lnTo>
                          <a:pt x="0" y="4"/>
                        </a:lnTo>
                        <a:lnTo>
                          <a:pt x="18" y="119"/>
                        </a:lnTo>
                        <a:lnTo>
                          <a:pt x="3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9" name="AutoShape 1484"/>
          <p:cNvSpPr/>
          <p:nvPr/>
        </p:nvSpPr>
        <p:spPr>
          <a:xfrm>
            <a:off x="2971800" y="1219320"/>
            <a:ext cx="1600200" cy="2514600"/>
          </a:xfrm>
          <a:custGeom>
            <a:avLst/>
            <a:gdLst>
              <a:gd name="textAreaLeft" fmla="*/ 48600 w 1600200"/>
              <a:gd name="textAreaRight" fmla="*/ 1551600 w 1600200"/>
              <a:gd name="textAreaTop" fmla="*/ 48600 h 2514600"/>
              <a:gd name="textAreaBottom" fmla="*/ 2466000 h 2514600"/>
            </a:gdLst>
            <a:ahLst/>
            <a:rect l="textAreaLeft" t="textAreaTop" r="textAreaRight" b="textAreaBottom"/>
            <a:pathLst>
              <a:path w="21600" h="33940">
                <a:moveTo>
                  <a:pt x="2250" y="0"/>
                </a:moveTo>
                <a:arcTo wR="2250" hR="2250" stAng="16200000" swAng="-5400000"/>
                <a:lnTo>
                  <a:pt x="0" y="31690"/>
                </a:lnTo>
                <a:arcTo wR="2250" hR="2250" stAng="10800000" swAng="-5400000"/>
                <a:lnTo>
                  <a:pt x="19350" y="33940"/>
                </a:lnTo>
                <a:arcTo wR="2250" hR="2250" stAng="5400000" swAng="-5400000"/>
                <a:lnTo>
                  <a:pt x="21600" y="2250"/>
                </a:lnTo>
                <a:arcTo wR="2250" hR="22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Group 1485"/>
          <p:cNvGrpSpPr/>
          <p:nvPr/>
        </p:nvGrpSpPr>
        <p:grpSpPr>
          <a:xfrm>
            <a:off x="1815840" y="494280"/>
            <a:ext cx="3898080" cy="3902040"/>
            <a:chOff x="1815840" y="494280"/>
            <a:chExt cx="3898080" cy="3902040"/>
          </a:xfrm>
        </p:grpSpPr>
        <p:sp>
          <p:nvSpPr>
            <p:cNvPr id="431" name="Freeform 1486"/>
            <p:cNvSpPr/>
            <p:nvPr/>
          </p:nvSpPr>
          <p:spPr>
            <a:xfrm rot="2511600">
              <a:off x="2397240" y="1050840"/>
              <a:ext cx="2734920" cy="2788920"/>
            </a:xfrm>
            <a:custGeom>
              <a:avLst/>
              <a:gdLst/>
              <a:ahLst/>
              <a:rect l="l" t="t" r="r" b="b"/>
              <a:pathLst>
                <a:path w="3350" h="3418">
                  <a:moveTo>
                    <a:pt x="3333" y="2154"/>
                  </a:moveTo>
                  <a:lnTo>
                    <a:pt x="3350" y="2243"/>
                  </a:lnTo>
                  <a:lnTo>
                    <a:pt x="3314" y="2309"/>
                  </a:lnTo>
                  <a:lnTo>
                    <a:pt x="3266" y="2371"/>
                  </a:lnTo>
                  <a:lnTo>
                    <a:pt x="2085" y="3374"/>
                  </a:lnTo>
                  <a:lnTo>
                    <a:pt x="2030" y="3413"/>
                  </a:lnTo>
                  <a:lnTo>
                    <a:pt x="1980" y="3418"/>
                  </a:lnTo>
                  <a:lnTo>
                    <a:pt x="1940" y="3413"/>
                  </a:lnTo>
                  <a:lnTo>
                    <a:pt x="1895" y="3385"/>
                  </a:lnTo>
                  <a:lnTo>
                    <a:pt x="45" y="1350"/>
                  </a:lnTo>
                  <a:lnTo>
                    <a:pt x="5" y="1290"/>
                  </a:lnTo>
                  <a:lnTo>
                    <a:pt x="0" y="1235"/>
                  </a:lnTo>
                  <a:lnTo>
                    <a:pt x="10" y="1186"/>
                  </a:lnTo>
                  <a:lnTo>
                    <a:pt x="34" y="1138"/>
                  </a:lnTo>
                  <a:lnTo>
                    <a:pt x="1159" y="74"/>
                  </a:lnTo>
                  <a:lnTo>
                    <a:pt x="1220" y="33"/>
                  </a:lnTo>
                  <a:lnTo>
                    <a:pt x="1299" y="0"/>
                  </a:lnTo>
                  <a:lnTo>
                    <a:pt x="1361" y="11"/>
                  </a:lnTo>
                  <a:lnTo>
                    <a:pt x="1423" y="44"/>
                  </a:lnTo>
                  <a:lnTo>
                    <a:pt x="3299" y="2111"/>
                  </a:lnTo>
                  <a:lnTo>
                    <a:pt x="3333" y="2154"/>
                  </a:lnTo>
                  <a:close/>
                </a:path>
              </a:pathLst>
            </a:custGeom>
            <a:solidFill>
              <a:srgbClr val="ffff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Group 1487"/>
            <p:cNvGrpSpPr/>
            <p:nvPr/>
          </p:nvGrpSpPr>
          <p:grpSpPr>
            <a:xfrm>
              <a:off x="2934360" y="1253160"/>
              <a:ext cx="1605960" cy="2393280"/>
              <a:chOff x="2934360" y="1253160"/>
              <a:chExt cx="1605960" cy="2393280"/>
            </a:xfrm>
          </p:grpSpPr>
          <p:sp>
            <p:nvSpPr>
              <p:cNvPr id="433" name="Freeform 1488"/>
              <p:cNvSpPr/>
              <p:nvPr/>
            </p:nvSpPr>
            <p:spPr>
              <a:xfrm rot="2511600">
                <a:off x="3057840" y="1573200"/>
                <a:ext cx="171360" cy="177840"/>
              </a:xfrm>
              <a:custGeom>
                <a:avLst/>
                <a:gdLst/>
                <a:ahLst/>
                <a:rect l="l" t="t" r="r" b="b"/>
                <a:pathLst>
                  <a:path w="210" h="219">
                    <a:moveTo>
                      <a:pt x="0" y="0"/>
                    </a:moveTo>
                    <a:lnTo>
                      <a:pt x="34" y="180"/>
                    </a:lnTo>
                    <a:lnTo>
                      <a:pt x="210" y="219"/>
                    </a:lnTo>
                    <a:lnTo>
                      <a:pt x="17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1489"/>
              <p:cNvSpPr/>
              <p:nvPr/>
            </p:nvSpPr>
            <p:spPr>
              <a:xfrm rot="2511600">
                <a:off x="3293640" y="1422000"/>
                <a:ext cx="338040" cy="383400"/>
              </a:xfrm>
              <a:custGeom>
                <a:avLst/>
                <a:gdLst/>
                <a:ahLst/>
                <a:rect l="l" t="t" r="r" b="b"/>
                <a:pathLst>
                  <a:path w="414" h="470">
                    <a:moveTo>
                      <a:pt x="0" y="0"/>
                    </a:moveTo>
                    <a:lnTo>
                      <a:pt x="75" y="388"/>
                    </a:lnTo>
                    <a:lnTo>
                      <a:pt x="414" y="470"/>
                    </a:lnTo>
                    <a:lnTo>
                      <a:pt x="335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1490"/>
              <p:cNvSpPr/>
              <p:nvPr/>
            </p:nvSpPr>
            <p:spPr>
              <a:xfrm rot="2511600">
                <a:off x="3287880" y="1988640"/>
                <a:ext cx="333000" cy="373320"/>
              </a:xfrm>
              <a:custGeom>
                <a:avLst/>
                <a:gdLst/>
                <a:ahLst/>
                <a:rect l="l" t="t" r="r" b="b"/>
                <a:pathLst>
                  <a:path w="409" h="458">
                    <a:moveTo>
                      <a:pt x="0" y="0"/>
                    </a:moveTo>
                    <a:lnTo>
                      <a:pt x="64" y="372"/>
                    </a:lnTo>
                    <a:lnTo>
                      <a:pt x="409" y="458"/>
                    </a:lnTo>
                    <a:lnTo>
                      <a:pt x="334" y="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" name="Group 1491"/>
              <p:cNvGrpSpPr/>
              <p:nvPr/>
            </p:nvGrpSpPr>
            <p:grpSpPr>
              <a:xfrm>
                <a:off x="2934360" y="1253160"/>
                <a:ext cx="408600" cy="286560"/>
                <a:chOff x="2934360" y="1253160"/>
                <a:chExt cx="408600" cy="286560"/>
              </a:xfrm>
            </p:grpSpPr>
            <p:sp>
              <p:nvSpPr>
                <p:cNvPr id="437" name="Freeform 1492"/>
                <p:cNvSpPr/>
                <p:nvPr/>
              </p:nvSpPr>
              <p:spPr>
                <a:xfrm rot="2511600">
                  <a:off x="2979720" y="1294200"/>
                  <a:ext cx="186120" cy="207000"/>
                </a:xfrm>
                <a:custGeom>
                  <a:avLst/>
                  <a:gdLst/>
                  <a:ahLst/>
                  <a:rect l="l" t="t" r="r" b="b"/>
                  <a:pathLst>
                    <a:path w="228" h="254">
                      <a:moveTo>
                        <a:pt x="0" y="46"/>
                      </a:moveTo>
                      <a:lnTo>
                        <a:pt x="42" y="0"/>
                      </a:lnTo>
                      <a:lnTo>
                        <a:pt x="228" y="210"/>
                      </a:lnTo>
                      <a:lnTo>
                        <a:pt x="183" y="254"/>
                      </a:lnTo>
                      <a:lnTo>
                        <a:pt x="40" y="86"/>
                      </a:lnTo>
                      <a:lnTo>
                        <a:pt x="19" y="103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Group 1493"/>
                <p:cNvGrpSpPr/>
                <p:nvPr/>
              </p:nvGrpSpPr>
              <p:grpSpPr>
                <a:xfrm>
                  <a:off x="3056400" y="1253160"/>
                  <a:ext cx="286560" cy="286560"/>
                  <a:chOff x="3056400" y="1253160"/>
                  <a:chExt cx="286560" cy="286560"/>
                </a:xfrm>
              </p:grpSpPr>
              <p:sp>
                <p:nvSpPr>
                  <p:cNvPr id="439" name="Freeform 1494"/>
                  <p:cNvSpPr/>
                  <p:nvPr/>
                </p:nvSpPr>
                <p:spPr>
                  <a:xfrm rot="2511600">
                    <a:off x="3097440" y="1295280"/>
                    <a:ext cx="203760" cy="20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48">
                        <a:moveTo>
                          <a:pt x="44" y="0"/>
                        </a:moveTo>
                        <a:lnTo>
                          <a:pt x="0" y="43"/>
                        </a:lnTo>
                        <a:lnTo>
                          <a:pt x="0" y="95"/>
                        </a:lnTo>
                        <a:lnTo>
                          <a:pt x="132" y="242"/>
                        </a:lnTo>
                        <a:lnTo>
                          <a:pt x="195" y="248"/>
                        </a:lnTo>
                        <a:lnTo>
                          <a:pt x="252" y="198"/>
                        </a:lnTo>
                        <a:lnTo>
                          <a:pt x="234" y="147"/>
                        </a:lnTo>
                        <a:lnTo>
                          <a:pt x="101" y="3"/>
                        </a:lnTo>
                        <a:lnTo>
                          <a:pt x="4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Freeform 1495"/>
                  <p:cNvSpPr/>
                  <p:nvPr/>
                </p:nvSpPr>
                <p:spPr>
                  <a:xfrm rot="2511600">
                    <a:off x="3135240" y="1327320"/>
                    <a:ext cx="1173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55">
                        <a:moveTo>
                          <a:pt x="29" y="0"/>
                        </a:moveTo>
                        <a:lnTo>
                          <a:pt x="0" y="30"/>
                        </a:lnTo>
                        <a:lnTo>
                          <a:pt x="112" y="155"/>
                        </a:lnTo>
                        <a:lnTo>
                          <a:pt x="142" y="127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1" name="Freeform 1496"/>
              <p:cNvSpPr/>
              <p:nvPr/>
            </p:nvSpPr>
            <p:spPr>
              <a:xfrm rot="2511600">
                <a:off x="3292560" y="2539080"/>
                <a:ext cx="334440" cy="373320"/>
              </a:xfrm>
              <a:custGeom>
                <a:avLst/>
                <a:gdLst/>
                <a:ahLst/>
                <a:rect l="l" t="t" r="r" b="b"/>
                <a:pathLst>
                  <a:path w="409" h="458">
                    <a:moveTo>
                      <a:pt x="0" y="0"/>
                    </a:moveTo>
                    <a:lnTo>
                      <a:pt x="65" y="371"/>
                    </a:lnTo>
                    <a:lnTo>
                      <a:pt x="409" y="458"/>
                    </a:lnTo>
                    <a:lnTo>
                      <a:pt x="335" y="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Freeform 1497"/>
              <p:cNvSpPr/>
              <p:nvPr/>
            </p:nvSpPr>
            <p:spPr>
              <a:xfrm rot="2511600">
                <a:off x="3296520" y="3090240"/>
                <a:ext cx="334440" cy="373680"/>
              </a:xfrm>
              <a:custGeom>
                <a:avLst/>
                <a:gdLst/>
                <a:ahLst/>
                <a:rect l="l" t="t" r="r" b="b"/>
                <a:pathLst>
                  <a:path w="409" h="458">
                    <a:moveTo>
                      <a:pt x="0" y="0"/>
                    </a:moveTo>
                    <a:lnTo>
                      <a:pt x="65" y="371"/>
                    </a:lnTo>
                    <a:lnTo>
                      <a:pt x="409" y="458"/>
                    </a:lnTo>
                    <a:lnTo>
                      <a:pt x="335" y="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Freeform 1498"/>
              <p:cNvSpPr/>
              <p:nvPr/>
            </p:nvSpPr>
            <p:spPr>
              <a:xfrm rot="2511600">
                <a:off x="3822840" y="1381320"/>
                <a:ext cx="338040" cy="384840"/>
              </a:xfrm>
              <a:custGeom>
                <a:avLst/>
                <a:gdLst/>
                <a:ahLst/>
                <a:rect l="l" t="t" r="r" b="b"/>
                <a:pathLst>
                  <a:path w="414" h="470">
                    <a:moveTo>
                      <a:pt x="0" y="0"/>
                    </a:moveTo>
                    <a:lnTo>
                      <a:pt x="74" y="388"/>
                    </a:lnTo>
                    <a:lnTo>
                      <a:pt x="414" y="470"/>
                    </a:lnTo>
                    <a:lnTo>
                      <a:pt x="335" y="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Freeform 1499"/>
              <p:cNvSpPr/>
              <p:nvPr/>
            </p:nvSpPr>
            <p:spPr>
              <a:xfrm rot="2511600">
                <a:off x="3816000" y="1949400"/>
                <a:ext cx="334440" cy="373680"/>
              </a:xfrm>
              <a:custGeom>
                <a:avLst/>
                <a:gdLst/>
                <a:ahLst/>
                <a:rect l="l" t="t" r="r" b="b"/>
                <a:pathLst>
                  <a:path w="409" h="458">
                    <a:moveTo>
                      <a:pt x="0" y="0"/>
                    </a:moveTo>
                    <a:lnTo>
                      <a:pt x="65" y="372"/>
                    </a:lnTo>
                    <a:lnTo>
                      <a:pt x="409" y="458"/>
                    </a:lnTo>
                    <a:lnTo>
                      <a:pt x="335" y="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Freeform 1500"/>
              <p:cNvSpPr/>
              <p:nvPr/>
            </p:nvSpPr>
            <p:spPr>
              <a:xfrm rot="2511600">
                <a:off x="3821040" y="2499840"/>
                <a:ext cx="334440" cy="373680"/>
              </a:xfrm>
              <a:custGeom>
                <a:avLst/>
                <a:gdLst/>
                <a:ahLst/>
                <a:rect l="l" t="t" r="r" b="b"/>
                <a:pathLst>
                  <a:path w="409" h="458">
                    <a:moveTo>
                      <a:pt x="0" y="0"/>
                    </a:moveTo>
                    <a:lnTo>
                      <a:pt x="64" y="371"/>
                    </a:lnTo>
                    <a:lnTo>
                      <a:pt x="409" y="458"/>
                    </a:lnTo>
                    <a:lnTo>
                      <a:pt x="334" y="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Freeform 1501"/>
              <p:cNvSpPr/>
              <p:nvPr/>
            </p:nvSpPr>
            <p:spPr>
              <a:xfrm rot="2511600">
                <a:off x="3826080" y="3049920"/>
                <a:ext cx="334440" cy="373680"/>
              </a:xfrm>
              <a:custGeom>
                <a:avLst/>
                <a:gdLst/>
                <a:ahLst/>
                <a:rect l="l" t="t" r="r" b="b"/>
                <a:pathLst>
                  <a:path w="409" h="458">
                    <a:moveTo>
                      <a:pt x="0" y="0"/>
                    </a:moveTo>
                    <a:lnTo>
                      <a:pt x="65" y="371"/>
                    </a:lnTo>
                    <a:lnTo>
                      <a:pt x="409" y="458"/>
                    </a:lnTo>
                    <a:lnTo>
                      <a:pt x="335" y="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Freeform 1502"/>
              <p:cNvSpPr/>
              <p:nvPr/>
            </p:nvSpPr>
            <p:spPr>
              <a:xfrm rot="2511600">
                <a:off x="3548160" y="1676160"/>
                <a:ext cx="333000" cy="373320"/>
              </a:xfrm>
              <a:custGeom>
                <a:avLst/>
                <a:gdLst/>
                <a:ahLst/>
                <a:rect l="l" t="t" r="r" b="b"/>
                <a:pathLst>
                  <a:path w="409" h="458">
                    <a:moveTo>
                      <a:pt x="0" y="0"/>
                    </a:moveTo>
                    <a:lnTo>
                      <a:pt x="65" y="371"/>
                    </a:lnTo>
                    <a:lnTo>
                      <a:pt x="409" y="458"/>
                    </a:lnTo>
                    <a:lnTo>
                      <a:pt x="335" y="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Freeform 1503"/>
              <p:cNvSpPr/>
              <p:nvPr/>
            </p:nvSpPr>
            <p:spPr>
              <a:xfrm rot="2511600">
                <a:off x="3566160" y="2777040"/>
                <a:ext cx="333000" cy="373680"/>
              </a:xfrm>
              <a:custGeom>
                <a:avLst/>
                <a:gdLst/>
                <a:ahLst/>
                <a:rect l="l" t="t" r="r" b="b"/>
                <a:pathLst>
                  <a:path w="409" h="458">
                    <a:moveTo>
                      <a:pt x="0" y="0"/>
                    </a:moveTo>
                    <a:lnTo>
                      <a:pt x="65" y="372"/>
                    </a:lnTo>
                    <a:lnTo>
                      <a:pt x="409" y="458"/>
                    </a:lnTo>
                    <a:lnTo>
                      <a:pt x="335" y="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Freeform 1504"/>
              <p:cNvSpPr/>
              <p:nvPr/>
            </p:nvSpPr>
            <p:spPr>
              <a:xfrm rot="2511600">
                <a:off x="4245840" y="3134880"/>
                <a:ext cx="171360" cy="177840"/>
              </a:xfrm>
              <a:custGeom>
                <a:avLst/>
                <a:gdLst/>
                <a:ahLst/>
                <a:rect l="l" t="t" r="r" b="b"/>
                <a:pathLst>
                  <a:path w="210" h="219">
                    <a:moveTo>
                      <a:pt x="0" y="0"/>
                    </a:moveTo>
                    <a:lnTo>
                      <a:pt x="34" y="180"/>
                    </a:lnTo>
                    <a:lnTo>
                      <a:pt x="210" y="219"/>
                    </a:lnTo>
                    <a:lnTo>
                      <a:pt x="170" y="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0" name="Group 1505"/>
              <p:cNvGrpSpPr/>
              <p:nvPr/>
            </p:nvGrpSpPr>
            <p:grpSpPr>
              <a:xfrm>
                <a:off x="4132800" y="3357000"/>
                <a:ext cx="407520" cy="289440"/>
                <a:chOff x="4132800" y="3357000"/>
                <a:chExt cx="407520" cy="289440"/>
              </a:xfrm>
            </p:grpSpPr>
            <p:grpSp>
              <p:nvGrpSpPr>
                <p:cNvPr id="451" name="Group 1506"/>
                <p:cNvGrpSpPr/>
                <p:nvPr/>
              </p:nvGrpSpPr>
              <p:grpSpPr>
                <a:xfrm>
                  <a:off x="4132800" y="3360600"/>
                  <a:ext cx="286200" cy="285840"/>
                  <a:chOff x="4132800" y="3360600"/>
                  <a:chExt cx="286200" cy="285840"/>
                </a:xfrm>
              </p:grpSpPr>
              <p:sp>
                <p:nvSpPr>
                  <p:cNvPr id="452" name="Freeform 1507"/>
                  <p:cNvSpPr/>
                  <p:nvPr/>
                </p:nvSpPr>
                <p:spPr>
                  <a:xfrm rot="2511600">
                    <a:off x="4174200" y="3402720"/>
                    <a:ext cx="203400" cy="20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247">
                        <a:moveTo>
                          <a:pt x="44" y="0"/>
                        </a:moveTo>
                        <a:lnTo>
                          <a:pt x="0" y="42"/>
                        </a:lnTo>
                        <a:lnTo>
                          <a:pt x="0" y="95"/>
                        </a:lnTo>
                        <a:lnTo>
                          <a:pt x="132" y="241"/>
                        </a:lnTo>
                        <a:lnTo>
                          <a:pt x="195" y="247"/>
                        </a:lnTo>
                        <a:lnTo>
                          <a:pt x="252" y="197"/>
                        </a:lnTo>
                        <a:lnTo>
                          <a:pt x="234" y="146"/>
                        </a:lnTo>
                        <a:lnTo>
                          <a:pt x="101" y="2"/>
                        </a:lnTo>
                        <a:lnTo>
                          <a:pt x="4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1508"/>
                  <p:cNvSpPr/>
                  <p:nvPr/>
                </p:nvSpPr>
                <p:spPr>
                  <a:xfrm rot="2511600">
                    <a:off x="4211640" y="3434760"/>
                    <a:ext cx="1173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55">
                        <a:moveTo>
                          <a:pt x="29" y="0"/>
                        </a:moveTo>
                        <a:lnTo>
                          <a:pt x="0" y="30"/>
                        </a:lnTo>
                        <a:lnTo>
                          <a:pt x="112" y="155"/>
                        </a:lnTo>
                        <a:lnTo>
                          <a:pt x="142" y="127"/>
                        </a:lnTo>
                        <a:lnTo>
                          <a:pt x="2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" name="Freeform 1509"/>
                <p:cNvSpPr/>
                <p:nvPr/>
              </p:nvSpPr>
              <p:spPr>
                <a:xfrm rot="2511600">
                  <a:off x="4298040" y="3396240"/>
                  <a:ext cx="197640" cy="208800"/>
                </a:xfrm>
                <a:custGeom>
                  <a:avLst/>
                  <a:gdLst/>
                  <a:ahLst/>
                  <a:rect l="l" t="t" r="r" b="b"/>
                  <a:pathLst>
                    <a:path w="242" h="257">
                      <a:moveTo>
                        <a:pt x="0" y="42"/>
                      </a:moveTo>
                      <a:lnTo>
                        <a:pt x="45" y="0"/>
                      </a:lnTo>
                      <a:lnTo>
                        <a:pt x="201" y="169"/>
                      </a:lnTo>
                      <a:lnTo>
                        <a:pt x="217" y="148"/>
                      </a:lnTo>
                      <a:lnTo>
                        <a:pt x="241" y="168"/>
                      </a:lnTo>
                      <a:lnTo>
                        <a:pt x="242" y="219"/>
                      </a:lnTo>
                      <a:lnTo>
                        <a:pt x="201" y="257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5" name="Group 1483"/>
          <p:cNvGrpSpPr/>
          <p:nvPr/>
        </p:nvGrpSpPr>
        <p:grpSpPr>
          <a:xfrm>
            <a:off x="2629440" y="994680"/>
            <a:ext cx="3492720" cy="3596400"/>
            <a:chOff x="2629440" y="994680"/>
            <a:chExt cx="3492720" cy="3596400"/>
          </a:xfrm>
        </p:grpSpPr>
        <p:grpSp>
          <p:nvGrpSpPr>
            <p:cNvPr id="456" name="Group 1106"/>
            <p:cNvGrpSpPr/>
            <p:nvPr/>
          </p:nvGrpSpPr>
          <p:grpSpPr>
            <a:xfrm>
              <a:off x="2967120" y="1226160"/>
              <a:ext cx="2328840" cy="2717280"/>
              <a:chOff x="2967120" y="1226160"/>
              <a:chExt cx="2328840" cy="2717280"/>
            </a:xfrm>
          </p:grpSpPr>
          <p:sp>
            <p:nvSpPr>
              <p:cNvPr id="457" name="Freeform 1107"/>
              <p:cNvSpPr/>
              <p:nvPr/>
            </p:nvSpPr>
            <p:spPr>
              <a:xfrm rot="570000">
                <a:off x="3322080" y="1337760"/>
                <a:ext cx="1559880" cy="2494080"/>
              </a:xfrm>
              <a:custGeom>
                <a:avLst/>
                <a:gdLst/>
                <a:ahLst/>
                <a:rect l="l" t="t" r="r" b="b"/>
                <a:pathLst>
                  <a:path w="1968" h="3140">
                    <a:moveTo>
                      <a:pt x="0" y="150"/>
                    </a:moveTo>
                    <a:lnTo>
                      <a:pt x="8" y="86"/>
                    </a:lnTo>
                    <a:lnTo>
                      <a:pt x="28" y="38"/>
                    </a:lnTo>
                    <a:lnTo>
                      <a:pt x="69" y="11"/>
                    </a:lnTo>
                    <a:lnTo>
                      <a:pt x="128" y="0"/>
                    </a:lnTo>
                    <a:lnTo>
                      <a:pt x="1816" y="0"/>
                    </a:lnTo>
                    <a:lnTo>
                      <a:pt x="1876" y="5"/>
                    </a:lnTo>
                    <a:lnTo>
                      <a:pt x="1926" y="33"/>
                    </a:lnTo>
                    <a:lnTo>
                      <a:pt x="1957" y="86"/>
                    </a:lnTo>
                    <a:lnTo>
                      <a:pt x="1968" y="161"/>
                    </a:lnTo>
                    <a:lnTo>
                      <a:pt x="1968" y="2965"/>
                    </a:lnTo>
                    <a:lnTo>
                      <a:pt x="1966" y="3040"/>
                    </a:lnTo>
                    <a:lnTo>
                      <a:pt x="1952" y="3084"/>
                    </a:lnTo>
                    <a:lnTo>
                      <a:pt x="1921" y="3117"/>
                    </a:lnTo>
                    <a:lnTo>
                      <a:pt x="1886" y="3139"/>
                    </a:lnTo>
                    <a:lnTo>
                      <a:pt x="110" y="3140"/>
                    </a:lnTo>
                    <a:lnTo>
                      <a:pt x="62" y="3128"/>
                    </a:lnTo>
                    <a:lnTo>
                      <a:pt x="28" y="3101"/>
                    </a:lnTo>
                    <a:lnTo>
                      <a:pt x="8" y="3068"/>
                    </a:lnTo>
                    <a:lnTo>
                      <a:pt x="0" y="3009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Group 1108"/>
              <p:cNvGrpSpPr/>
              <p:nvPr/>
            </p:nvGrpSpPr>
            <p:grpSpPr>
              <a:xfrm>
                <a:off x="2967120" y="1338480"/>
                <a:ext cx="2328840" cy="2504520"/>
                <a:chOff x="2967120" y="1338480"/>
                <a:chExt cx="2328840" cy="2504520"/>
              </a:xfrm>
            </p:grpSpPr>
            <p:sp>
              <p:nvSpPr>
                <p:cNvPr id="459" name="Freeform 1109"/>
                <p:cNvSpPr/>
                <p:nvPr/>
              </p:nvSpPr>
              <p:spPr>
                <a:xfrm rot="2130000">
                  <a:off x="3591720" y="1630440"/>
                  <a:ext cx="127080" cy="217800"/>
                </a:xfrm>
                <a:custGeom>
                  <a:avLst/>
                  <a:gdLst/>
                  <a:ahLst/>
                  <a:rect l="l" t="t" r="r" b="b"/>
                  <a:pathLst>
                    <a:path w="160" h="274">
                      <a:moveTo>
                        <a:pt x="21" y="0"/>
                      </a:moveTo>
                      <a:lnTo>
                        <a:pt x="0" y="174"/>
                      </a:lnTo>
                      <a:lnTo>
                        <a:pt x="159" y="274"/>
                      </a:lnTo>
                      <a:lnTo>
                        <a:pt x="160" y="87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Freeform 1110"/>
                <p:cNvSpPr/>
                <p:nvPr/>
              </p:nvSpPr>
              <p:spPr>
                <a:xfrm rot="2130000">
                  <a:off x="3645360" y="1353240"/>
                  <a:ext cx="129960" cy="244440"/>
                </a:xfrm>
                <a:custGeom>
                  <a:avLst/>
                  <a:gdLst/>
                  <a:ahLst/>
                  <a:rect l="l" t="t" r="r" b="b"/>
                  <a:pathLst>
                    <a:path w="165" h="308">
                      <a:moveTo>
                        <a:pt x="11" y="25"/>
                      </a:moveTo>
                      <a:lnTo>
                        <a:pt x="66" y="0"/>
                      </a:lnTo>
                      <a:lnTo>
                        <a:pt x="165" y="220"/>
                      </a:lnTo>
                      <a:lnTo>
                        <a:pt x="142" y="277"/>
                      </a:lnTo>
                      <a:lnTo>
                        <a:pt x="87" y="308"/>
                      </a:lnTo>
                      <a:lnTo>
                        <a:pt x="27" y="286"/>
                      </a:lnTo>
                      <a:lnTo>
                        <a:pt x="0" y="216"/>
                      </a:lnTo>
                      <a:lnTo>
                        <a:pt x="45" y="193"/>
                      </a:lnTo>
                      <a:lnTo>
                        <a:pt x="75" y="244"/>
                      </a:lnTo>
                      <a:lnTo>
                        <a:pt x="107" y="227"/>
                      </a:lnTo>
                      <a:lnTo>
                        <a:pt x="11" y="25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1" name="Group 1111"/>
                <p:cNvGrpSpPr/>
                <p:nvPr/>
              </p:nvGrpSpPr>
              <p:grpSpPr>
                <a:xfrm>
                  <a:off x="3519720" y="1589760"/>
                  <a:ext cx="1355400" cy="1155960"/>
                  <a:chOff x="3519720" y="1589760"/>
                  <a:chExt cx="1355400" cy="1155960"/>
                </a:xfrm>
              </p:grpSpPr>
              <p:sp>
                <p:nvSpPr>
                  <p:cNvPr id="462" name="Freeform 1112"/>
                  <p:cNvSpPr/>
                  <p:nvPr/>
                </p:nvSpPr>
                <p:spPr>
                  <a:xfrm rot="2130000">
                    <a:off x="4074480" y="1691280"/>
                    <a:ext cx="44424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1" h="369">
                        <a:moveTo>
                          <a:pt x="561" y="0"/>
                        </a:moveTo>
                        <a:lnTo>
                          <a:pt x="0" y="283"/>
                        </a:lnTo>
                        <a:lnTo>
                          <a:pt x="149" y="321"/>
                        </a:lnTo>
                        <a:lnTo>
                          <a:pt x="171" y="369"/>
                        </a:lnTo>
                        <a:lnTo>
                          <a:pt x="519" y="200"/>
                        </a:lnTo>
                        <a:lnTo>
                          <a:pt x="497" y="153"/>
                        </a:lnTo>
                        <a:lnTo>
                          <a:pt x="561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Freeform 1113"/>
                  <p:cNvSpPr/>
                  <p:nvPr/>
                </p:nvSpPr>
                <p:spPr>
                  <a:xfrm rot="2130000">
                    <a:off x="4079880" y="1883880"/>
                    <a:ext cx="2746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388">
                        <a:moveTo>
                          <a:pt x="204" y="0"/>
                        </a:moveTo>
                        <a:lnTo>
                          <a:pt x="0" y="103"/>
                        </a:lnTo>
                        <a:lnTo>
                          <a:pt x="116" y="344"/>
                        </a:lnTo>
                        <a:lnTo>
                          <a:pt x="145" y="355"/>
                        </a:lnTo>
                        <a:lnTo>
                          <a:pt x="206" y="388"/>
                        </a:lnTo>
                        <a:lnTo>
                          <a:pt x="312" y="337"/>
                        </a:lnTo>
                        <a:lnTo>
                          <a:pt x="346" y="290"/>
                        </a:lnTo>
                        <a:lnTo>
                          <a:pt x="20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Freeform 1114"/>
                  <p:cNvSpPr/>
                  <p:nvPr/>
                </p:nvSpPr>
                <p:spPr>
                  <a:xfrm rot="2130000">
                    <a:off x="4035600" y="1910520"/>
                    <a:ext cx="127080" cy="28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362">
                        <a:moveTo>
                          <a:pt x="22" y="0"/>
                        </a:moveTo>
                        <a:lnTo>
                          <a:pt x="124" y="221"/>
                        </a:lnTo>
                        <a:lnTo>
                          <a:pt x="159" y="239"/>
                        </a:lnTo>
                        <a:lnTo>
                          <a:pt x="131" y="322"/>
                        </a:lnTo>
                        <a:lnTo>
                          <a:pt x="54" y="362"/>
                        </a:lnTo>
                        <a:lnTo>
                          <a:pt x="10" y="269"/>
                        </a:lnTo>
                        <a:lnTo>
                          <a:pt x="63" y="241"/>
                        </a:lnTo>
                        <a:lnTo>
                          <a:pt x="0" y="113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Freeform 1115"/>
                  <p:cNvSpPr/>
                  <p:nvPr/>
                </p:nvSpPr>
                <p:spPr>
                  <a:xfrm rot="2130000">
                    <a:off x="4076640" y="2131200"/>
                    <a:ext cx="2379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2">
                        <a:moveTo>
                          <a:pt x="235" y="0"/>
                        </a:moveTo>
                        <a:lnTo>
                          <a:pt x="193" y="51"/>
                        </a:lnTo>
                        <a:lnTo>
                          <a:pt x="92" y="100"/>
                        </a:lnTo>
                        <a:lnTo>
                          <a:pt x="29" y="67"/>
                        </a:lnTo>
                        <a:lnTo>
                          <a:pt x="23" y="94"/>
                        </a:lnTo>
                        <a:lnTo>
                          <a:pt x="0" y="145"/>
                        </a:lnTo>
                        <a:lnTo>
                          <a:pt x="97" y="162"/>
                        </a:lnTo>
                        <a:lnTo>
                          <a:pt x="255" y="89"/>
                        </a:lnTo>
                        <a:lnTo>
                          <a:pt x="300" y="11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Freeform 1116"/>
                  <p:cNvSpPr/>
                  <p:nvPr/>
                </p:nvSpPr>
                <p:spPr>
                  <a:xfrm rot="2130000">
                    <a:off x="4484880" y="1951560"/>
                    <a:ext cx="293760" cy="42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536">
                        <a:moveTo>
                          <a:pt x="263" y="458"/>
                        </a:moveTo>
                        <a:lnTo>
                          <a:pt x="202" y="326"/>
                        </a:lnTo>
                        <a:lnTo>
                          <a:pt x="59" y="312"/>
                        </a:lnTo>
                        <a:lnTo>
                          <a:pt x="0" y="224"/>
                        </a:lnTo>
                        <a:lnTo>
                          <a:pt x="124" y="236"/>
                        </a:lnTo>
                        <a:lnTo>
                          <a:pt x="152" y="225"/>
                        </a:lnTo>
                        <a:lnTo>
                          <a:pt x="89" y="94"/>
                        </a:lnTo>
                        <a:lnTo>
                          <a:pt x="127" y="0"/>
                        </a:lnTo>
                        <a:lnTo>
                          <a:pt x="370" y="503"/>
                        </a:lnTo>
                        <a:lnTo>
                          <a:pt x="302" y="536"/>
                        </a:lnTo>
                        <a:lnTo>
                          <a:pt x="263" y="458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Freeform 1117"/>
                  <p:cNvSpPr/>
                  <p:nvPr/>
                </p:nvSpPr>
                <p:spPr>
                  <a:xfrm rot="2130000">
                    <a:off x="4577040" y="2391840"/>
                    <a:ext cx="727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77">
                        <a:moveTo>
                          <a:pt x="70" y="0"/>
                        </a:moveTo>
                        <a:lnTo>
                          <a:pt x="0" y="33"/>
                        </a:lnTo>
                        <a:lnTo>
                          <a:pt x="23" y="77"/>
                        </a:lnTo>
                        <a:lnTo>
                          <a:pt x="92" y="45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Freeform 1118"/>
                  <p:cNvSpPr/>
                  <p:nvPr/>
                </p:nvSpPr>
                <p:spPr>
                  <a:xfrm rot="2130000">
                    <a:off x="4570560" y="2430000"/>
                    <a:ext cx="810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84">
                        <a:moveTo>
                          <a:pt x="75" y="0"/>
                        </a:moveTo>
                        <a:lnTo>
                          <a:pt x="0" y="39"/>
                        </a:lnTo>
                        <a:lnTo>
                          <a:pt x="22" y="84"/>
                        </a:lnTo>
                        <a:lnTo>
                          <a:pt x="101" y="5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Freeform 1119"/>
                  <p:cNvSpPr/>
                  <p:nvPr/>
                </p:nvSpPr>
                <p:spPr>
                  <a:xfrm rot="2130000">
                    <a:off x="4564080" y="2475720"/>
                    <a:ext cx="7452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81">
                        <a:moveTo>
                          <a:pt x="67" y="0"/>
                        </a:moveTo>
                        <a:lnTo>
                          <a:pt x="0" y="33"/>
                        </a:lnTo>
                        <a:lnTo>
                          <a:pt x="23" y="81"/>
                        </a:lnTo>
                        <a:lnTo>
                          <a:pt x="93" y="48"/>
                        </a:lnTo>
                        <a:lnTo>
                          <a:pt x="6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Freeform 1120"/>
                  <p:cNvSpPr/>
                  <p:nvPr/>
                </p:nvSpPr>
                <p:spPr>
                  <a:xfrm rot="2130000">
                    <a:off x="4138200" y="2188080"/>
                    <a:ext cx="35244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632">
                        <a:moveTo>
                          <a:pt x="445" y="61"/>
                        </a:moveTo>
                        <a:lnTo>
                          <a:pt x="241" y="0"/>
                        </a:lnTo>
                        <a:lnTo>
                          <a:pt x="0" y="632"/>
                        </a:lnTo>
                        <a:lnTo>
                          <a:pt x="243" y="513"/>
                        </a:lnTo>
                        <a:lnTo>
                          <a:pt x="445" y="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Freeform 1121"/>
                  <p:cNvSpPr/>
                  <p:nvPr/>
                </p:nvSpPr>
                <p:spPr>
                  <a:xfrm rot="2130000">
                    <a:off x="4182480" y="2162160"/>
                    <a:ext cx="181080" cy="48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608">
                        <a:moveTo>
                          <a:pt x="202" y="0"/>
                        </a:moveTo>
                        <a:lnTo>
                          <a:pt x="0" y="608"/>
                        </a:lnTo>
                        <a:lnTo>
                          <a:pt x="32" y="590"/>
                        </a:lnTo>
                        <a:lnTo>
                          <a:pt x="228" y="10"/>
                        </a:lnTo>
                        <a:lnTo>
                          <a:pt x="20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Freeform 1122"/>
                  <p:cNvSpPr/>
                  <p:nvPr/>
                </p:nvSpPr>
                <p:spPr>
                  <a:xfrm rot="2130000">
                    <a:off x="4233240" y="2200680"/>
                    <a:ext cx="171720" cy="44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563">
                        <a:moveTo>
                          <a:pt x="190" y="0"/>
                        </a:moveTo>
                        <a:lnTo>
                          <a:pt x="0" y="563"/>
                        </a:lnTo>
                        <a:lnTo>
                          <a:pt x="41" y="544"/>
                        </a:lnTo>
                        <a:lnTo>
                          <a:pt x="217" y="13"/>
                        </a:lnTo>
                        <a:lnTo>
                          <a:pt x="190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Freeform 1123"/>
                  <p:cNvSpPr/>
                  <p:nvPr/>
                </p:nvSpPr>
                <p:spPr>
                  <a:xfrm rot="2130000">
                    <a:off x="3918960" y="2066040"/>
                    <a:ext cx="43020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702">
                        <a:moveTo>
                          <a:pt x="542" y="0"/>
                        </a:moveTo>
                        <a:lnTo>
                          <a:pt x="524" y="33"/>
                        </a:lnTo>
                        <a:lnTo>
                          <a:pt x="386" y="95"/>
                        </a:lnTo>
                        <a:lnTo>
                          <a:pt x="377" y="81"/>
                        </a:lnTo>
                        <a:lnTo>
                          <a:pt x="334" y="160"/>
                        </a:lnTo>
                        <a:lnTo>
                          <a:pt x="172" y="238"/>
                        </a:lnTo>
                        <a:lnTo>
                          <a:pt x="68" y="222"/>
                        </a:lnTo>
                        <a:lnTo>
                          <a:pt x="11" y="250"/>
                        </a:lnTo>
                        <a:lnTo>
                          <a:pt x="87" y="407"/>
                        </a:lnTo>
                        <a:lnTo>
                          <a:pt x="0" y="609"/>
                        </a:lnTo>
                        <a:lnTo>
                          <a:pt x="156" y="702"/>
                        </a:lnTo>
                        <a:lnTo>
                          <a:pt x="319" y="622"/>
                        </a:lnTo>
                        <a:lnTo>
                          <a:pt x="54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Freeform 1124"/>
                  <p:cNvSpPr/>
                  <p:nvPr/>
                </p:nvSpPr>
                <p:spPr>
                  <a:xfrm rot="2130000">
                    <a:off x="4015800" y="2118240"/>
                    <a:ext cx="37476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0">
                        <a:moveTo>
                          <a:pt x="397" y="35"/>
                        </a:moveTo>
                        <a:lnTo>
                          <a:pt x="336" y="148"/>
                        </a:lnTo>
                        <a:lnTo>
                          <a:pt x="167" y="229"/>
                        </a:lnTo>
                        <a:lnTo>
                          <a:pt x="66" y="212"/>
                        </a:lnTo>
                        <a:lnTo>
                          <a:pt x="46" y="179"/>
                        </a:lnTo>
                        <a:lnTo>
                          <a:pt x="0" y="202"/>
                        </a:lnTo>
                        <a:lnTo>
                          <a:pt x="26" y="253"/>
                        </a:lnTo>
                        <a:lnTo>
                          <a:pt x="187" y="270"/>
                        </a:lnTo>
                        <a:lnTo>
                          <a:pt x="355" y="188"/>
                        </a:lnTo>
                        <a:lnTo>
                          <a:pt x="473" y="0"/>
                        </a:lnTo>
                        <a:lnTo>
                          <a:pt x="397" y="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Freeform 1125"/>
                  <p:cNvSpPr/>
                  <p:nvPr/>
                </p:nvSpPr>
                <p:spPr>
                  <a:xfrm rot="2130000">
                    <a:off x="3930840" y="2213280"/>
                    <a:ext cx="31428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7" h="437">
                        <a:moveTo>
                          <a:pt x="397" y="0"/>
                        </a:moveTo>
                        <a:lnTo>
                          <a:pt x="155" y="121"/>
                        </a:lnTo>
                        <a:lnTo>
                          <a:pt x="0" y="106"/>
                        </a:lnTo>
                        <a:lnTo>
                          <a:pt x="85" y="185"/>
                        </a:lnTo>
                        <a:lnTo>
                          <a:pt x="205" y="437"/>
                        </a:lnTo>
                        <a:lnTo>
                          <a:pt x="246" y="416"/>
                        </a:lnTo>
                        <a:lnTo>
                          <a:pt x="397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Freeform 1126"/>
                  <p:cNvSpPr/>
                  <p:nvPr/>
                </p:nvSpPr>
                <p:spPr>
                  <a:xfrm rot="2130000">
                    <a:off x="3777480" y="2122200"/>
                    <a:ext cx="235080" cy="37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475">
                        <a:moveTo>
                          <a:pt x="153" y="0"/>
                        </a:moveTo>
                        <a:lnTo>
                          <a:pt x="233" y="162"/>
                        </a:lnTo>
                        <a:lnTo>
                          <a:pt x="145" y="356"/>
                        </a:lnTo>
                        <a:lnTo>
                          <a:pt x="295" y="451"/>
                        </a:lnTo>
                        <a:lnTo>
                          <a:pt x="245" y="475"/>
                        </a:lnTo>
                        <a:lnTo>
                          <a:pt x="130" y="387"/>
                        </a:lnTo>
                        <a:lnTo>
                          <a:pt x="53" y="426"/>
                        </a:lnTo>
                        <a:lnTo>
                          <a:pt x="0" y="311"/>
                        </a:lnTo>
                        <a:lnTo>
                          <a:pt x="65" y="178"/>
                        </a:lnTo>
                        <a:lnTo>
                          <a:pt x="35" y="118"/>
                        </a:lnTo>
                        <a:lnTo>
                          <a:pt x="83" y="96"/>
                        </a:lnTo>
                        <a:lnTo>
                          <a:pt x="153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Freeform 1127"/>
                  <p:cNvSpPr/>
                  <p:nvPr/>
                </p:nvSpPr>
                <p:spPr>
                  <a:xfrm rot="2130000">
                    <a:off x="3804480" y="2126160"/>
                    <a:ext cx="15228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349">
                        <a:moveTo>
                          <a:pt x="128" y="0"/>
                        </a:moveTo>
                        <a:lnTo>
                          <a:pt x="192" y="130"/>
                        </a:lnTo>
                        <a:lnTo>
                          <a:pt x="106" y="311"/>
                        </a:lnTo>
                        <a:lnTo>
                          <a:pt x="32" y="349"/>
                        </a:lnTo>
                        <a:lnTo>
                          <a:pt x="0" y="288"/>
                        </a:lnTo>
                        <a:lnTo>
                          <a:pt x="64" y="259"/>
                        </a:lnTo>
                        <a:lnTo>
                          <a:pt x="113" y="140"/>
                        </a:lnTo>
                        <a:lnTo>
                          <a:pt x="80" y="69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Freeform 1128"/>
                  <p:cNvSpPr/>
                  <p:nvPr/>
                </p:nvSpPr>
                <p:spPr>
                  <a:xfrm rot="2130000">
                    <a:off x="3783960" y="2160000"/>
                    <a:ext cx="727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80">
                        <a:moveTo>
                          <a:pt x="64" y="0"/>
                        </a:moveTo>
                        <a:lnTo>
                          <a:pt x="0" y="121"/>
                        </a:lnTo>
                        <a:lnTo>
                          <a:pt x="30" y="180"/>
                        </a:lnTo>
                        <a:lnTo>
                          <a:pt x="92" y="60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Freeform 1129"/>
                  <p:cNvSpPr/>
                  <p:nvPr/>
                </p:nvSpPr>
                <p:spPr>
                  <a:xfrm rot="2130000">
                    <a:off x="4536000" y="2520000"/>
                    <a:ext cx="10008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54">
                        <a:moveTo>
                          <a:pt x="54" y="154"/>
                        </a:moveTo>
                        <a:lnTo>
                          <a:pt x="127" y="118"/>
                        </a:lnTo>
                        <a:lnTo>
                          <a:pt x="71" y="0"/>
                        </a:lnTo>
                        <a:lnTo>
                          <a:pt x="0" y="37"/>
                        </a:lnTo>
                        <a:lnTo>
                          <a:pt x="54" y="15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Freeform 1130"/>
                  <p:cNvSpPr/>
                  <p:nvPr/>
                </p:nvSpPr>
                <p:spPr>
                  <a:xfrm rot="2130000">
                    <a:off x="4561560" y="2544120"/>
                    <a:ext cx="712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19">
                        <a:moveTo>
                          <a:pt x="0" y="22"/>
                        </a:moveTo>
                        <a:lnTo>
                          <a:pt x="45" y="119"/>
                        </a:lnTo>
                        <a:lnTo>
                          <a:pt x="90" y="97"/>
                        </a:lnTo>
                        <a:lnTo>
                          <a:pt x="45" y="0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Freeform 1131"/>
                  <p:cNvSpPr/>
                  <p:nvPr/>
                </p:nvSpPr>
                <p:spPr>
                  <a:xfrm rot="2130000">
                    <a:off x="4479480" y="2461680"/>
                    <a:ext cx="10512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21">
                        <a:moveTo>
                          <a:pt x="49" y="0"/>
                        </a:moveTo>
                        <a:lnTo>
                          <a:pt x="8" y="12"/>
                        </a:lnTo>
                        <a:lnTo>
                          <a:pt x="0" y="116"/>
                        </a:lnTo>
                        <a:lnTo>
                          <a:pt x="51" y="221"/>
                        </a:lnTo>
                        <a:lnTo>
                          <a:pt x="132" y="181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Freeform 1132"/>
                  <p:cNvSpPr/>
                  <p:nvPr/>
                </p:nvSpPr>
                <p:spPr>
                  <a:xfrm rot="2130000">
                    <a:off x="4410360" y="2337840"/>
                    <a:ext cx="13500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378">
                        <a:moveTo>
                          <a:pt x="169" y="323"/>
                        </a:moveTo>
                        <a:lnTo>
                          <a:pt x="64" y="378"/>
                        </a:lnTo>
                        <a:lnTo>
                          <a:pt x="0" y="241"/>
                        </a:lnTo>
                        <a:lnTo>
                          <a:pt x="99" y="0"/>
                        </a:lnTo>
                        <a:lnTo>
                          <a:pt x="116" y="15"/>
                        </a:lnTo>
                        <a:lnTo>
                          <a:pt x="160" y="105"/>
                        </a:lnTo>
                        <a:lnTo>
                          <a:pt x="124" y="124"/>
                        </a:lnTo>
                        <a:lnTo>
                          <a:pt x="118" y="216"/>
                        </a:lnTo>
                        <a:lnTo>
                          <a:pt x="169" y="32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Freeform 1133"/>
                  <p:cNvSpPr/>
                  <p:nvPr/>
                </p:nvSpPr>
                <p:spPr>
                  <a:xfrm rot="2130000">
                    <a:off x="4275000" y="2465280"/>
                    <a:ext cx="12204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203">
                        <a:moveTo>
                          <a:pt x="90" y="0"/>
                        </a:moveTo>
                        <a:lnTo>
                          <a:pt x="0" y="203"/>
                        </a:lnTo>
                        <a:lnTo>
                          <a:pt x="154" y="128"/>
                        </a:lnTo>
                        <a:lnTo>
                          <a:pt x="9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Freeform 1134"/>
                  <p:cNvSpPr/>
                  <p:nvPr/>
                </p:nvSpPr>
                <p:spPr>
                  <a:xfrm rot="2130000">
                    <a:off x="4282560" y="2259360"/>
                    <a:ext cx="177480" cy="39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501">
                        <a:moveTo>
                          <a:pt x="223" y="16"/>
                        </a:moveTo>
                        <a:lnTo>
                          <a:pt x="173" y="0"/>
                        </a:lnTo>
                        <a:lnTo>
                          <a:pt x="0" y="501"/>
                        </a:lnTo>
                        <a:lnTo>
                          <a:pt x="35" y="481"/>
                        </a:lnTo>
                        <a:lnTo>
                          <a:pt x="223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Freeform 1135"/>
                  <p:cNvSpPr/>
                  <p:nvPr/>
                </p:nvSpPr>
                <p:spPr>
                  <a:xfrm rot="2130000">
                    <a:off x="3880440" y="2268000"/>
                    <a:ext cx="8424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75">
                        <a:moveTo>
                          <a:pt x="86" y="0"/>
                        </a:moveTo>
                        <a:lnTo>
                          <a:pt x="106" y="275"/>
                        </a:lnTo>
                        <a:lnTo>
                          <a:pt x="0" y="206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Freeform 1136"/>
                  <p:cNvSpPr/>
                  <p:nvPr/>
                </p:nvSpPr>
                <p:spPr>
                  <a:xfrm rot="2130000">
                    <a:off x="4519440" y="2368440"/>
                    <a:ext cx="777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26">
                        <a:moveTo>
                          <a:pt x="50" y="0"/>
                        </a:moveTo>
                        <a:lnTo>
                          <a:pt x="0" y="27"/>
                        </a:lnTo>
                        <a:lnTo>
                          <a:pt x="48" y="126"/>
                        </a:lnTo>
                        <a:lnTo>
                          <a:pt x="98" y="99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Freeform 1137"/>
                  <p:cNvSpPr/>
                  <p:nvPr/>
                </p:nvSpPr>
                <p:spPr>
                  <a:xfrm rot="2130000">
                    <a:off x="4242600" y="1947600"/>
                    <a:ext cx="30816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8" h="384">
                        <a:moveTo>
                          <a:pt x="136" y="0"/>
                        </a:moveTo>
                        <a:lnTo>
                          <a:pt x="245" y="226"/>
                        </a:lnTo>
                        <a:lnTo>
                          <a:pt x="291" y="235"/>
                        </a:lnTo>
                        <a:lnTo>
                          <a:pt x="346" y="210"/>
                        </a:lnTo>
                        <a:lnTo>
                          <a:pt x="388" y="299"/>
                        </a:lnTo>
                        <a:lnTo>
                          <a:pt x="214" y="384"/>
                        </a:lnTo>
                        <a:lnTo>
                          <a:pt x="143" y="358"/>
                        </a:lnTo>
                        <a:lnTo>
                          <a:pt x="0" y="66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Freeform 1138"/>
                  <p:cNvSpPr/>
                  <p:nvPr/>
                </p:nvSpPr>
                <p:spPr>
                  <a:xfrm rot="2130000">
                    <a:off x="3609720" y="2101320"/>
                    <a:ext cx="231840" cy="38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485">
                        <a:moveTo>
                          <a:pt x="218" y="485"/>
                        </a:moveTo>
                        <a:lnTo>
                          <a:pt x="292" y="447"/>
                        </a:lnTo>
                        <a:lnTo>
                          <a:pt x="75" y="0"/>
                        </a:lnTo>
                        <a:lnTo>
                          <a:pt x="0" y="40"/>
                        </a:lnTo>
                        <a:lnTo>
                          <a:pt x="218" y="48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Freeform 1139"/>
                  <p:cNvSpPr/>
                  <p:nvPr/>
                </p:nvSpPr>
                <p:spPr>
                  <a:xfrm rot="2130000">
                    <a:off x="3618000" y="2168280"/>
                    <a:ext cx="18072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389">
                        <a:moveTo>
                          <a:pt x="0" y="23"/>
                        </a:moveTo>
                        <a:lnTo>
                          <a:pt x="183" y="389"/>
                        </a:lnTo>
                        <a:lnTo>
                          <a:pt x="227" y="370"/>
                        </a:lnTo>
                        <a:lnTo>
                          <a:pt x="46" y="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Freeform 1140"/>
                  <p:cNvSpPr/>
                  <p:nvPr/>
                </p:nvSpPr>
                <p:spPr>
                  <a:xfrm rot="2130000">
                    <a:off x="3713040" y="2402640"/>
                    <a:ext cx="15552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152">
                        <a:moveTo>
                          <a:pt x="55" y="152"/>
                        </a:moveTo>
                        <a:lnTo>
                          <a:pt x="0" y="39"/>
                        </a:lnTo>
                        <a:lnTo>
                          <a:pt x="78" y="0"/>
                        </a:lnTo>
                        <a:lnTo>
                          <a:pt x="196" y="83"/>
                        </a:lnTo>
                        <a:lnTo>
                          <a:pt x="55" y="15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141"/>
                  <p:cNvSpPr/>
                  <p:nvPr/>
                </p:nvSpPr>
                <p:spPr>
                  <a:xfrm rot="2130000">
                    <a:off x="3941640" y="2304000"/>
                    <a:ext cx="1000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22">
                        <a:moveTo>
                          <a:pt x="0" y="0"/>
                        </a:moveTo>
                        <a:lnTo>
                          <a:pt x="124" y="274"/>
                        </a:lnTo>
                        <a:lnTo>
                          <a:pt x="24" y="3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Freeform 1142"/>
                  <p:cNvSpPr/>
                  <p:nvPr/>
                </p:nvSpPr>
                <p:spPr>
                  <a:xfrm rot="2130000">
                    <a:off x="4046760" y="2291760"/>
                    <a:ext cx="19836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149">
                        <a:moveTo>
                          <a:pt x="0" y="119"/>
                        </a:moveTo>
                        <a:lnTo>
                          <a:pt x="249" y="0"/>
                        </a:lnTo>
                        <a:lnTo>
                          <a:pt x="232" y="44"/>
                        </a:lnTo>
                        <a:lnTo>
                          <a:pt x="16" y="149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Freeform 1143"/>
                  <p:cNvSpPr/>
                  <p:nvPr/>
                </p:nvSpPr>
                <p:spPr>
                  <a:xfrm rot="2130000">
                    <a:off x="4035960" y="2344680"/>
                    <a:ext cx="1479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17">
                        <a:moveTo>
                          <a:pt x="0" y="90"/>
                        </a:moveTo>
                        <a:lnTo>
                          <a:pt x="13" y="117"/>
                        </a:lnTo>
                        <a:lnTo>
                          <a:pt x="170" y="42"/>
                        </a:lnTo>
                        <a:lnTo>
                          <a:pt x="186" y="0"/>
                        </a:lnTo>
                        <a:lnTo>
                          <a:pt x="0" y="9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Freeform 1144"/>
                  <p:cNvSpPr/>
                  <p:nvPr/>
                </p:nvSpPr>
                <p:spPr>
                  <a:xfrm rot="2130000">
                    <a:off x="4023000" y="2399400"/>
                    <a:ext cx="104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95">
                        <a:moveTo>
                          <a:pt x="0" y="62"/>
                        </a:moveTo>
                        <a:lnTo>
                          <a:pt x="16" y="95"/>
                        </a:lnTo>
                        <a:lnTo>
                          <a:pt x="113" y="48"/>
                        </a:lnTo>
                        <a:lnTo>
                          <a:pt x="130" y="0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Freeform 1145"/>
                  <p:cNvSpPr/>
                  <p:nvPr/>
                </p:nvSpPr>
                <p:spPr>
                  <a:xfrm rot="2130000">
                    <a:off x="4007880" y="2459160"/>
                    <a:ext cx="525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6">
                        <a:moveTo>
                          <a:pt x="0" y="33"/>
                        </a:moveTo>
                        <a:lnTo>
                          <a:pt x="68" y="0"/>
                        </a:lnTo>
                        <a:lnTo>
                          <a:pt x="44" y="78"/>
                        </a:lnTo>
                        <a:lnTo>
                          <a:pt x="26" y="86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Freeform 1146"/>
                  <p:cNvSpPr/>
                  <p:nvPr/>
                </p:nvSpPr>
                <p:spPr>
                  <a:xfrm rot="2130000">
                    <a:off x="4121640" y="1809720"/>
                    <a:ext cx="12240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57">
                        <a:moveTo>
                          <a:pt x="0" y="26"/>
                        </a:moveTo>
                        <a:lnTo>
                          <a:pt x="101" y="57"/>
                        </a:lnTo>
                        <a:lnTo>
                          <a:pt x="154" y="34"/>
                        </a:lnTo>
                        <a:lnTo>
                          <a:pt x="61" y="0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Freeform 1147"/>
                  <p:cNvSpPr/>
                  <p:nvPr/>
                </p:nvSpPr>
                <p:spPr>
                  <a:xfrm rot="2130000">
                    <a:off x="4214880" y="1825200"/>
                    <a:ext cx="1209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8">
                        <a:moveTo>
                          <a:pt x="0" y="27"/>
                        </a:moveTo>
                        <a:lnTo>
                          <a:pt x="100" y="58"/>
                        </a:lnTo>
                        <a:lnTo>
                          <a:pt x="151" y="34"/>
                        </a:lnTo>
                        <a:lnTo>
                          <a:pt x="60" y="0"/>
                        </a:lnTo>
                        <a:lnTo>
                          <a:pt x="0" y="2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Freeform 1148"/>
                  <p:cNvSpPr/>
                  <p:nvPr/>
                </p:nvSpPr>
                <p:spPr>
                  <a:xfrm rot="2130000">
                    <a:off x="4312440" y="1841400"/>
                    <a:ext cx="1177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57">
                        <a:moveTo>
                          <a:pt x="0" y="26"/>
                        </a:moveTo>
                        <a:lnTo>
                          <a:pt x="98" y="57"/>
                        </a:lnTo>
                        <a:lnTo>
                          <a:pt x="149" y="34"/>
                        </a:lnTo>
                        <a:lnTo>
                          <a:pt x="56" y="0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Freeform 1149"/>
                  <p:cNvSpPr/>
                  <p:nvPr/>
                </p:nvSpPr>
                <p:spPr>
                  <a:xfrm rot="2130000">
                    <a:off x="4431600" y="1847160"/>
                    <a:ext cx="684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50">
                        <a:moveTo>
                          <a:pt x="0" y="23"/>
                        </a:moveTo>
                        <a:lnTo>
                          <a:pt x="75" y="50"/>
                        </a:lnTo>
                        <a:lnTo>
                          <a:pt x="86" y="14"/>
                        </a:lnTo>
                        <a:lnTo>
                          <a:pt x="53" y="0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Freeform 1150"/>
                  <p:cNvSpPr/>
                  <p:nvPr/>
                </p:nvSpPr>
                <p:spPr>
                  <a:xfrm rot="2130000">
                    <a:off x="4320000" y="1978560"/>
                    <a:ext cx="22392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281">
                        <a:moveTo>
                          <a:pt x="26" y="0"/>
                        </a:moveTo>
                        <a:lnTo>
                          <a:pt x="143" y="243"/>
                        </a:lnTo>
                        <a:lnTo>
                          <a:pt x="176" y="254"/>
                        </a:lnTo>
                        <a:lnTo>
                          <a:pt x="269" y="214"/>
                        </a:lnTo>
                        <a:lnTo>
                          <a:pt x="283" y="230"/>
                        </a:lnTo>
                        <a:lnTo>
                          <a:pt x="170" y="281"/>
                        </a:lnTo>
                        <a:lnTo>
                          <a:pt x="133" y="280"/>
                        </a:lnTo>
                        <a:lnTo>
                          <a:pt x="0" y="11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Freeform 1151"/>
                  <p:cNvSpPr/>
                  <p:nvPr/>
                </p:nvSpPr>
                <p:spPr>
                  <a:xfrm rot="2130000">
                    <a:off x="4255200" y="1989720"/>
                    <a:ext cx="289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308">
                        <a:moveTo>
                          <a:pt x="26" y="0"/>
                        </a:moveTo>
                        <a:lnTo>
                          <a:pt x="167" y="274"/>
                        </a:lnTo>
                        <a:lnTo>
                          <a:pt x="213" y="281"/>
                        </a:lnTo>
                        <a:lnTo>
                          <a:pt x="349" y="216"/>
                        </a:lnTo>
                        <a:lnTo>
                          <a:pt x="364" y="232"/>
                        </a:lnTo>
                        <a:lnTo>
                          <a:pt x="195" y="308"/>
                        </a:lnTo>
                        <a:lnTo>
                          <a:pt x="147" y="293"/>
                        </a:lnTo>
                        <a:lnTo>
                          <a:pt x="0" y="13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Line 1152"/>
                  <p:cNvSpPr/>
                  <p:nvPr/>
                </p:nvSpPr>
                <p:spPr>
                  <a:xfrm>
                    <a:off x="4136040" y="1962000"/>
                    <a:ext cx="83520" cy="169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Line 1153"/>
                  <p:cNvSpPr/>
                  <p:nvPr/>
                </p:nvSpPr>
                <p:spPr>
                  <a:xfrm>
                    <a:off x="4237200" y="2011320"/>
                    <a:ext cx="74160" cy="136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Line 1154"/>
                  <p:cNvSpPr/>
                  <p:nvPr/>
                </p:nvSpPr>
                <p:spPr>
                  <a:xfrm flipH="1">
                    <a:off x="4193640" y="2006280"/>
                    <a:ext cx="12240" cy="831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Line 1155"/>
                  <p:cNvSpPr/>
                  <p:nvPr/>
                </p:nvSpPr>
                <p:spPr>
                  <a:xfrm>
                    <a:off x="4171680" y="2079360"/>
                    <a:ext cx="52560" cy="79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1156"/>
                  <p:cNvSpPr/>
                  <p:nvPr/>
                </p:nvSpPr>
                <p:spPr>
                  <a:xfrm>
                    <a:off x="4164840" y="2123640"/>
                    <a:ext cx="59760" cy="72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1157"/>
                  <p:cNvSpPr/>
                  <p:nvPr/>
                </p:nvSpPr>
                <p:spPr>
                  <a:xfrm>
                    <a:off x="4137840" y="1994760"/>
                    <a:ext cx="69840" cy="86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Line 1158"/>
                  <p:cNvSpPr/>
                  <p:nvPr/>
                </p:nvSpPr>
                <p:spPr>
                  <a:xfrm>
                    <a:off x="4235400" y="1978560"/>
                    <a:ext cx="83520" cy="165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1159"/>
                <p:cNvGrpSpPr/>
                <p:nvPr/>
              </p:nvGrpSpPr>
              <p:grpSpPr>
                <a:xfrm>
                  <a:off x="3395160" y="2374200"/>
                  <a:ext cx="1356120" cy="1170360"/>
                  <a:chOff x="3395160" y="2374200"/>
                  <a:chExt cx="1356120" cy="1170360"/>
                </a:xfrm>
              </p:grpSpPr>
              <p:sp>
                <p:nvSpPr>
                  <p:cNvPr id="510" name="Freeform 1160"/>
                  <p:cNvSpPr/>
                  <p:nvPr/>
                </p:nvSpPr>
                <p:spPr>
                  <a:xfrm rot="2130000">
                    <a:off x="3759120" y="3143880"/>
                    <a:ext cx="450720" cy="29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372">
                        <a:moveTo>
                          <a:pt x="0" y="372"/>
                        </a:moveTo>
                        <a:lnTo>
                          <a:pt x="568" y="85"/>
                        </a:lnTo>
                        <a:lnTo>
                          <a:pt x="397" y="47"/>
                        </a:lnTo>
                        <a:lnTo>
                          <a:pt x="375" y="0"/>
                        </a:lnTo>
                        <a:lnTo>
                          <a:pt x="27" y="168"/>
                        </a:lnTo>
                        <a:lnTo>
                          <a:pt x="49" y="216"/>
                        </a:lnTo>
                        <a:lnTo>
                          <a:pt x="0" y="372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Freeform 1161"/>
                  <p:cNvSpPr/>
                  <p:nvPr/>
                </p:nvSpPr>
                <p:spPr>
                  <a:xfrm rot="2130000">
                    <a:off x="3915720" y="2928960"/>
                    <a:ext cx="2746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6" h="387">
                        <a:moveTo>
                          <a:pt x="142" y="387"/>
                        </a:moveTo>
                        <a:lnTo>
                          <a:pt x="346" y="285"/>
                        </a:lnTo>
                        <a:lnTo>
                          <a:pt x="230" y="44"/>
                        </a:lnTo>
                        <a:lnTo>
                          <a:pt x="201" y="33"/>
                        </a:lnTo>
                        <a:lnTo>
                          <a:pt x="140" y="0"/>
                        </a:lnTo>
                        <a:lnTo>
                          <a:pt x="34" y="50"/>
                        </a:lnTo>
                        <a:lnTo>
                          <a:pt x="0" y="98"/>
                        </a:lnTo>
                        <a:lnTo>
                          <a:pt x="142" y="3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Freeform 1162"/>
                  <p:cNvSpPr/>
                  <p:nvPr/>
                </p:nvSpPr>
                <p:spPr>
                  <a:xfrm rot="2130000">
                    <a:off x="4107960" y="2922120"/>
                    <a:ext cx="127080" cy="28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361">
                        <a:moveTo>
                          <a:pt x="137" y="361"/>
                        </a:moveTo>
                        <a:lnTo>
                          <a:pt x="34" y="140"/>
                        </a:lnTo>
                        <a:lnTo>
                          <a:pt x="0" y="123"/>
                        </a:lnTo>
                        <a:lnTo>
                          <a:pt x="28" y="40"/>
                        </a:lnTo>
                        <a:lnTo>
                          <a:pt x="105" y="0"/>
                        </a:lnTo>
                        <a:lnTo>
                          <a:pt x="149" y="93"/>
                        </a:lnTo>
                        <a:lnTo>
                          <a:pt x="96" y="121"/>
                        </a:lnTo>
                        <a:lnTo>
                          <a:pt x="159" y="249"/>
                        </a:lnTo>
                        <a:lnTo>
                          <a:pt x="137" y="361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Freeform 1163"/>
                  <p:cNvSpPr/>
                  <p:nvPr/>
                </p:nvSpPr>
                <p:spPr>
                  <a:xfrm rot="2130000">
                    <a:off x="3956400" y="2860200"/>
                    <a:ext cx="23796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163">
                        <a:moveTo>
                          <a:pt x="65" y="163"/>
                        </a:moveTo>
                        <a:lnTo>
                          <a:pt x="107" y="112"/>
                        </a:lnTo>
                        <a:lnTo>
                          <a:pt x="208" y="63"/>
                        </a:lnTo>
                        <a:lnTo>
                          <a:pt x="271" y="96"/>
                        </a:lnTo>
                        <a:lnTo>
                          <a:pt x="277" y="69"/>
                        </a:lnTo>
                        <a:lnTo>
                          <a:pt x="300" y="18"/>
                        </a:lnTo>
                        <a:lnTo>
                          <a:pt x="203" y="0"/>
                        </a:lnTo>
                        <a:lnTo>
                          <a:pt x="45" y="74"/>
                        </a:lnTo>
                        <a:lnTo>
                          <a:pt x="0" y="152"/>
                        </a:lnTo>
                        <a:lnTo>
                          <a:pt x="65" y="16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1164"/>
                  <p:cNvSpPr/>
                  <p:nvPr/>
                </p:nvSpPr>
                <p:spPr>
                  <a:xfrm rot="2130000">
                    <a:off x="3490920" y="2743920"/>
                    <a:ext cx="293760" cy="42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537">
                        <a:moveTo>
                          <a:pt x="107" y="79"/>
                        </a:moveTo>
                        <a:lnTo>
                          <a:pt x="168" y="210"/>
                        </a:lnTo>
                        <a:lnTo>
                          <a:pt x="311" y="225"/>
                        </a:lnTo>
                        <a:lnTo>
                          <a:pt x="370" y="313"/>
                        </a:lnTo>
                        <a:lnTo>
                          <a:pt x="246" y="301"/>
                        </a:lnTo>
                        <a:lnTo>
                          <a:pt x="218" y="312"/>
                        </a:lnTo>
                        <a:lnTo>
                          <a:pt x="281" y="443"/>
                        </a:lnTo>
                        <a:lnTo>
                          <a:pt x="243" y="537"/>
                        </a:lnTo>
                        <a:lnTo>
                          <a:pt x="0" y="33"/>
                        </a:lnTo>
                        <a:lnTo>
                          <a:pt x="68" y="0"/>
                        </a:lnTo>
                        <a:lnTo>
                          <a:pt x="107" y="7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Freeform 1165"/>
                  <p:cNvSpPr/>
                  <p:nvPr/>
                </p:nvSpPr>
                <p:spPr>
                  <a:xfrm rot="2130000">
                    <a:off x="3620880" y="2667240"/>
                    <a:ext cx="730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76">
                        <a:moveTo>
                          <a:pt x="22" y="76"/>
                        </a:moveTo>
                        <a:lnTo>
                          <a:pt x="92" y="44"/>
                        </a:lnTo>
                        <a:lnTo>
                          <a:pt x="69" y="0"/>
                        </a:lnTo>
                        <a:lnTo>
                          <a:pt x="0" y="31"/>
                        </a:lnTo>
                        <a:lnTo>
                          <a:pt x="22" y="7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Freeform 1166"/>
                  <p:cNvSpPr/>
                  <p:nvPr/>
                </p:nvSpPr>
                <p:spPr>
                  <a:xfrm rot="2130000">
                    <a:off x="3618720" y="2622600"/>
                    <a:ext cx="81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84">
                        <a:moveTo>
                          <a:pt x="26" y="84"/>
                        </a:moveTo>
                        <a:lnTo>
                          <a:pt x="101" y="45"/>
                        </a:lnTo>
                        <a:lnTo>
                          <a:pt x="79" y="0"/>
                        </a:lnTo>
                        <a:lnTo>
                          <a:pt x="0" y="34"/>
                        </a:lnTo>
                        <a:lnTo>
                          <a:pt x="26" y="8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Freeform 1167"/>
                  <p:cNvSpPr/>
                  <p:nvPr/>
                </p:nvSpPr>
                <p:spPr>
                  <a:xfrm rot="2130000">
                    <a:off x="3632040" y="2578680"/>
                    <a:ext cx="7488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82">
                        <a:moveTo>
                          <a:pt x="26" y="82"/>
                        </a:moveTo>
                        <a:lnTo>
                          <a:pt x="93" y="49"/>
                        </a:lnTo>
                        <a:lnTo>
                          <a:pt x="70" y="0"/>
                        </a:lnTo>
                        <a:lnTo>
                          <a:pt x="0" y="33"/>
                        </a:lnTo>
                        <a:lnTo>
                          <a:pt x="26" y="8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Freeform 1168"/>
                  <p:cNvSpPr/>
                  <p:nvPr/>
                </p:nvSpPr>
                <p:spPr>
                  <a:xfrm rot="2130000">
                    <a:off x="3780000" y="2429640"/>
                    <a:ext cx="352440" cy="50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5" h="633">
                        <a:moveTo>
                          <a:pt x="0" y="572"/>
                        </a:moveTo>
                        <a:lnTo>
                          <a:pt x="204" y="633"/>
                        </a:lnTo>
                        <a:lnTo>
                          <a:pt x="445" y="0"/>
                        </a:lnTo>
                        <a:lnTo>
                          <a:pt x="202" y="120"/>
                        </a:lnTo>
                        <a:lnTo>
                          <a:pt x="0" y="5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Freeform 1169"/>
                  <p:cNvSpPr/>
                  <p:nvPr/>
                </p:nvSpPr>
                <p:spPr>
                  <a:xfrm rot="2130000">
                    <a:off x="3907080" y="2474640"/>
                    <a:ext cx="181080" cy="48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608">
                        <a:moveTo>
                          <a:pt x="26" y="608"/>
                        </a:moveTo>
                        <a:lnTo>
                          <a:pt x="228" y="0"/>
                        </a:lnTo>
                        <a:lnTo>
                          <a:pt x="196" y="18"/>
                        </a:lnTo>
                        <a:lnTo>
                          <a:pt x="0" y="598"/>
                        </a:lnTo>
                        <a:lnTo>
                          <a:pt x="26" y="60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Freeform 1170"/>
                  <p:cNvSpPr/>
                  <p:nvPr/>
                </p:nvSpPr>
                <p:spPr>
                  <a:xfrm rot="2130000">
                    <a:off x="3865680" y="2472480"/>
                    <a:ext cx="171360" cy="44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563">
                        <a:moveTo>
                          <a:pt x="27" y="563"/>
                        </a:moveTo>
                        <a:lnTo>
                          <a:pt x="217" y="0"/>
                        </a:lnTo>
                        <a:lnTo>
                          <a:pt x="176" y="18"/>
                        </a:lnTo>
                        <a:lnTo>
                          <a:pt x="0" y="550"/>
                        </a:lnTo>
                        <a:lnTo>
                          <a:pt x="27" y="56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Freeform 1171"/>
                  <p:cNvSpPr/>
                  <p:nvPr/>
                </p:nvSpPr>
                <p:spPr>
                  <a:xfrm rot="2130000">
                    <a:off x="3921120" y="2496240"/>
                    <a:ext cx="43020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703">
                        <a:moveTo>
                          <a:pt x="0" y="703"/>
                        </a:moveTo>
                        <a:lnTo>
                          <a:pt x="18" y="670"/>
                        </a:lnTo>
                        <a:lnTo>
                          <a:pt x="156" y="608"/>
                        </a:lnTo>
                        <a:lnTo>
                          <a:pt x="165" y="622"/>
                        </a:lnTo>
                        <a:lnTo>
                          <a:pt x="208" y="543"/>
                        </a:lnTo>
                        <a:lnTo>
                          <a:pt x="370" y="465"/>
                        </a:lnTo>
                        <a:lnTo>
                          <a:pt x="473" y="480"/>
                        </a:lnTo>
                        <a:lnTo>
                          <a:pt x="531" y="452"/>
                        </a:lnTo>
                        <a:lnTo>
                          <a:pt x="455" y="296"/>
                        </a:lnTo>
                        <a:lnTo>
                          <a:pt x="542" y="93"/>
                        </a:lnTo>
                        <a:lnTo>
                          <a:pt x="386" y="0"/>
                        </a:lnTo>
                        <a:lnTo>
                          <a:pt x="223" y="81"/>
                        </a:lnTo>
                        <a:lnTo>
                          <a:pt x="0" y="70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Freeform 1172"/>
                  <p:cNvSpPr/>
                  <p:nvPr/>
                </p:nvSpPr>
                <p:spPr>
                  <a:xfrm rot="2130000">
                    <a:off x="3879720" y="2787840"/>
                    <a:ext cx="3744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473" h="270">
                        <a:moveTo>
                          <a:pt x="76" y="235"/>
                        </a:moveTo>
                        <a:lnTo>
                          <a:pt x="137" y="122"/>
                        </a:lnTo>
                        <a:lnTo>
                          <a:pt x="306" y="40"/>
                        </a:lnTo>
                        <a:lnTo>
                          <a:pt x="407" y="58"/>
                        </a:lnTo>
                        <a:lnTo>
                          <a:pt x="427" y="90"/>
                        </a:lnTo>
                        <a:lnTo>
                          <a:pt x="473" y="67"/>
                        </a:lnTo>
                        <a:lnTo>
                          <a:pt x="447" y="17"/>
                        </a:lnTo>
                        <a:lnTo>
                          <a:pt x="286" y="0"/>
                        </a:lnTo>
                        <a:lnTo>
                          <a:pt x="118" y="82"/>
                        </a:lnTo>
                        <a:lnTo>
                          <a:pt x="0" y="270"/>
                        </a:lnTo>
                        <a:lnTo>
                          <a:pt x="76" y="2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Freeform 1173"/>
                  <p:cNvSpPr/>
                  <p:nvPr/>
                </p:nvSpPr>
                <p:spPr>
                  <a:xfrm rot="2130000">
                    <a:off x="4025520" y="2559960"/>
                    <a:ext cx="314280" cy="34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97" h="437">
                        <a:moveTo>
                          <a:pt x="0" y="437"/>
                        </a:moveTo>
                        <a:lnTo>
                          <a:pt x="242" y="316"/>
                        </a:lnTo>
                        <a:lnTo>
                          <a:pt x="397" y="331"/>
                        </a:lnTo>
                        <a:lnTo>
                          <a:pt x="312" y="251"/>
                        </a:lnTo>
                        <a:lnTo>
                          <a:pt x="192" y="0"/>
                        </a:lnTo>
                        <a:lnTo>
                          <a:pt x="151" y="20"/>
                        </a:lnTo>
                        <a:lnTo>
                          <a:pt x="0" y="43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Freeform 1174"/>
                  <p:cNvSpPr/>
                  <p:nvPr/>
                </p:nvSpPr>
                <p:spPr>
                  <a:xfrm rot="2130000">
                    <a:off x="4258440" y="2621520"/>
                    <a:ext cx="234720" cy="37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95" h="475">
                        <a:moveTo>
                          <a:pt x="142" y="475"/>
                        </a:moveTo>
                        <a:lnTo>
                          <a:pt x="62" y="313"/>
                        </a:lnTo>
                        <a:lnTo>
                          <a:pt x="150" y="118"/>
                        </a:lnTo>
                        <a:lnTo>
                          <a:pt x="0" y="24"/>
                        </a:lnTo>
                        <a:lnTo>
                          <a:pt x="50" y="0"/>
                        </a:lnTo>
                        <a:lnTo>
                          <a:pt x="165" y="88"/>
                        </a:lnTo>
                        <a:lnTo>
                          <a:pt x="242" y="49"/>
                        </a:lnTo>
                        <a:lnTo>
                          <a:pt x="295" y="163"/>
                        </a:lnTo>
                        <a:lnTo>
                          <a:pt x="229" y="297"/>
                        </a:lnTo>
                        <a:lnTo>
                          <a:pt x="260" y="356"/>
                        </a:lnTo>
                        <a:lnTo>
                          <a:pt x="212" y="378"/>
                        </a:lnTo>
                        <a:lnTo>
                          <a:pt x="142" y="47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Freeform 1175"/>
                  <p:cNvSpPr/>
                  <p:nvPr/>
                </p:nvSpPr>
                <p:spPr>
                  <a:xfrm rot="2130000">
                    <a:off x="4313880" y="2715840"/>
                    <a:ext cx="15264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349">
                        <a:moveTo>
                          <a:pt x="64" y="349"/>
                        </a:moveTo>
                        <a:lnTo>
                          <a:pt x="0" y="218"/>
                        </a:lnTo>
                        <a:lnTo>
                          <a:pt x="86" y="38"/>
                        </a:lnTo>
                        <a:lnTo>
                          <a:pt x="160" y="0"/>
                        </a:lnTo>
                        <a:lnTo>
                          <a:pt x="192" y="61"/>
                        </a:lnTo>
                        <a:lnTo>
                          <a:pt x="128" y="90"/>
                        </a:lnTo>
                        <a:lnTo>
                          <a:pt x="79" y="209"/>
                        </a:lnTo>
                        <a:lnTo>
                          <a:pt x="112" y="279"/>
                        </a:lnTo>
                        <a:lnTo>
                          <a:pt x="64" y="3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Freeform 1176"/>
                  <p:cNvSpPr/>
                  <p:nvPr/>
                </p:nvSpPr>
                <p:spPr>
                  <a:xfrm rot="2130000">
                    <a:off x="4413240" y="2817000"/>
                    <a:ext cx="7308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81">
                        <a:moveTo>
                          <a:pt x="28" y="181"/>
                        </a:moveTo>
                        <a:lnTo>
                          <a:pt x="92" y="60"/>
                        </a:lnTo>
                        <a:lnTo>
                          <a:pt x="62" y="0"/>
                        </a:lnTo>
                        <a:lnTo>
                          <a:pt x="0" y="121"/>
                        </a:lnTo>
                        <a:lnTo>
                          <a:pt x="28" y="181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Freeform 1177"/>
                  <p:cNvSpPr/>
                  <p:nvPr/>
                </p:nvSpPr>
                <p:spPr>
                  <a:xfrm rot="2130000">
                    <a:off x="3633480" y="2478960"/>
                    <a:ext cx="10008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154">
                        <a:moveTo>
                          <a:pt x="73" y="0"/>
                        </a:moveTo>
                        <a:lnTo>
                          <a:pt x="0" y="37"/>
                        </a:lnTo>
                        <a:lnTo>
                          <a:pt x="56" y="154"/>
                        </a:lnTo>
                        <a:lnTo>
                          <a:pt x="127" y="118"/>
                        </a:lnTo>
                        <a:lnTo>
                          <a:pt x="73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Freeform 1178"/>
                  <p:cNvSpPr/>
                  <p:nvPr/>
                </p:nvSpPr>
                <p:spPr>
                  <a:xfrm rot="2130000">
                    <a:off x="3638160" y="2481840"/>
                    <a:ext cx="7164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19">
                        <a:moveTo>
                          <a:pt x="90" y="97"/>
                        </a:moveTo>
                        <a:lnTo>
                          <a:pt x="45" y="0"/>
                        </a:lnTo>
                        <a:lnTo>
                          <a:pt x="0" y="22"/>
                        </a:lnTo>
                        <a:lnTo>
                          <a:pt x="45" y="119"/>
                        </a:lnTo>
                        <a:lnTo>
                          <a:pt x="90" y="9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Freeform 1179"/>
                  <p:cNvSpPr/>
                  <p:nvPr/>
                </p:nvSpPr>
                <p:spPr>
                  <a:xfrm rot="2130000">
                    <a:off x="3686040" y="2482920"/>
                    <a:ext cx="10476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21">
                        <a:moveTo>
                          <a:pt x="83" y="221"/>
                        </a:moveTo>
                        <a:lnTo>
                          <a:pt x="124" y="209"/>
                        </a:lnTo>
                        <a:lnTo>
                          <a:pt x="132" y="105"/>
                        </a:lnTo>
                        <a:lnTo>
                          <a:pt x="80" y="0"/>
                        </a:lnTo>
                        <a:lnTo>
                          <a:pt x="0" y="40"/>
                        </a:lnTo>
                        <a:lnTo>
                          <a:pt x="83" y="221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Freeform 1180"/>
                  <p:cNvSpPr/>
                  <p:nvPr/>
                </p:nvSpPr>
                <p:spPr>
                  <a:xfrm rot="2130000">
                    <a:off x="3725640" y="2482920"/>
                    <a:ext cx="1350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378">
                        <a:moveTo>
                          <a:pt x="0" y="55"/>
                        </a:moveTo>
                        <a:lnTo>
                          <a:pt x="106" y="0"/>
                        </a:lnTo>
                        <a:lnTo>
                          <a:pt x="170" y="137"/>
                        </a:lnTo>
                        <a:lnTo>
                          <a:pt x="71" y="378"/>
                        </a:lnTo>
                        <a:lnTo>
                          <a:pt x="54" y="363"/>
                        </a:lnTo>
                        <a:lnTo>
                          <a:pt x="10" y="273"/>
                        </a:lnTo>
                        <a:lnTo>
                          <a:pt x="46" y="254"/>
                        </a:lnTo>
                        <a:lnTo>
                          <a:pt x="52" y="161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Freeform 1181"/>
                  <p:cNvSpPr/>
                  <p:nvPr/>
                </p:nvSpPr>
                <p:spPr>
                  <a:xfrm rot="2130000">
                    <a:off x="3872880" y="2494080"/>
                    <a:ext cx="122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203">
                        <a:moveTo>
                          <a:pt x="64" y="203"/>
                        </a:moveTo>
                        <a:lnTo>
                          <a:pt x="154" y="0"/>
                        </a:lnTo>
                        <a:lnTo>
                          <a:pt x="0" y="75"/>
                        </a:lnTo>
                        <a:lnTo>
                          <a:pt x="64" y="20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Freeform 1182"/>
                  <p:cNvSpPr/>
                  <p:nvPr/>
                </p:nvSpPr>
                <p:spPr>
                  <a:xfrm rot="2130000">
                    <a:off x="3810600" y="2462760"/>
                    <a:ext cx="177840" cy="39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501">
                        <a:moveTo>
                          <a:pt x="0" y="485"/>
                        </a:moveTo>
                        <a:lnTo>
                          <a:pt x="50" y="501"/>
                        </a:lnTo>
                        <a:lnTo>
                          <a:pt x="223" y="0"/>
                        </a:lnTo>
                        <a:lnTo>
                          <a:pt x="188" y="20"/>
                        </a:lnTo>
                        <a:lnTo>
                          <a:pt x="0" y="48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Freeform 1183"/>
                  <p:cNvSpPr/>
                  <p:nvPr/>
                </p:nvSpPr>
                <p:spPr>
                  <a:xfrm rot="2130000">
                    <a:off x="4304520" y="2633400"/>
                    <a:ext cx="8568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75">
                        <a:moveTo>
                          <a:pt x="20" y="275"/>
                        </a:moveTo>
                        <a:lnTo>
                          <a:pt x="0" y="0"/>
                        </a:lnTo>
                        <a:lnTo>
                          <a:pt x="106" y="69"/>
                        </a:lnTo>
                        <a:lnTo>
                          <a:pt x="20" y="27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Freeform 1184"/>
                  <p:cNvSpPr/>
                  <p:nvPr/>
                </p:nvSpPr>
                <p:spPr>
                  <a:xfrm rot="2130000">
                    <a:off x="3674160" y="2651040"/>
                    <a:ext cx="777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26">
                        <a:moveTo>
                          <a:pt x="48" y="126"/>
                        </a:moveTo>
                        <a:lnTo>
                          <a:pt x="98" y="99"/>
                        </a:lnTo>
                        <a:lnTo>
                          <a:pt x="50" y="0"/>
                        </a:lnTo>
                        <a:lnTo>
                          <a:pt x="0" y="27"/>
                        </a:lnTo>
                        <a:lnTo>
                          <a:pt x="48" y="1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Freeform 1185"/>
                  <p:cNvSpPr/>
                  <p:nvPr/>
                </p:nvSpPr>
                <p:spPr>
                  <a:xfrm rot="2130000">
                    <a:off x="3719520" y="2868840"/>
                    <a:ext cx="307800" cy="304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8" h="384">
                        <a:moveTo>
                          <a:pt x="252" y="384"/>
                        </a:moveTo>
                        <a:lnTo>
                          <a:pt x="143" y="158"/>
                        </a:lnTo>
                        <a:lnTo>
                          <a:pt x="97" y="149"/>
                        </a:lnTo>
                        <a:lnTo>
                          <a:pt x="42" y="174"/>
                        </a:lnTo>
                        <a:lnTo>
                          <a:pt x="0" y="84"/>
                        </a:lnTo>
                        <a:lnTo>
                          <a:pt x="174" y="0"/>
                        </a:lnTo>
                        <a:lnTo>
                          <a:pt x="245" y="26"/>
                        </a:lnTo>
                        <a:lnTo>
                          <a:pt x="388" y="318"/>
                        </a:lnTo>
                        <a:lnTo>
                          <a:pt x="252" y="38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Freeform 1186"/>
                  <p:cNvSpPr/>
                  <p:nvPr/>
                </p:nvSpPr>
                <p:spPr>
                  <a:xfrm rot="2130000">
                    <a:off x="4429080" y="2633400"/>
                    <a:ext cx="231840" cy="38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92" h="485">
                        <a:moveTo>
                          <a:pt x="74" y="0"/>
                        </a:moveTo>
                        <a:lnTo>
                          <a:pt x="0" y="38"/>
                        </a:lnTo>
                        <a:lnTo>
                          <a:pt x="217" y="485"/>
                        </a:lnTo>
                        <a:lnTo>
                          <a:pt x="292" y="444"/>
                        </a:lnTo>
                        <a:lnTo>
                          <a:pt x="74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Freeform 1187"/>
                  <p:cNvSpPr/>
                  <p:nvPr/>
                </p:nvSpPr>
                <p:spPr>
                  <a:xfrm rot="2130000">
                    <a:off x="4471920" y="2641680"/>
                    <a:ext cx="18108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390">
                        <a:moveTo>
                          <a:pt x="227" y="367"/>
                        </a:moveTo>
                        <a:lnTo>
                          <a:pt x="44" y="0"/>
                        </a:lnTo>
                        <a:lnTo>
                          <a:pt x="0" y="20"/>
                        </a:lnTo>
                        <a:lnTo>
                          <a:pt x="181" y="390"/>
                        </a:lnTo>
                        <a:lnTo>
                          <a:pt x="227" y="36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Freeform 1188"/>
                  <p:cNvSpPr/>
                  <p:nvPr/>
                </p:nvSpPr>
                <p:spPr>
                  <a:xfrm rot="2130000">
                    <a:off x="4401720" y="2597760"/>
                    <a:ext cx="1555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152">
                        <a:moveTo>
                          <a:pt x="141" y="0"/>
                        </a:moveTo>
                        <a:lnTo>
                          <a:pt x="196" y="113"/>
                        </a:lnTo>
                        <a:lnTo>
                          <a:pt x="118" y="152"/>
                        </a:lnTo>
                        <a:lnTo>
                          <a:pt x="0" y="69"/>
                        </a:lnTo>
                        <a:lnTo>
                          <a:pt x="14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Freeform 1189"/>
                  <p:cNvSpPr/>
                  <p:nvPr/>
                </p:nvSpPr>
                <p:spPr>
                  <a:xfrm rot="2130000">
                    <a:off x="4228920" y="2561760"/>
                    <a:ext cx="10008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321">
                        <a:moveTo>
                          <a:pt x="124" y="321"/>
                        </a:moveTo>
                        <a:lnTo>
                          <a:pt x="0" y="48"/>
                        </a:lnTo>
                        <a:lnTo>
                          <a:pt x="100" y="0"/>
                        </a:lnTo>
                        <a:lnTo>
                          <a:pt x="124" y="321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Freeform 1190"/>
                  <p:cNvSpPr/>
                  <p:nvPr/>
                </p:nvSpPr>
                <p:spPr>
                  <a:xfrm rot="2130000">
                    <a:off x="4025160" y="2710440"/>
                    <a:ext cx="19836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149">
                        <a:moveTo>
                          <a:pt x="249" y="29"/>
                        </a:moveTo>
                        <a:lnTo>
                          <a:pt x="0" y="149"/>
                        </a:lnTo>
                        <a:lnTo>
                          <a:pt x="17" y="105"/>
                        </a:lnTo>
                        <a:lnTo>
                          <a:pt x="233" y="0"/>
                        </a:lnTo>
                        <a:lnTo>
                          <a:pt x="249" y="29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Freeform 1191"/>
                  <p:cNvSpPr/>
                  <p:nvPr/>
                </p:nvSpPr>
                <p:spPr>
                  <a:xfrm rot="2130000">
                    <a:off x="4086720" y="2683080"/>
                    <a:ext cx="1476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17">
                        <a:moveTo>
                          <a:pt x="186" y="27"/>
                        </a:moveTo>
                        <a:lnTo>
                          <a:pt x="173" y="0"/>
                        </a:lnTo>
                        <a:lnTo>
                          <a:pt x="16" y="74"/>
                        </a:lnTo>
                        <a:lnTo>
                          <a:pt x="0" y="117"/>
                        </a:lnTo>
                        <a:lnTo>
                          <a:pt x="186" y="27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Freeform 1192"/>
                  <p:cNvSpPr/>
                  <p:nvPr/>
                </p:nvSpPr>
                <p:spPr>
                  <a:xfrm rot="2130000">
                    <a:off x="4142880" y="2645280"/>
                    <a:ext cx="1047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95">
                        <a:moveTo>
                          <a:pt x="131" y="33"/>
                        </a:moveTo>
                        <a:lnTo>
                          <a:pt x="115" y="0"/>
                        </a:lnTo>
                        <a:lnTo>
                          <a:pt x="18" y="47"/>
                        </a:lnTo>
                        <a:lnTo>
                          <a:pt x="0" y="95"/>
                        </a:lnTo>
                        <a:lnTo>
                          <a:pt x="131" y="33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Freeform 1193"/>
                  <p:cNvSpPr/>
                  <p:nvPr/>
                </p:nvSpPr>
                <p:spPr>
                  <a:xfrm rot="2130000">
                    <a:off x="4210200" y="2592000"/>
                    <a:ext cx="52200" cy="680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87">
                        <a:moveTo>
                          <a:pt x="68" y="54"/>
                        </a:moveTo>
                        <a:lnTo>
                          <a:pt x="0" y="87"/>
                        </a:lnTo>
                        <a:lnTo>
                          <a:pt x="24" y="9"/>
                        </a:lnTo>
                        <a:lnTo>
                          <a:pt x="42" y="0"/>
                        </a:lnTo>
                        <a:lnTo>
                          <a:pt x="68" y="54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Freeform 1194"/>
                  <p:cNvSpPr/>
                  <p:nvPr/>
                </p:nvSpPr>
                <p:spPr>
                  <a:xfrm rot="2130000">
                    <a:off x="4026960" y="3265200"/>
                    <a:ext cx="12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57">
                        <a:moveTo>
                          <a:pt x="154" y="30"/>
                        </a:moveTo>
                        <a:lnTo>
                          <a:pt x="53" y="0"/>
                        </a:lnTo>
                        <a:lnTo>
                          <a:pt x="0" y="23"/>
                        </a:lnTo>
                        <a:lnTo>
                          <a:pt x="93" y="57"/>
                        </a:lnTo>
                        <a:lnTo>
                          <a:pt x="154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Freeform 1195"/>
                  <p:cNvSpPr/>
                  <p:nvPr/>
                </p:nvSpPr>
                <p:spPr>
                  <a:xfrm rot="2130000">
                    <a:off x="3934800" y="3249360"/>
                    <a:ext cx="1206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8">
                        <a:moveTo>
                          <a:pt x="151" y="31"/>
                        </a:moveTo>
                        <a:lnTo>
                          <a:pt x="51" y="0"/>
                        </a:lnTo>
                        <a:lnTo>
                          <a:pt x="0" y="23"/>
                        </a:lnTo>
                        <a:lnTo>
                          <a:pt x="91" y="58"/>
                        </a:lnTo>
                        <a:lnTo>
                          <a:pt x="151" y="3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Freeform 1196"/>
                  <p:cNvSpPr/>
                  <p:nvPr/>
                </p:nvSpPr>
                <p:spPr>
                  <a:xfrm rot="2130000">
                    <a:off x="3840840" y="3232440"/>
                    <a:ext cx="1173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57">
                        <a:moveTo>
                          <a:pt x="149" y="30"/>
                        </a:moveTo>
                        <a:lnTo>
                          <a:pt x="51" y="0"/>
                        </a:lnTo>
                        <a:lnTo>
                          <a:pt x="0" y="23"/>
                        </a:lnTo>
                        <a:lnTo>
                          <a:pt x="93" y="57"/>
                        </a:lnTo>
                        <a:lnTo>
                          <a:pt x="149" y="3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Freeform 1197"/>
                  <p:cNvSpPr/>
                  <p:nvPr/>
                </p:nvSpPr>
                <p:spPr>
                  <a:xfrm rot="2130000">
                    <a:off x="3771360" y="3232440"/>
                    <a:ext cx="680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51">
                        <a:moveTo>
                          <a:pt x="86" y="27"/>
                        </a:moveTo>
                        <a:lnTo>
                          <a:pt x="11" y="0"/>
                        </a:lnTo>
                        <a:lnTo>
                          <a:pt x="0" y="37"/>
                        </a:lnTo>
                        <a:lnTo>
                          <a:pt x="33" y="51"/>
                        </a:lnTo>
                        <a:lnTo>
                          <a:pt x="86" y="2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Freeform 1198"/>
                  <p:cNvSpPr/>
                  <p:nvPr/>
                </p:nvSpPr>
                <p:spPr>
                  <a:xfrm rot="2130000">
                    <a:off x="3726720" y="2918520"/>
                    <a:ext cx="223560" cy="22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3" h="281">
                        <a:moveTo>
                          <a:pt x="257" y="281"/>
                        </a:moveTo>
                        <a:lnTo>
                          <a:pt x="140" y="38"/>
                        </a:lnTo>
                        <a:lnTo>
                          <a:pt x="107" y="27"/>
                        </a:lnTo>
                        <a:lnTo>
                          <a:pt x="14" y="67"/>
                        </a:lnTo>
                        <a:lnTo>
                          <a:pt x="0" y="51"/>
                        </a:lnTo>
                        <a:lnTo>
                          <a:pt x="113" y="0"/>
                        </a:lnTo>
                        <a:lnTo>
                          <a:pt x="150" y="1"/>
                        </a:lnTo>
                        <a:lnTo>
                          <a:pt x="283" y="270"/>
                        </a:lnTo>
                        <a:lnTo>
                          <a:pt x="257" y="28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Freeform 1199"/>
                  <p:cNvSpPr/>
                  <p:nvPr/>
                </p:nvSpPr>
                <p:spPr>
                  <a:xfrm rot="2130000">
                    <a:off x="3727080" y="2885760"/>
                    <a:ext cx="288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308">
                        <a:moveTo>
                          <a:pt x="337" y="308"/>
                        </a:moveTo>
                        <a:lnTo>
                          <a:pt x="197" y="34"/>
                        </a:lnTo>
                        <a:lnTo>
                          <a:pt x="151" y="27"/>
                        </a:lnTo>
                        <a:lnTo>
                          <a:pt x="15" y="92"/>
                        </a:lnTo>
                        <a:lnTo>
                          <a:pt x="0" y="76"/>
                        </a:lnTo>
                        <a:lnTo>
                          <a:pt x="169" y="0"/>
                        </a:lnTo>
                        <a:lnTo>
                          <a:pt x="217" y="15"/>
                        </a:lnTo>
                        <a:lnTo>
                          <a:pt x="364" y="294"/>
                        </a:lnTo>
                        <a:lnTo>
                          <a:pt x="337" y="3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Line 1200"/>
                  <p:cNvSpPr/>
                  <p:nvPr/>
                </p:nvSpPr>
                <p:spPr>
                  <a:xfrm flipH="1" flipV="1">
                    <a:off x="4059000" y="3143880"/>
                    <a:ext cx="82080" cy="158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Line 1201"/>
                  <p:cNvSpPr/>
                  <p:nvPr/>
                </p:nvSpPr>
                <p:spPr>
                  <a:xfrm flipH="1" flipV="1">
                    <a:off x="3966840" y="3096000"/>
                    <a:ext cx="76320" cy="133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Line 1202"/>
                  <p:cNvSpPr/>
                  <p:nvPr/>
                </p:nvSpPr>
                <p:spPr>
                  <a:xfrm flipV="1">
                    <a:off x="4064400" y="3038400"/>
                    <a:ext cx="11160" cy="8424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Line 1203"/>
                  <p:cNvSpPr/>
                  <p:nvPr/>
                </p:nvSpPr>
                <p:spPr>
                  <a:xfrm flipH="1" flipV="1">
                    <a:off x="4048560" y="3033000"/>
                    <a:ext cx="48600" cy="79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Line 1204"/>
                  <p:cNvSpPr/>
                  <p:nvPr/>
                </p:nvSpPr>
                <p:spPr>
                  <a:xfrm flipH="1" flipV="1">
                    <a:off x="4046760" y="2988720"/>
                    <a:ext cx="59040" cy="72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Line 1205"/>
                  <p:cNvSpPr/>
                  <p:nvPr/>
                </p:nvSpPr>
                <p:spPr>
                  <a:xfrm flipH="1" flipV="1">
                    <a:off x="4063680" y="3115800"/>
                    <a:ext cx="68760" cy="1008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Line 1206"/>
                  <p:cNvSpPr/>
                  <p:nvPr/>
                </p:nvSpPr>
                <p:spPr>
                  <a:xfrm flipH="1" flipV="1">
                    <a:off x="3960720" y="3126240"/>
                    <a:ext cx="83520" cy="1692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7" name="Freeform 1207"/>
                <p:cNvSpPr/>
                <p:nvPr/>
              </p:nvSpPr>
              <p:spPr>
                <a:xfrm rot="2130000">
                  <a:off x="3355200" y="1644120"/>
                  <a:ext cx="1552680" cy="1833480"/>
                </a:xfrm>
                <a:custGeom>
                  <a:avLst/>
                  <a:gdLst/>
                  <a:ahLst/>
                  <a:rect l="l" t="t" r="r" b="b"/>
                  <a:pathLst>
                    <a:path w="1957" h="2308">
                      <a:moveTo>
                        <a:pt x="0" y="549"/>
                      </a:moveTo>
                      <a:lnTo>
                        <a:pt x="1099" y="0"/>
                      </a:lnTo>
                      <a:lnTo>
                        <a:pt x="1957" y="1770"/>
                      </a:lnTo>
                      <a:lnTo>
                        <a:pt x="879" y="2308"/>
                      </a:lnTo>
                      <a:lnTo>
                        <a:pt x="0" y="549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Freeform 1208"/>
                <p:cNvSpPr/>
                <p:nvPr/>
              </p:nvSpPr>
              <p:spPr>
                <a:xfrm rot="2130000">
                  <a:off x="3816360" y="1800000"/>
                  <a:ext cx="180720" cy="315720"/>
                </a:xfrm>
                <a:custGeom>
                  <a:avLst/>
                  <a:gdLst/>
                  <a:ahLst/>
                  <a:rect l="l" t="t" r="r" b="b"/>
                  <a:pathLst>
                    <a:path w="227" h="399">
                      <a:moveTo>
                        <a:pt x="7" y="0"/>
                      </a:moveTo>
                      <a:lnTo>
                        <a:pt x="0" y="254"/>
                      </a:lnTo>
                      <a:lnTo>
                        <a:pt x="227" y="399"/>
                      </a:lnTo>
                      <a:lnTo>
                        <a:pt x="224" y="13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Freeform 1209"/>
                <p:cNvSpPr/>
                <p:nvPr/>
              </p:nvSpPr>
              <p:spPr>
                <a:xfrm rot="2130000">
                  <a:off x="4276800" y="3017160"/>
                  <a:ext cx="179280" cy="317520"/>
                </a:xfrm>
                <a:custGeom>
                  <a:avLst/>
                  <a:gdLst/>
                  <a:ahLst/>
                  <a:rect l="l" t="t" r="r" b="b"/>
                  <a:pathLst>
                    <a:path w="227" h="399">
                      <a:moveTo>
                        <a:pt x="7" y="0"/>
                      </a:moveTo>
                      <a:lnTo>
                        <a:pt x="0" y="254"/>
                      </a:lnTo>
                      <a:lnTo>
                        <a:pt x="227" y="399"/>
                      </a:lnTo>
                      <a:lnTo>
                        <a:pt x="224" y="133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Freeform 1210"/>
                <p:cNvSpPr/>
                <p:nvPr/>
              </p:nvSpPr>
              <p:spPr>
                <a:xfrm rot="2130000">
                  <a:off x="4539960" y="3304080"/>
                  <a:ext cx="127080" cy="220680"/>
                </a:xfrm>
                <a:custGeom>
                  <a:avLst/>
                  <a:gdLst/>
                  <a:ahLst/>
                  <a:rect l="l" t="t" r="r" b="b"/>
                  <a:pathLst>
                    <a:path w="160" h="278">
                      <a:moveTo>
                        <a:pt x="20" y="0"/>
                      </a:moveTo>
                      <a:lnTo>
                        <a:pt x="0" y="175"/>
                      </a:lnTo>
                      <a:lnTo>
                        <a:pt x="155" y="278"/>
                      </a:lnTo>
                      <a:lnTo>
                        <a:pt x="160" y="8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Freeform 1211"/>
                <p:cNvSpPr/>
                <p:nvPr/>
              </p:nvSpPr>
              <p:spPr>
                <a:xfrm rot="2130000">
                  <a:off x="4462200" y="3580560"/>
                  <a:ext cx="130320" cy="247680"/>
                </a:xfrm>
                <a:custGeom>
                  <a:avLst/>
                  <a:gdLst/>
                  <a:ahLst/>
                  <a:rect l="l" t="t" r="r" b="b"/>
                  <a:pathLst>
                    <a:path w="164" h="311">
                      <a:moveTo>
                        <a:pt x="157" y="283"/>
                      </a:moveTo>
                      <a:lnTo>
                        <a:pt x="113" y="311"/>
                      </a:lnTo>
                      <a:lnTo>
                        <a:pt x="0" y="88"/>
                      </a:lnTo>
                      <a:lnTo>
                        <a:pt x="23" y="30"/>
                      </a:lnTo>
                      <a:lnTo>
                        <a:pt x="78" y="0"/>
                      </a:lnTo>
                      <a:lnTo>
                        <a:pt x="138" y="22"/>
                      </a:lnTo>
                      <a:lnTo>
                        <a:pt x="164" y="91"/>
                      </a:lnTo>
                      <a:lnTo>
                        <a:pt x="119" y="115"/>
                      </a:lnTo>
                      <a:lnTo>
                        <a:pt x="90" y="63"/>
                      </a:lnTo>
                      <a:lnTo>
                        <a:pt x="58" y="80"/>
                      </a:lnTo>
                      <a:lnTo>
                        <a:pt x="157" y="283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Group 1300"/>
            <p:cNvGrpSpPr/>
            <p:nvPr/>
          </p:nvGrpSpPr>
          <p:grpSpPr>
            <a:xfrm>
              <a:off x="2629440" y="994680"/>
              <a:ext cx="3375720" cy="3521880"/>
              <a:chOff x="2629440" y="994680"/>
              <a:chExt cx="3375720" cy="3521880"/>
            </a:xfrm>
          </p:grpSpPr>
          <p:sp>
            <p:nvSpPr>
              <p:cNvPr id="563" name="Freeform 1301"/>
              <p:cNvSpPr/>
              <p:nvPr/>
            </p:nvSpPr>
            <p:spPr>
              <a:xfrm rot="2059200">
                <a:off x="3215520" y="1375200"/>
                <a:ext cx="2202840" cy="2760480"/>
              </a:xfrm>
              <a:custGeom>
                <a:avLst/>
                <a:gdLst/>
                <a:ahLst/>
                <a:rect l="l" t="t" r="r" b="b"/>
                <a:pathLst>
                  <a:path w="2777" h="3479">
                    <a:moveTo>
                      <a:pt x="49" y="497"/>
                    </a:moveTo>
                    <a:lnTo>
                      <a:pt x="143" y="445"/>
                    </a:lnTo>
                    <a:lnTo>
                      <a:pt x="1770" y="11"/>
                    </a:lnTo>
                    <a:lnTo>
                      <a:pt x="1905" y="0"/>
                    </a:lnTo>
                    <a:lnTo>
                      <a:pt x="2003" y="48"/>
                    </a:lnTo>
                    <a:lnTo>
                      <a:pt x="2049" y="126"/>
                    </a:lnTo>
                    <a:lnTo>
                      <a:pt x="2777" y="2880"/>
                    </a:lnTo>
                    <a:lnTo>
                      <a:pt x="2759" y="2973"/>
                    </a:lnTo>
                    <a:lnTo>
                      <a:pt x="2714" y="3038"/>
                    </a:lnTo>
                    <a:lnTo>
                      <a:pt x="2612" y="3071"/>
                    </a:lnTo>
                    <a:lnTo>
                      <a:pt x="1057" y="3464"/>
                    </a:lnTo>
                    <a:lnTo>
                      <a:pt x="909" y="3479"/>
                    </a:lnTo>
                    <a:lnTo>
                      <a:pt x="830" y="3450"/>
                    </a:lnTo>
                    <a:lnTo>
                      <a:pt x="796" y="3368"/>
                    </a:lnTo>
                    <a:lnTo>
                      <a:pt x="13" y="667"/>
                    </a:lnTo>
                    <a:lnTo>
                      <a:pt x="0" y="567"/>
                    </a:lnTo>
                    <a:lnTo>
                      <a:pt x="49" y="497"/>
                    </a:lnTo>
                    <a:close/>
                  </a:path>
                </a:pathLst>
              </a:custGeom>
              <a:solidFill>
                <a:srgbClr val="ffffff"/>
              </a:solidFill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Group 1302"/>
              <p:cNvGrpSpPr/>
              <p:nvPr/>
            </p:nvGrpSpPr>
            <p:grpSpPr>
              <a:xfrm>
                <a:off x="3194280" y="1417320"/>
                <a:ext cx="2243520" cy="2697480"/>
                <a:chOff x="3194280" y="1417320"/>
                <a:chExt cx="2243520" cy="2697480"/>
              </a:xfrm>
            </p:grpSpPr>
            <p:grpSp>
              <p:nvGrpSpPr>
                <p:cNvPr id="565" name="Group 1303"/>
                <p:cNvGrpSpPr/>
                <p:nvPr/>
              </p:nvGrpSpPr>
              <p:grpSpPr>
                <a:xfrm>
                  <a:off x="3828960" y="1417320"/>
                  <a:ext cx="348120" cy="544320"/>
                  <a:chOff x="3828960" y="1417320"/>
                  <a:chExt cx="348120" cy="544320"/>
                </a:xfrm>
              </p:grpSpPr>
              <p:sp>
                <p:nvSpPr>
                  <p:cNvPr id="566" name="Freeform 1304"/>
                  <p:cNvSpPr/>
                  <p:nvPr/>
                </p:nvSpPr>
                <p:spPr>
                  <a:xfrm rot="2059200">
                    <a:off x="3884040" y="1708920"/>
                    <a:ext cx="12996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98">
                        <a:moveTo>
                          <a:pt x="43" y="0"/>
                        </a:moveTo>
                        <a:lnTo>
                          <a:pt x="0" y="171"/>
                        </a:lnTo>
                        <a:lnTo>
                          <a:pt x="132" y="298"/>
                        </a:lnTo>
                        <a:lnTo>
                          <a:pt x="165" y="123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Freeform 1305"/>
                  <p:cNvSpPr/>
                  <p:nvPr/>
                </p:nvSpPr>
                <p:spPr>
                  <a:xfrm rot="2059200">
                    <a:off x="3968280" y="1437480"/>
                    <a:ext cx="150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19">
                        <a:moveTo>
                          <a:pt x="84" y="0"/>
                        </a:moveTo>
                        <a:lnTo>
                          <a:pt x="29" y="21"/>
                        </a:lnTo>
                        <a:lnTo>
                          <a:pt x="0" y="71"/>
                        </a:lnTo>
                        <a:lnTo>
                          <a:pt x="48" y="274"/>
                        </a:lnTo>
                        <a:lnTo>
                          <a:pt x="99" y="293"/>
                        </a:lnTo>
                        <a:lnTo>
                          <a:pt x="110" y="319"/>
                        </a:lnTo>
                        <a:lnTo>
                          <a:pt x="157" y="309"/>
                        </a:lnTo>
                        <a:lnTo>
                          <a:pt x="154" y="282"/>
                        </a:lnTo>
                        <a:lnTo>
                          <a:pt x="188" y="227"/>
                        </a:lnTo>
                        <a:lnTo>
                          <a:pt x="138" y="32"/>
                        </a:lnTo>
                        <a:lnTo>
                          <a:pt x="8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8" name="Freeform 1306"/>
                <p:cNvSpPr/>
                <p:nvPr/>
              </p:nvSpPr>
              <p:spPr>
                <a:xfrm rot="2059200">
                  <a:off x="4014360" y="1484280"/>
                  <a:ext cx="64800" cy="147600"/>
                </a:xfrm>
                <a:custGeom>
                  <a:avLst/>
                  <a:gdLst/>
                  <a:ahLst/>
                  <a:rect l="l" t="t" r="r" b="b"/>
                  <a:pathLst>
                    <a:path w="82" h="185">
                      <a:moveTo>
                        <a:pt x="37" y="0"/>
                      </a:moveTo>
                      <a:lnTo>
                        <a:pt x="0" y="11"/>
                      </a:lnTo>
                      <a:lnTo>
                        <a:pt x="42" y="185"/>
                      </a:lnTo>
                      <a:lnTo>
                        <a:pt x="82" y="171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9" name="Group 1307"/>
                <p:cNvGrpSpPr/>
                <p:nvPr/>
              </p:nvGrpSpPr>
              <p:grpSpPr>
                <a:xfrm>
                  <a:off x="4443480" y="3569400"/>
                  <a:ext cx="349200" cy="545400"/>
                  <a:chOff x="4443480" y="3569400"/>
                  <a:chExt cx="349200" cy="545400"/>
                </a:xfrm>
              </p:grpSpPr>
              <p:sp>
                <p:nvSpPr>
                  <p:cNvPr id="570" name="Freeform 1308"/>
                  <p:cNvSpPr/>
                  <p:nvPr/>
                </p:nvSpPr>
                <p:spPr>
                  <a:xfrm rot="2059200">
                    <a:off x="4607280" y="3585240"/>
                    <a:ext cx="12996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98">
                        <a:moveTo>
                          <a:pt x="122" y="298"/>
                        </a:moveTo>
                        <a:lnTo>
                          <a:pt x="165" y="127"/>
                        </a:lnTo>
                        <a:lnTo>
                          <a:pt x="40" y="0"/>
                        </a:lnTo>
                        <a:lnTo>
                          <a:pt x="0" y="174"/>
                        </a:lnTo>
                        <a:lnTo>
                          <a:pt x="122" y="298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Freeform 1309"/>
                  <p:cNvSpPr/>
                  <p:nvPr/>
                </p:nvSpPr>
                <p:spPr>
                  <a:xfrm rot="2059200">
                    <a:off x="4501800" y="3840840"/>
                    <a:ext cx="14904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19">
                        <a:moveTo>
                          <a:pt x="104" y="319"/>
                        </a:moveTo>
                        <a:lnTo>
                          <a:pt x="159" y="298"/>
                        </a:lnTo>
                        <a:lnTo>
                          <a:pt x="188" y="248"/>
                        </a:lnTo>
                        <a:lnTo>
                          <a:pt x="140" y="45"/>
                        </a:lnTo>
                        <a:lnTo>
                          <a:pt x="89" y="26"/>
                        </a:lnTo>
                        <a:lnTo>
                          <a:pt x="78" y="0"/>
                        </a:lnTo>
                        <a:lnTo>
                          <a:pt x="31" y="10"/>
                        </a:lnTo>
                        <a:lnTo>
                          <a:pt x="34" y="36"/>
                        </a:lnTo>
                        <a:lnTo>
                          <a:pt x="0" y="91"/>
                        </a:lnTo>
                        <a:lnTo>
                          <a:pt x="50" y="287"/>
                        </a:lnTo>
                        <a:lnTo>
                          <a:pt x="104" y="31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2" name="Freeform 1310"/>
                <p:cNvSpPr/>
                <p:nvPr/>
              </p:nvSpPr>
              <p:spPr>
                <a:xfrm rot="2059200">
                  <a:off x="4540680" y="3899880"/>
                  <a:ext cx="64800" cy="147960"/>
                </a:xfrm>
                <a:custGeom>
                  <a:avLst/>
                  <a:gdLst/>
                  <a:ahLst/>
                  <a:rect l="l" t="t" r="r" b="b"/>
                  <a:pathLst>
                    <a:path w="82" h="186">
                      <a:moveTo>
                        <a:pt x="45" y="186"/>
                      </a:moveTo>
                      <a:lnTo>
                        <a:pt x="82" y="175"/>
                      </a:lnTo>
                      <a:lnTo>
                        <a:pt x="40" y="0"/>
                      </a:lnTo>
                      <a:lnTo>
                        <a:pt x="0" y="15"/>
                      </a:lnTo>
                      <a:lnTo>
                        <a:pt x="45" y="18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3" name="Group 1311"/>
                <p:cNvGrpSpPr/>
                <p:nvPr/>
              </p:nvGrpSpPr>
              <p:grpSpPr>
                <a:xfrm>
                  <a:off x="3194280" y="1551960"/>
                  <a:ext cx="2243520" cy="2355120"/>
                  <a:chOff x="3194280" y="1551960"/>
                  <a:chExt cx="2243520" cy="2355120"/>
                </a:xfrm>
              </p:grpSpPr>
              <p:sp>
                <p:nvSpPr>
                  <p:cNvPr id="574" name="Freeform 1312"/>
                  <p:cNvSpPr/>
                  <p:nvPr/>
                </p:nvSpPr>
                <p:spPr>
                  <a:xfrm rot="2059200">
                    <a:off x="3594600" y="1796040"/>
                    <a:ext cx="1442520" cy="18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17" h="2353">
                        <a:moveTo>
                          <a:pt x="0" y="334"/>
                        </a:moveTo>
                        <a:lnTo>
                          <a:pt x="1264" y="0"/>
                        </a:lnTo>
                        <a:lnTo>
                          <a:pt x="1817" y="2012"/>
                        </a:lnTo>
                        <a:lnTo>
                          <a:pt x="553" y="2353"/>
                        </a:lnTo>
                        <a:lnTo>
                          <a:pt x="0" y="334"/>
                        </a:lnTo>
                        <a:close/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Freeform 1313"/>
                  <p:cNvSpPr/>
                  <p:nvPr/>
                </p:nvSpPr>
                <p:spPr>
                  <a:xfrm rot="2059200">
                    <a:off x="4078440" y="1849680"/>
                    <a:ext cx="2091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475">
                        <a:moveTo>
                          <a:pt x="69" y="0"/>
                        </a:moveTo>
                        <a:lnTo>
                          <a:pt x="0" y="273"/>
                        </a:lnTo>
                        <a:lnTo>
                          <a:pt x="213" y="475"/>
                        </a:lnTo>
                        <a:lnTo>
                          <a:pt x="266" y="197"/>
                        </a:lnTo>
                        <a:lnTo>
                          <a:pt x="6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Freeform 1314"/>
                  <p:cNvSpPr/>
                  <p:nvPr/>
                </p:nvSpPr>
                <p:spPr>
                  <a:xfrm rot="2059200">
                    <a:off x="4353840" y="3259440"/>
                    <a:ext cx="17568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397">
                        <a:moveTo>
                          <a:pt x="57" y="0"/>
                        </a:moveTo>
                        <a:lnTo>
                          <a:pt x="0" y="227"/>
                        </a:lnTo>
                        <a:lnTo>
                          <a:pt x="177" y="397"/>
                        </a:lnTo>
                        <a:lnTo>
                          <a:pt x="221" y="165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7" name="Group 1315"/>
                  <p:cNvGrpSpPr/>
                  <p:nvPr/>
                </p:nvGrpSpPr>
                <p:grpSpPr>
                  <a:xfrm>
                    <a:off x="3817440" y="1890720"/>
                    <a:ext cx="1331280" cy="1143000"/>
                    <a:chOff x="3817440" y="1890720"/>
                    <a:chExt cx="1331280" cy="1143000"/>
                  </a:xfrm>
                </p:grpSpPr>
                <p:sp>
                  <p:nvSpPr>
                    <p:cNvPr id="578" name="Freeform 1316"/>
                    <p:cNvSpPr/>
                    <p:nvPr/>
                  </p:nvSpPr>
                  <p:spPr>
                    <a:xfrm rot="2059200">
                      <a:off x="4727520" y="2029320"/>
                      <a:ext cx="290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421">
                          <a:moveTo>
                            <a:pt x="271" y="0"/>
                          </a:moveTo>
                          <a:lnTo>
                            <a:pt x="0" y="71"/>
                          </a:lnTo>
                          <a:lnTo>
                            <a:pt x="34" y="213"/>
                          </a:lnTo>
                          <a:lnTo>
                            <a:pt x="170" y="338"/>
                          </a:lnTo>
                          <a:lnTo>
                            <a:pt x="304" y="421"/>
                          </a:lnTo>
                          <a:lnTo>
                            <a:pt x="366" y="325"/>
                          </a:lnTo>
                          <a:lnTo>
                            <a:pt x="283" y="259"/>
                          </a:lnTo>
                          <a:lnTo>
                            <a:pt x="245" y="123"/>
                          </a:lnTo>
                          <a:lnTo>
                            <a:pt x="271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Freeform 1317"/>
                    <p:cNvSpPr/>
                    <p:nvPr/>
                  </p:nvSpPr>
                  <p:spPr>
                    <a:xfrm rot="2059200">
                      <a:off x="4598280" y="2077560"/>
                      <a:ext cx="468000" cy="43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9" h="550">
                          <a:moveTo>
                            <a:pt x="84" y="0"/>
                          </a:moveTo>
                          <a:lnTo>
                            <a:pt x="0" y="22"/>
                          </a:lnTo>
                          <a:lnTo>
                            <a:pt x="36" y="156"/>
                          </a:lnTo>
                          <a:lnTo>
                            <a:pt x="220" y="331"/>
                          </a:lnTo>
                          <a:lnTo>
                            <a:pt x="589" y="550"/>
                          </a:lnTo>
                          <a:lnTo>
                            <a:pt x="560" y="457"/>
                          </a:lnTo>
                          <a:lnTo>
                            <a:pt x="256" y="273"/>
                          </a:lnTo>
                          <a:lnTo>
                            <a:pt x="120" y="151"/>
                          </a:lnTo>
                          <a:lnTo>
                            <a:pt x="84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Freeform 1318"/>
                    <p:cNvSpPr/>
                    <p:nvPr/>
                  </p:nvSpPr>
                  <p:spPr>
                    <a:xfrm rot="2059200">
                      <a:off x="4350600" y="1875600"/>
                      <a:ext cx="10764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655">
                          <a:moveTo>
                            <a:pt x="113" y="0"/>
                          </a:moveTo>
                          <a:lnTo>
                            <a:pt x="135" y="92"/>
                          </a:lnTo>
                          <a:lnTo>
                            <a:pt x="51" y="289"/>
                          </a:lnTo>
                          <a:lnTo>
                            <a:pt x="47" y="413"/>
                          </a:lnTo>
                          <a:lnTo>
                            <a:pt x="91" y="597"/>
                          </a:lnTo>
                          <a:lnTo>
                            <a:pt x="57" y="655"/>
                          </a:lnTo>
                          <a:lnTo>
                            <a:pt x="0" y="424"/>
                          </a:lnTo>
                          <a:lnTo>
                            <a:pt x="5" y="283"/>
                          </a:lnTo>
                          <a:lnTo>
                            <a:pt x="69" y="96"/>
                          </a:lnTo>
                          <a:lnTo>
                            <a:pt x="51" y="21"/>
                          </a:lnTo>
                          <a:lnTo>
                            <a:pt x="113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Freeform 1319"/>
                    <p:cNvSpPr/>
                    <p:nvPr/>
                  </p:nvSpPr>
                  <p:spPr>
                    <a:xfrm rot="2059200">
                      <a:off x="4473000" y="1959480"/>
                      <a:ext cx="290160" cy="38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489">
                          <a:moveTo>
                            <a:pt x="0" y="60"/>
                          </a:moveTo>
                          <a:lnTo>
                            <a:pt x="93" y="409"/>
                          </a:lnTo>
                          <a:lnTo>
                            <a:pt x="159" y="465"/>
                          </a:lnTo>
                          <a:lnTo>
                            <a:pt x="190" y="489"/>
                          </a:lnTo>
                          <a:lnTo>
                            <a:pt x="300" y="459"/>
                          </a:lnTo>
                          <a:lnTo>
                            <a:pt x="366" y="344"/>
                          </a:lnTo>
                          <a:lnTo>
                            <a:pt x="335" y="212"/>
                          </a:lnTo>
                          <a:lnTo>
                            <a:pt x="240" y="123"/>
                          </a:lnTo>
                          <a:lnTo>
                            <a:pt x="209" y="0"/>
                          </a:lnTo>
                          <a:lnTo>
                            <a:pt x="0" y="6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Freeform 1320"/>
                    <p:cNvSpPr/>
                    <p:nvPr/>
                  </p:nvSpPr>
                  <p:spPr>
                    <a:xfrm rot="2059200">
                      <a:off x="4547880" y="1939320"/>
                      <a:ext cx="997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82">
                          <a:moveTo>
                            <a:pt x="0" y="28"/>
                          </a:moveTo>
                          <a:lnTo>
                            <a:pt x="40" y="182"/>
                          </a:lnTo>
                          <a:lnTo>
                            <a:pt x="126" y="83"/>
                          </a:lnTo>
                          <a:lnTo>
                            <a:pt x="104" y="0"/>
                          </a:lnTo>
                          <a:lnTo>
                            <a:pt x="0" y="2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Freeform 1321"/>
                    <p:cNvSpPr/>
                    <p:nvPr/>
                  </p:nvSpPr>
                  <p:spPr>
                    <a:xfrm rot="2059200">
                      <a:off x="4633200" y="1985760"/>
                      <a:ext cx="14580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77">
                          <a:moveTo>
                            <a:pt x="184" y="177"/>
                          </a:moveTo>
                          <a:lnTo>
                            <a:pt x="22" y="113"/>
                          </a:lnTo>
                          <a:lnTo>
                            <a:pt x="0" y="27"/>
                          </a:lnTo>
                          <a:lnTo>
                            <a:pt x="95" y="0"/>
                          </a:lnTo>
                          <a:lnTo>
                            <a:pt x="128" y="121"/>
                          </a:lnTo>
                          <a:lnTo>
                            <a:pt x="184" y="17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Freeform 1322"/>
                    <p:cNvSpPr/>
                    <p:nvPr/>
                  </p:nvSpPr>
                  <p:spPr>
                    <a:xfrm rot="2059200">
                      <a:off x="4411080" y="2231280"/>
                      <a:ext cx="307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224">
                          <a:moveTo>
                            <a:pt x="317" y="0"/>
                          </a:moveTo>
                          <a:lnTo>
                            <a:pt x="246" y="116"/>
                          </a:lnTo>
                          <a:lnTo>
                            <a:pt x="139" y="145"/>
                          </a:lnTo>
                          <a:lnTo>
                            <a:pt x="33" y="66"/>
                          </a:lnTo>
                          <a:lnTo>
                            <a:pt x="0" y="131"/>
                          </a:lnTo>
                          <a:lnTo>
                            <a:pt x="78" y="199"/>
                          </a:lnTo>
                          <a:lnTo>
                            <a:pt x="134" y="224"/>
                          </a:lnTo>
                          <a:lnTo>
                            <a:pt x="270" y="186"/>
                          </a:lnTo>
                          <a:lnTo>
                            <a:pt x="338" y="148"/>
                          </a:lnTo>
                          <a:lnTo>
                            <a:pt x="388" y="59"/>
                          </a:lnTo>
                          <a:lnTo>
                            <a:pt x="317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Freeform 1323"/>
                    <p:cNvSpPr/>
                    <p:nvPr/>
                  </p:nvSpPr>
                  <p:spPr>
                    <a:xfrm rot="2059200">
                      <a:off x="4410360" y="2226600"/>
                      <a:ext cx="310680" cy="18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3" h="232">
                          <a:moveTo>
                            <a:pt x="315" y="11"/>
                          </a:moveTo>
                          <a:lnTo>
                            <a:pt x="325" y="9"/>
                          </a:lnTo>
                          <a:lnTo>
                            <a:pt x="254" y="125"/>
                          </a:lnTo>
                          <a:lnTo>
                            <a:pt x="252" y="125"/>
                          </a:lnTo>
                          <a:lnTo>
                            <a:pt x="144" y="154"/>
                          </a:lnTo>
                          <a:lnTo>
                            <a:pt x="142" y="154"/>
                          </a:lnTo>
                          <a:lnTo>
                            <a:pt x="142" y="155"/>
                          </a:lnTo>
                          <a:lnTo>
                            <a:pt x="139" y="151"/>
                          </a:lnTo>
                          <a:lnTo>
                            <a:pt x="33" y="72"/>
                          </a:lnTo>
                          <a:lnTo>
                            <a:pt x="38" y="72"/>
                          </a:lnTo>
                          <a:lnTo>
                            <a:pt x="10" y="136"/>
                          </a:lnTo>
                          <a:lnTo>
                            <a:pt x="8" y="133"/>
                          </a:lnTo>
                          <a:lnTo>
                            <a:pt x="83" y="202"/>
                          </a:lnTo>
                          <a:lnTo>
                            <a:pt x="83" y="199"/>
                          </a:lnTo>
                          <a:lnTo>
                            <a:pt x="139" y="224"/>
                          </a:lnTo>
                          <a:lnTo>
                            <a:pt x="137" y="224"/>
                          </a:lnTo>
                          <a:lnTo>
                            <a:pt x="273" y="189"/>
                          </a:lnTo>
                          <a:lnTo>
                            <a:pt x="339" y="149"/>
                          </a:lnTo>
                          <a:lnTo>
                            <a:pt x="332" y="151"/>
                          </a:lnTo>
                          <a:lnTo>
                            <a:pt x="385" y="60"/>
                          </a:lnTo>
                          <a:lnTo>
                            <a:pt x="387" y="67"/>
                          </a:lnTo>
                          <a:lnTo>
                            <a:pt x="315" y="11"/>
                          </a:lnTo>
                          <a:lnTo>
                            <a:pt x="323" y="2"/>
                          </a:lnTo>
                          <a:lnTo>
                            <a:pt x="393" y="60"/>
                          </a:lnTo>
                          <a:lnTo>
                            <a:pt x="393" y="70"/>
                          </a:lnTo>
                          <a:lnTo>
                            <a:pt x="343" y="158"/>
                          </a:lnTo>
                          <a:lnTo>
                            <a:pt x="275" y="199"/>
                          </a:lnTo>
                          <a:lnTo>
                            <a:pt x="139" y="232"/>
                          </a:lnTo>
                          <a:lnTo>
                            <a:pt x="137" y="232"/>
                          </a:lnTo>
                          <a:lnTo>
                            <a:pt x="81" y="208"/>
                          </a:lnTo>
                          <a:lnTo>
                            <a:pt x="76" y="208"/>
                          </a:lnTo>
                          <a:lnTo>
                            <a:pt x="0" y="139"/>
                          </a:lnTo>
                          <a:lnTo>
                            <a:pt x="0" y="136"/>
                          </a:lnTo>
                          <a:lnTo>
                            <a:pt x="31" y="70"/>
                          </a:lnTo>
                          <a:lnTo>
                            <a:pt x="36" y="65"/>
                          </a:lnTo>
                          <a:lnTo>
                            <a:pt x="36" y="67"/>
                          </a:lnTo>
                          <a:lnTo>
                            <a:pt x="144" y="147"/>
                          </a:lnTo>
                          <a:lnTo>
                            <a:pt x="142" y="147"/>
                          </a:lnTo>
                          <a:lnTo>
                            <a:pt x="249" y="117"/>
                          </a:lnTo>
                          <a:lnTo>
                            <a:pt x="244" y="117"/>
                          </a:lnTo>
                          <a:lnTo>
                            <a:pt x="315" y="2"/>
                          </a:lnTo>
                          <a:lnTo>
                            <a:pt x="318" y="2"/>
                          </a:lnTo>
                          <a:lnTo>
                            <a:pt x="315" y="2"/>
                          </a:lnTo>
                          <a:lnTo>
                            <a:pt x="318" y="2"/>
                          </a:lnTo>
                          <a:lnTo>
                            <a:pt x="320" y="0"/>
                          </a:lnTo>
                          <a:lnTo>
                            <a:pt x="323" y="2"/>
                          </a:lnTo>
                          <a:lnTo>
                            <a:pt x="315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Freeform 1324"/>
                    <p:cNvSpPr/>
                    <p:nvPr/>
                  </p:nvSpPr>
                  <p:spPr>
                    <a:xfrm rot="2059200">
                      <a:off x="4676040" y="2241000"/>
                      <a:ext cx="18360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3" h="201">
                          <a:moveTo>
                            <a:pt x="0" y="0"/>
                          </a:moveTo>
                          <a:lnTo>
                            <a:pt x="29" y="135"/>
                          </a:lnTo>
                          <a:lnTo>
                            <a:pt x="115" y="201"/>
                          </a:lnTo>
                          <a:lnTo>
                            <a:pt x="233" y="174"/>
                          </a:lnTo>
                          <a:lnTo>
                            <a:pt x="93" y="8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Freeform 1325"/>
                    <p:cNvSpPr/>
                    <p:nvPr/>
                  </p:nvSpPr>
                  <p:spPr>
                    <a:xfrm rot="2059200">
                      <a:off x="4288320" y="2279160"/>
                      <a:ext cx="53928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0" h="368">
                          <a:moveTo>
                            <a:pt x="597" y="0"/>
                          </a:moveTo>
                          <a:lnTo>
                            <a:pt x="487" y="28"/>
                          </a:lnTo>
                          <a:lnTo>
                            <a:pt x="444" y="123"/>
                          </a:lnTo>
                          <a:lnTo>
                            <a:pt x="376" y="164"/>
                          </a:lnTo>
                          <a:lnTo>
                            <a:pt x="200" y="212"/>
                          </a:lnTo>
                          <a:lnTo>
                            <a:pt x="68" y="155"/>
                          </a:lnTo>
                          <a:lnTo>
                            <a:pt x="0" y="265"/>
                          </a:lnTo>
                          <a:lnTo>
                            <a:pt x="140" y="344"/>
                          </a:lnTo>
                          <a:lnTo>
                            <a:pt x="246" y="368"/>
                          </a:lnTo>
                          <a:lnTo>
                            <a:pt x="423" y="317"/>
                          </a:lnTo>
                          <a:lnTo>
                            <a:pt x="555" y="212"/>
                          </a:lnTo>
                          <a:lnTo>
                            <a:pt x="680" y="45"/>
                          </a:lnTo>
                          <a:lnTo>
                            <a:pt x="597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Freeform 1326"/>
                    <p:cNvSpPr/>
                    <p:nvPr/>
                  </p:nvSpPr>
                  <p:spPr>
                    <a:xfrm rot="2059200">
                      <a:off x="4040640" y="2312280"/>
                      <a:ext cx="862920" cy="52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0" h="660">
                          <a:moveTo>
                            <a:pt x="1090" y="323"/>
                          </a:moveTo>
                          <a:lnTo>
                            <a:pt x="838" y="196"/>
                          </a:lnTo>
                          <a:lnTo>
                            <a:pt x="688" y="345"/>
                          </a:lnTo>
                          <a:lnTo>
                            <a:pt x="739" y="529"/>
                          </a:lnTo>
                          <a:lnTo>
                            <a:pt x="681" y="545"/>
                          </a:lnTo>
                          <a:lnTo>
                            <a:pt x="631" y="361"/>
                          </a:lnTo>
                          <a:lnTo>
                            <a:pt x="441" y="408"/>
                          </a:lnTo>
                          <a:lnTo>
                            <a:pt x="225" y="330"/>
                          </a:lnTo>
                          <a:lnTo>
                            <a:pt x="253" y="444"/>
                          </a:lnTo>
                          <a:lnTo>
                            <a:pt x="212" y="556"/>
                          </a:lnTo>
                          <a:lnTo>
                            <a:pt x="295" y="649"/>
                          </a:lnTo>
                          <a:lnTo>
                            <a:pt x="263" y="660"/>
                          </a:lnTo>
                          <a:lnTo>
                            <a:pt x="0" y="483"/>
                          </a:lnTo>
                          <a:lnTo>
                            <a:pt x="26" y="437"/>
                          </a:lnTo>
                          <a:lnTo>
                            <a:pt x="170" y="515"/>
                          </a:lnTo>
                          <a:lnTo>
                            <a:pt x="214" y="441"/>
                          </a:lnTo>
                          <a:lnTo>
                            <a:pt x="171" y="314"/>
                          </a:lnTo>
                          <a:lnTo>
                            <a:pt x="119" y="281"/>
                          </a:lnTo>
                          <a:lnTo>
                            <a:pt x="168" y="226"/>
                          </a:lnTo>
                          <a:lnTo>
                            <a:pt x="298" y="310"/>
                          </a:lnTo>
                          <a:lnTo>
                            <a:pt x="444" y="356"/>
                          </a:lnTo>
                          <a:lnTo>
                            <a:pt x="649" y="297"/>
                          </a:lnTo>
                          <a:lnTo>
                            <a:pt x="808" y="158"/>
                          </a:lnTo>
                          <a:lnTo>
                            <a:pt x="911" y="0"/>
                          </a:lnTo>
                          <a:lnTo>
                            <a:pt x="948" y="19"/>
                          </a:lnTo>
                          <a:lnTo>
                            <a:pt x="925" y="63"/>
                          </a:lnTo>
                          <a:lnTo>
                            <a:pt x="1031" y="117"/>
                          </a:lnTo>
                          <a:lnTo>
                            <a:pt x="1090" y="32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Freeform 1327"/>
                    <p:cNvSpPr/>
                    <p:nvPr/>
                  </p:nvSpPr>
                  <p:spPr>
                    <a:xfrm rot="2059200">
                      <a:off x="4736520" y="2596680"/>
                      <a:ext cx="163080" cy="14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181">
                          <a:moveTo>
                            <a:pt x="173" y="72"/>
                          </a:moveTo>
                          <a:lnTo>
                            <a:pt x="37" y="0"/>
                          </a:lnTo>
                          <a:lnTo>
                            <a:pt x="0" y="72"/>
                          </a:lnTo>
                          <a:lnTo>
                            <a:pt x="205" y="181"/>
                          </a:lnTo>
                          <a:lnTo>
                            <a:pt x="173" y="7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Freeform 1328"/>
                    <p:cNvSpPr/>
                    <p:nvPr/>
                  </p:nvSpPr>
                  <p:spPr>
                    <a:xfrm rot="2059200">
                      <a:off x="4536720" y="2585880"/>
                      <a:ext cx="191520" cy="26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328">
                          <a:moveTo>
                            <a:pt x="146" y="0"/>
                          </a:moveTo>
                          <a:lnTo>
                            <a:pt x="0" y="155"/>
                          </a:lnTo>
                          <a:lnTo>
                            <a:pt x="45" y="328"/>
                          </a:lnTo>
                          <a:lnTo>
                            <a:pt x="148" y="303"/>
                          </a:lnTo>
                          <a:lnTo>
                            <a:pt x="243" y="55"/>
                          </a:lnTo>
                          <a:lnTo>
                            <a:pt x="146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Freeform 1329"/>
                    <p:cNvSpPr/>
                    <p:nvPr/>
                  </p:nvSpPr>
                  <p:spPr>
                    <a:xfrm rot="2059200">
                      <a:off x="4672440" y="2734920"/>
                      <a:ext cx="16812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" h="205">
                          <a:moveTo>
                            <a:pt x="184" y="47"/>
                          </a:moveTo>
                          <a:lnTo>
                            <a:pt x="84" y="0"/>
                          </a:lnTo>
                          <a:lnTo>
                            <a:pt x="0" y="205"/>
                          </a:lnTo>
                          <a:lnTo>
                            <a:pt x="211" y="146"/>
                          </a:lnTo>
                          <a:lnTo>
                            <a:pt x="184" y="47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Freeform 1330"/>
                    <p:cNvSpPr/>
                    <p:nvPr/>
                  </p:nvSpPr>
                  <p:spPr>
                    <a:xfrm rot="2059200">
                      <a:off x="4148640" y="2509200"/>
                      <a:ext cx="36792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5" h="315">
                          <a:moveTo>
                            <a:pt x="445" y="153"/>
                          </a:moveTo>
                          <a:lnTo>
                            <a:pt x="465" y="212"/>
                          </a:lnTo>
                          <a:lnTo>
                            <a:pt x="86" y="315"/>
                          </a:lnTo>
                          <a:lnTo>
                            <a:pt x="0" y="223"/>
                          </a:lnTo>
                          <a:lnTo>
                            <a:pt x="43" y="118"/>
                          </a:lnTo>
                          <a:lnTo>
                            <a:pt x="16" y="0"/>
                          </a:lnTo>
                          <a:lnTo>
                            <a:pt x="140" y="48"/>
                          </a:lnTo>
                          <a:lnTo>
                            <a:pt x="228" y="82"/>
                          </a:lnTo>
                          <a:lnTo>
                            <a:pt x="291" y="66"/>
                          </a:lnTo>
                          <a:lnTo>
                            <a:pt x="319" y="189"/>
                          </a:lnTo>
                          <a:lnTo>
                            <a:pt x="445" y="153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Freeform 1331"/>
                    <p:cNvSpPr/>
                    <p:nvPr/>
                  </p:nvSpPr>
                  <p:spPr>
                    <a:xfrm rot="2059200">
                      <a:off x="4089600" y="2337480"/>
                      <a:ext cx="147240" cy="18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6" h="235">
                          <a:moveTo>
                            <a:pt x="90" y="0"/>
                          </a:moveTo>
                          <a:lnTo>
                            <a:pt x="0" y="150"/>
                          </a:lnTo>
                          <a:lnTo>
                            <a:pt x="142" y="235"/>
                          </a:lnTo>
                          <a:lnTo>
                            <a:pt x="186" y="157"/>
                          </a:lnTo>
                          <a:lnTo>
                            <a:pt x="146" y="35"/>
                          </a:lnTo>
                          <a:lnTo>
                            <a:pt x="9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Freeform 1332"/>
                    <p:cNvSpPr/>
                    <p:nvPr/>
                  </p:nvSpPr>
                  <p:spPr>
                    <a:xfrm rot="2059200">
                      <a:off x="3859560" y="2413080"/>
                      <a:ext cx="21888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275">
                          <a:moveTo>
                            <a:pt x="146" y="0"/>
                          </a:moveTo>
                          <a:lnTo>
                            <a:pt x="276" y="88"/>
                          </a:lnTo>
                          <a:lnTo>
                            <a:pt x="205" y="221"/>
                          </a:lnTo>
                          <a:lnTo>
                            <a:pt x="16" y="275"/>
                          </a:lnTo>
                          <a:lnTo>
                            <a:pt x="0" y="219"/>
                          </a:lnTo>
                          <a:lnTo>
                            <a:pt x="14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Freeform 1333"/>
                    <p:cNvSpPr/>
                    <p:nvPr/>
                  </p:nvSpPr>
                  <p:spPr>
                    <a:xfrm rot="2059200">
                      <a:off x="3912480" y="2317680"/>
                      <a:ext cx="158400" cy="16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213">
                          <a:moveTo>
                            <a:pt x="201" y="54"/>
                          </a:moveTo>
                          <a:lnTo>
                            <a:pt x="119" y="0"/>
                          </a:lnTo>
                          <a:lnTo>
                            <a:pt x="59" y="19"/>
                          </a:lnTo>
                          <a:lnTo>
                            <a:pt x="109" y="75"/>
                          </a:lnTo>
                          <a:lnTo>
                            <a:pt x="0" y="70"/>
                          </a:lnTo>
                          <a:lnTo>
                            <a:pt x="32" y="188"/>
                          </a:lnTo>
                          <a:lnTo>
                            <a:pt x="96" y="213"/>
                          </a:lnTo>
                          <a:lnTo>
                            <a:pt x="179" y="92"/>
                          </a:lnTo>
                          <a:lnTo>
                            <a:pt x="201" y="5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Freeform 1334"/>
                    <p:cNvSpPr/>
                    <p:nvPr/>
                  </p:nvSpPr>
                  <p:spPr>
                    <a:xfrm rot="2059200">
                      <a:off x="4014720" y="2226600"/>
                      <a:ext cx="179280" cy="12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156">
                          <a:moveTo>
                            <a:pt x="70" y="156"/>
                          </a:moveTo>
                          <a:lnTo>
                            <a:pt x="68" y="116"/>
                          </a:lnTo>
                          <a:lnTo>
                            <a:pt x="0" y="91"/>
                          </a:lnTo>
                          <a:lnTo>
                            <a:pt x="62" y="73"/>
                          </a:lnTo>
                          <a:lnTo>
                            <a:pt x="73" y="20"/>
                          </a:lnTo>
                          <a:lnTo>
                            <a:pt x="107" y="56"/>
                          </a:lnTo>
                          <a:lnTo>
                            <a:pt x="138" y="0"/>
                          </a:lnTo>
                          <a:lnTo>
                            <a:pt x="177" y="29"/>
                          </a:lnTo>
                          <a:lnTo>
                            <a:pt x="156" y="62"/>
                          </a:lnTo>
                          <a:lnTo>
                            <a:pt x="227" y="66"/>
                          </a:lnTo>
                          <a:lnTo>
                            <a:pt x="188" y="88"/>
                          </a:lnTo>
                          <a:lnTo>
                            <a:pt x="206" y="121"/>
                          </a:lnTo>
                          <a:lnTo>
                            <a:pt x="131" y="106"/>
                          </a:lnTo>
                          <a:lnTo>
                            <a:pt x="107" y="145"/>
                          </a:lnTo>
                          <a:lnTo>
                            <a:pt x="70" y="156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Freeform 1335"/>
                    <p:cNvSpPr/>
                    <p:nvPr/>
                  </p:nvSpPr>
                  <p:spPr>
                    <a:xfrm rot="2059200">
                      <a:off x="3969360" y="2208600"/>
                      <a:ext cx="64800" cy="10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35">
                          <a:moveTo>
                            <a:pt x="83" y="114"/>
                          </a:moveTo>
                          <a:lnTo>
                            <a:pt x="71" y="57"/>
                          </a:lnTo>
                          <a:lnTo>
                            <a:pt x="44" y="66"/>
                          </a:lnTo>
                          <a:lnTo>
                            <a:pt x="29" y="0"/>
                          </a:lnTo>
                          <a:lnTo>
                            <a:pt x="16" y="66"/>
                          </a:lnTo>
                          <a:lnTo>
                            <a:pt x="0" y="70"/>
                          </a:lnTo>
                          <a:lnTo>
                            <a:pt x="11" y="135"/>
                          </a:lnTo>
                          <a:lnTo>
                            <a:pt x="33" y="112"/>
                          </a:lnTo>
                          <a:lnTo>
                            <a:pt x="38" y="135"/>
                          </a:lnTo>
                          <a:lnTo>
                            <a:pt x="83" y="11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Freeform 1336"/>
                    <p:cNvSpPr/>
                    <p:nvPr/>
                  </p:nvSpPr>
                  <p:spPr>
                    <a:xfrm rot="2059200">
                      <a:off x="4379400" y="2600640"/>
                      <a:ext cx="13284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162">
                          <a:moveTo>
                            <a:pt x="129" y="0"/>
                          </a:moveTo>
                          <a:lnTo>
                            <a:pt x="0" y="33"/>
                          </a:lnTo>
                          <a:lnTo>
                            <a:pt x="30" y="162"/>
                          </a:lnTo>
                          <a:lnTo>
                            <a:pt x="167" y="121"/>
                          </a:lnTo>
                          <a:lnTo>
                            <a:pt x="12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Freeform 1337"/>
                    <p:cNvSpPr/>
                    <p:nvPr/>
                  </p:nvSpPr>
                  <p:spPr>
                    <a:xfrm rot="2059200">
                      <a:off x="4385880" y="2273040"/>
                      <a:ext cx="328320" cy="15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198">
                          <a:moveTo>
                            <a:pt x="384" y="0"/>
                          </a:moveTo>
                          <a:lnTo>
                            <a:pt x="339" y="80"/>
                          </a:lnTo>
                          <a:lnTo>
                            <a:pt x="289" y="118"/>
                          </a:lnTo>
                          <a:lnTo>
                            <a:pt x="144" y="158"/>
                          </a:lnTo>
                          <a:lnTo>
                            <a:pt x="88" y="136"/>
                          </a:lnTo>
                          <a:lnTo>
                            <a:pt x="13" y="77"/>
                          </a:lnTo>
                          <a:lnTo>
                            <a:pt x="0" y="138"/>
                          </a:lnTo>
                          <a:lnTo>
                            <a:pt x="128" y="198"/>
                          </a:lnTo>
                          <a:lnTo>
                            <a:pt x="310" y="149"/>
                          </a:lnTo>
                          <a:lnTo>
                            <a:pt x="378" y="102"/>
                          </a:lnTo>
                          <a:lnTo>
                            <a:pt x="413" y="20"/>
                          </a:lnTo>
                          <a:lnTo>
                            <a:pt x="38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Freeform 1338"/>
                    <p:cNvSpPr/>
                    <p:nvPr/>
                  </p:nvSpPr>
                  <p:spPr>
                    <a:xfrm rot="2059200">
                      <a:off x="4375080" y="1978560"/>
                      <a:ext cx="125280" cy="38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489">
                          <a:moveTo>
                            <a:pt x="157" y="253"/>
                          </a:moveTo>
                          <a:lnTo>
                            <a:pt x="89" y="0"/>
                          </a:lnTo>
                          <a:lnTo>
                            <a:pt x="11" y="174"/>
                          </a:lnTo>
                          <a:lnTo>
                            <a:pt x="0" y="300"/>
                          </a:lnTo>
                          <a:lnTo>
                            <a:pt x="49" y="489"/>
                          </a:lnTo>
                          <a:lnTo>
                            <a:pt x="113" y="383"/>
                          </a:lnTo>
                          <a:lnTo>
                            <a:pt x="123" y="323"/>
                          </a:lnTo>
                          <a:lnTo>
                            <a:pt x="157" y="253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Freeform 1339"/>
                    <p:cNvSpPr/>
                    <p:nvPr/>
                  </p:nvSpPr>
                  <p:spPr>
                    <a:xfrm rot="2059200">
                      <a:off x="4633920" y="2673000"/>
                      <a:ext cx="113760" cy="19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46">
                          <a:moveTo>
                            <a:pt x="67" y="227"/>
                          </a:moveTo>
                          <a:lnTo>
                            <a:pt x="0" y="246"/>
                          </a:lnTo>
                          <a:lnTo>
                            <a:pt x="97" y="0"/>
                          </a:lnTo>
                          <a:lnTo>
                            <a:pt x="144" y="22"/>
                          </a:lnTo>
                          <a:lnTo>
                            <a:pt x="67" y="22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Freeform 1340"/>
                    <p:cNvSpPr/>
                    <p:nvPr/>
                  </p:nvSpPr>
                  <p:spPr>
                    <a:xfrm rot="2059200">
                      <a:off x="4831920" y="2565000"/>
                      <a:ext cx="8208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88">
                          <a:moveTo>
                            <a:pt x="105" y="88"/>
                          </a:moveTo>
                          <a:lnTo>
                            <a:pt x="0" y="35"/>
                          </a:lnTo>
                          <a:lnTo>
                            <a:pt x="17" y="0"/>
                          </a:lnTo>
                          <a:lnTo>
                            <a:pt x="89" y="33"/>
                          </a:lnTo>
                          <a:lnTo>
                            <a:pt x="105" y="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Freeform 1341"/>
                    <p:cNvSpPr/>
                    <p:nvPr/>
                  </p:nvSpPr>
                  <p:spPr>
                    <a:xfrm rot="2059200">
                      <a:off x="4711320" y="2419920"/>
                      <a:ext cx="7128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100">
                          <a:moveTo>
                            <a:pt x="57" y="0"/>
                          </a:moveTo>
                          <a:lnTo>
                            <a:pt x="90" y="38"/>
                          </a:lnTo>
                          <a:lnTo>
                            <a:pt x="79" y="88"/>
                          </a:lnTo>
                          <a:lnTo>
                            <a:pt x="37" y="100"/>
                          </a:lnTo>
                          <a:lnTo>
                            <a:pt x="0" y="64"/>
                          </a:lnTo>
                          <a:lnTo>
                            <a:pt x="10" y="11"/>
                          </a:lnTo>
                          <a:lnTo>
                            <a:pt x="5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Freeform 1342"/>
                    <p:cNvSpPr/>
                    <p:nvPr/>
                  </p:nvSpPr>
                  <p:spPr>
                    <a:xfrm rot="2059200">
                      <a:off x="4595040" y="2446920"/>
                      <a:ext cx="8244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2">
                          <a:moveTo>
                            <a:pt x="67" y="0"/>
                          </a:moveTo>
                          <a:lnTo>
                            <a:pt x="103" y="36"/>
                          </a:lnTo>
                          <a:lnTo>
                            <a:pt x="84" y="91"/>
                          </a:lnTo>
                          <a:lnTo>
                            <a:pt x="34" y="102"/>
                          </a:lnTo>
                          <a:lnTo>
                            <a:pt x="0" y="64"/>
                          </a:lnTo>
                          <a:lnTo>
                            <a:pt x="14" y="12"/>
                          </a:lnTo>
                          <a:lnTo>
                            <a:pt x="6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Freeform 1343"/>
                    <p:cNvSpPr/>
                    <p:nvPr/>
                  </p:nvSpPr>
                  <p:spPr>
                    <a:xfrm rot="2059200">
                      <a:off x="4477680" y="2425680"/>
                      <a:ext cx="8352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5">
                          <a:moveTo>
                            <a:pt x="64" y="0"/>
                          </a:moveTo>
                          <a:lnTo>
                            <a:pt x="105" y="46"/>
                          </a:lnTo>
                          <a:lnTo>
                            <a:pt x="93" y="99"/>
                          </a:lnTo>
                          <a:lnTo>
                            <a:pt x="38" y="115"/>
                          </a:lnTo>
                          <a:lnTo>
                            <a:pt x="0" y="72"/>
                          </a:lnTo>
                          <a:lnTo>
                            <a:pt x="11" y="14"/>
                          </a:lnTo>
                          <a:lnTo>
                            <a:pt x="6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Freeform 1344"/>
                    <p:cNvSpPr/>
                    <p:nvPr/>
                  </p:nvSpPr>
                  <p:spPr>
                    <a:xfrm rot="2059200">
                      <a:off x="4387680" y="2387520"/>
                      <a:ext cx="727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94">
                          <a:moveTo>
                            <a:pt x="57" y="0"/>
                          </a:moveTo>
                          <a:lnTo>
                            <a:pt x="93" y="38"/>
                          </a:lnTo>
                          <a:lnTo>
                            <a:pt x="81" y="85"/>
                          </a:lnTo>
                          <a:lnTo>
                            <a:pt x="36" y="94"/>
                          </a:lnTo>
                          <a:lnTo>
                            <a:pt x="0" y="61"/>
                          </a:lnTo>
                          <a:lnTo>
                            <a:pt x="14" y="8"/>
                          </a:lnTo>
                          <a:lnTo>
                            <a:pt x="5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Freeform 1345"/>
                    <p:cNvSpPr/>
                    <p:nvPr/>
                  </p:nvSpPr>
                  <p:spPr>
                    <a:xfrm rot="2059200">
                      <a:off x="4342320" y="2313000"/>
                      <a:ext cx="5688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95">
                          <a:moveTo>
                            <a:pt x="41" y="0"/>
                          </a:moveTo>
                          <a:lnTo>
                            <a:pt x="72" y="38"/>
                          </a:lnTo>
                          <a:lnTo>
                            <a:pt x="63" y="83"/>
                          </a:lnTo>
                          <a:lnTo>
                            <a:pt x="30" y="95"/>
                          </a:lnTo>
                          <a:lnTo>
                            <a:pt x="0" y="58"/>
                          </a:lnTo>
                          <a:lnTo>
                            <a:pt x="6" y="11"/>
                          </a:lnTo>
                          <a:lnTo>
                            <a:pt x="4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Freeform 1346"/>
                    <p:cNvSpPr/>
                    <p:nvPr/>
                  </p:nvSpPr>
                  <p:spPr>
                    <a:xfrm rot="2059200">
                      <a:off x="4603320" y="2157480"/>
                      <a:ext cx="6948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25">
                          <a:moveTo>
                            <a:pt x="88" y="0"/>
                          </a:moveTo>
                          <a:lnTo>
                            <a:pt x="0" y="19"/>
                          </a:lnTo>
                          <a:lnTo>
                            <a:pt x="33" y="12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Line 1347"/>
                    <p:cNvSpPr/>
                    <p:nvPr/>
                  </p:nvSpPr>
                  <p:spPr>
                    <a:xfrm>
                      <a:off x="4540320" y="2097720"/>
                      <a:ext cx="66960" cy="248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Line 1348"/>
                    <p:cNvSpPr/>
                    <p:nvPr/>
                  </p:nvSpPr>
                  <p:spPr>
                    <a:xfrm>
                      <a:off x="4654800" y="2140920"/>
                      <a:ext cx="63360" cy="219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Line 1349"/>
                    <p:cNvSpPr/>
                    <p:nvPr/>
                  </p:nvSpPr>
                  <p:spPr>
                    <a:xfrm>
                      <a:off x="4533120" y="2125080"/>
                      <a:ext cx="46800" cy="183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Freeform 1350"/>
                    <p:cNvSpPr/>
                    <p:nvPr/>
                  </p:nvSpPr>
                  <p:spPr>
                    <a:xfrm rot="2059200">
                      <a:off x="4575600" y="2238840"/>
                      <a:ext cx="4572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15">
                          <a:moveTo>
                            <a:pt x="0" y="15"/>
                          </a:moveTo>
                          <a:lnTo>
                            <a:pt x="59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Line 1351"/>
                    <p:cNvSpPr/>
                    <p:nvPr/>
                  </p:nvSpPr>
                  <p:spPr>
                    <a:xfrm flipH="1">
                      <a:off x="4577040" y="2286720"/>
                      <a:ext cx="6480" cy="266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Freeform 1352"/>
                    <p:cNvSpPr/>
                    <p:nvPr/>
                  </p:nvSpPr>
                  <p:spPr>
                    <a:xfrm rot="2059200">
                      <a:off x="3997800" y="2552400"/>
                      <a:ext cx="15372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34">
                          <a:moveTo>
                            <a:pt x="195" y="83"/>
                          </a:moveTo>
                          <a:lnTo>
                            <a:pt x="77" y="0"/>
                          </a:lnTo>
                          <a:lnTo>
                            <a:pt x="0" y="134"/>
                          </a:lnTo>
                          <a:lnTo>
                            <a:pt x="195" y="83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Freeform 1353"/>
                    <p:cNvSpPr/>
                    <p:nvPr/>
                  </p:nvSpPr>
                  <p:spPr>
                    <a:xfrm rot="2059200">
                      <a:off x="4777920" y="2074680"/>
                      <a:ext cx="221760" cy="26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0" h="331">
                          <a:moveTo>
                            <a:pt x="0" y="15"/>
                          </a:moveTo>
                          <a:lnTo>
                            <a:pt x="29" y="145"/>
                          </a:lnTo>
                          <a:lnTo>
                            <a:pt x="129" y="248"/>
                          </a:lnTo>
                          <a:lnTo>
                            <a:pt x="260" y="331"/>
                          </a:lnTo>
                          <a:lnTo>
                            <a:pt x="280" y="303"/>
                          </a:lnTo>
                          <a:lnTo>
                            <a:pt x="161" y="226"/>
                          </a:lnTo>
                          <a:lnTo>
                            <a:pt x="79" y="133"/>
                          </a:lnTo>
                          <a:lnTo>
                            <a:pt x="50" y="0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Line 1354"/>
                    <p:cNvSpPr/>
                    <p:nvPr/>
                  </p:nvSpPr>
                  <p:spPr>
                    <a:xfrm>
                      <a:off x="4557600" y="2273040"/>
                      <a:ext cx="60840" cy="223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7" name="Group 1355"/>
                  <p:cNvGrpSpPr/>
                  <p:nvPr/>
                </p:nvGrpSpPr>
                <p:grpSpPr>
                  <a:xfrm>
                    <a:off x="3493440" y="2416680"/>
                    <a:ext cx="1328760" cy="1141920"/>
                    <a:chOff x="3493440" y="2416680"/>
                    <a:chExt cx="1328760" cy="1141920"/>
                  </a:xfrm>
                </p:grpSpPr>
                <p:sp>
                  <p:nvSpPr>
                    <p:cNvPr id="618" name="Freeform 1356"/>
                    <p:cNvSpPr/>
                    <p:nvPr/>
                  </p:nvSpPr>
                  <p:spPr>
                    <a:xfrm rot="2059200">
                      <a:off x="3622320" y="3085920"/>
                      <a:ext cx="290160" cy="33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6" h="421">
                          <a:moveTo>
                            <a:pt x="95" y="421"/>
                          </a:moveTo>
                          <a:lnTo>
                            <a:pt x="366" y="351"/>
                          </a:lnTo>
                          <a:lnTo>
                            <a:pt x="332" y="209"/>
                          </a:lnTo>
                          <a:lnTo>
                            <a:pt x="196" y="83"/>
                          </a:lnTo>
                          <a:lnTo>
                            <a:pt x="62" y="0"/>
                          </a:lnTo>
                          <a:lnTo>
                            <a:pt x="0" y="96"/>
                          </a:lnTo>
                          <a:lnTo>
                            <a:pt x="83" y="162"/>
                          </a:lnTo>
                          <a:lnTo>
                            <a:pt x="120" y="298"/>
                          </a:lnTo>
                          <a:lnTo>
                            <a:pt x="95" y="421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Freeform 1357"/>
                    <p:cNvSpPr/>
                    <p:nvPr/>
                  </p:nvSpPr>
                  <p:spPr>
                    <a:xfrm rot="2059200">
                      <a:off x="3575520" y="2936160"/>
                      <a:ext cx="466560" cy="43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9" h="550">
                          <a:moveTo>
                            <a:pt x="505" y="550"/>
                          </a:moveTo>
                          <a:lnTo>
                            <a:pt x="589" y="528"/>
                          </a:lnTo>
                          <a:lnTo>
                            <a:pt x="552" y="395"/>
                          </a:lnTo>
                          <a:lnTo>
                            <a:pt x="369" y="219"/>
                          </a:lnTo>
                          <a:lnTo>
                            <a:pt x="0" y="0"/>
                          </a:lnTo>
                          <a:lnTo>
                            <a:pt x="28" y="93"/>
                          </a:lnTo>
                          <a:lnTo>
                            <a:pt x="333" y="278"/>
                          </a:lnTo>
                          <a:lnTo>
                            <a:pt x="469" y="400"/>
                          </a:lnTo>
                          <a:lnTo>
                            <a:pt x="505" y="55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Freeform 1358"/>
                    <p:cNvSpPr/>
                    <p:nvPr/>
                  </p:nvSpPr>
                  <p:spPr>
                    <a:xfrm rot="2059200">
                      <a:off x="4182120" y="3053880"/>
                      <a:ext cx="10764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654">
                          <a:moveTo>
                            <a:pt x="22" y="654"/>
                          </a:moveTo>
                          <a:lnTo>
                            <a:pt x="0" y="563"/>
                          </a:lnTo>
                          <a:lnTo>
                            <a:pt x="84" y="365"/>
                          </a:lnTo>
                          <a:lnTo>
                            <a:pt x="88" y="242"/>
                          </a:lnTo>
                          <a:lnTo>
                            <a:pt x="44" y="57"/>
                          </a:lnTo>
                          <a:lnTo>
                            <a:pt x="78" y="0"/>
                          </a:lnTo>
                          <a:lnTo>
                            <a:pt x="135" y="231"/>
                          </a:lnTo>
                          <a:lnTo>
                            <a:pt x="130" y="371"/>
                          </a:lnTo>
                          <a:lnTo>
                            <a:pt x="66" y="558"/>
                          </a:lnTo>
                          <a:lnTo>
                            <a:pt x="84" y="634"/>
                          </a:lnTo>
                          <a:lnTo>
                            <a:pt x="22" y="654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Freeform 1359"/>
                    <p:cNvSpPr/>
                    <p:nvPr/>
                  </p:nvSpPr>
                  <p:spPr>
                    <a:xfrm rot="2059200">
                      <a:off x="3878280" y="3102480"/>
                      <a:ext cx="288720" cy="38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5" h="490">
                          <a:moveTo>
                            <a:pt x="365" y="430"/>
                          </a:moveTo>
                          <a:lnTo>
                            <a:pt x="273" y="81"/>
                          </a:lnTo>
                          <a:lnTo>
                            <a:pt x="207" y="24"/>
                          </a:lnTo>
                          <a:lnTo>
                            <a:pt x="176" y="0"/>
                          </a:lnTo>
                          <a:lnTo>
                            <a:pt x="66" y="31"/>
                          </a:lnTo>
                          <a:lnTo>
                            <a:pt x="0" y="145"/>
                          </a:lnTo>
                          <a:lnTo>
                            <a:pt x="31" y="277"/>
                          </a:lnTo>
                          <a:lnTo>
                            <a:pt x="126" y="366"/>
                          </a:lnTo>
                          <a:lnTo>
                            <a:pt x="157" y="490"/>
                          </a:lnTo>
                          <a:lnTo>
                            <a:pt x="365" y="43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Freeform 1360"/>
                    <p:cNvSpPr/>
                    <p:nvPr/>
                  </p:nvSpPr>
                  <p:spPr>
                    <a:xfrm rot="2059200">
                      <a:off x="3993840" y="3366720"/>
                      <a:ext cx="9792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182">
                          <a:moveTo>
                            <a:pt x="126" y="154"/>
                          </a:moveTo>
                          <a:lnTo>
                            <a:pt x="86" y="0"/>
                          </a:lnTo>
                          <a:lnTo>
                            <a:pt x="0" y="99"/>
                          </a:lnTo>
                          <a:lnTo>
                            <a:pt x="22" y="182"/>
                          </a:lnTo>
                          <a:lnTo>
                            <a:pt x="126" y="154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Freeform 1361"/>
                    <p:cNvSpPr/>
                    <p:nvPr/>
                  </p:nvSpPr>
                  <p:spPr>
                    <a:xfrm rot="2059200">
                      <a:off x="3861000" y="3323160"/>
                      <a:ext cx="14580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77">
                          <a:moveTo>
                            <a:pt x="0" y="0"/>
                          </a:moveTo>
                          <a:lnTo>
                            <a:pt x="163" y="65"/>
                          </a:lnTo>
                          <a:lnTo>
                            <a:pt x="185" y="150"/>
                          </a:lnTo>
                          <a:lnTo>
                            <a:pt x="90" y="177"/>
                          </a:lnTo>
                          <a:lnTo>
                            <a:pt x="57" y="5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Freeform 1362"/>
                    <p:cNvSpPr/>
                    <p:nvPr/>
                  </p:nvSpPr>
                  <p:spPr>
                    <a:xfrm rot="2059200">
                      <a:off x="3921480" y="3041640"/>
                      <a:ext cx="30924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223">
                          <a:moveTo>
                            <a:pt x="71" y="223"/>
                          </a:moveTo>
                          <a:lnTo>
                            <a:pt x="141" y="107"/>
                          </a:lnTo>
                          <a:lnTo>
                            <a:pt x="249" y="78"/>
                          </a:lnTo>
                          <a:lnTo>
                            <a:pt x="356" y="157"/>
                          </a:lnTo>
                          <a:lnTo>
                            <a:pt x="388" y="93"/>
                          </a:lnTo>
                          <a:lnTo>
                            <a:pt x="310" y="24"/>
                          </a:lnTo>
                          <a:lnTo>
                            <a:pt x="254" y="0"/>
                          </a:lnTo>
                          <a:lnTo>
                            <a:pt x="118" y="38"/>
                          </a:lnTo>
                          <a:lnTo>
                            <a:pt x="50" y="76"/>
                          </a:lnTo>
                          <a:lnTo>
                            <a:pt x="0" y="165"/>
                          </a:lnTo>
                          <a:lnTo>
                            <a:pt x="71" y="223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Freeform 1363"/>
                    <p:cNvSpPr/>
                    <p:nvPr/>
                  </p:nvSpPr>
                  <p:spPr>
                    <a:xfrm rot="2059200">
                      <a:off x="3918960" y="3039840"/>
                      <a:ext cx="312480" cy="18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4" h="232">
                          <a:moveTo>
                            <a:pt x="79" y="221"/>
                          </a:moveTo>
                          <a:lnTo>
                            <a:pt x="69" y="224"/>
                          </a:lnTo>
                          <a:lnTo>
                            <a:pt x="140" y="108"/>
                          </a:lnTo>
                          <a:lnTo>
                            <a:pt x="142" y="108"/>
                          </a:lnTo>
                          <a:lnTo>
                            <a:pt x="250" y="79"/>
                          </a:lnTo>
                          <a:lnTo>
                            <a:pt x="252" y="79"/>
                          </a:lnTo>
                          <a:lnTo>
                            <a:pt x="252" y="77"/>
                          </a:lnTo>
                          <a:lnTo>
                            <a:pt x="254" y="81"/>
                          </a:lnTo>
                          <a:lnTo>
                            <a:pt x="361" y="160"/>
                          </a:lnTo>
                          <a:lnTo>
                            <a:pt x="356" y="160"/>
                          </a:lnTo>
                          <a:lnTo>
                            <a:pt x="384" y="97"/>
                          </a:lnTo>
                          <a:lnTo>
                            <a:pt x="386" y="99"/>
                          </a:lnTo>
                          <a:lnTo>
                            <a:pt x="311" y="31"/>
                          </a:lnTo>
                          <a:lnTo>
                            <a:pt x="311" y="33"/>
                          </a:lnTo>
                          <a:lnTo>
                            <a:pt x="254" y="9"/>
                          </a:lnTo>
                          <a:lnTo>
                            <a:pt x="257" y="9"/>
                          </a:lnTo>
                          <a:lnTo>
                            <a:pt x="121" y="43"/>
                          </a:lnTo>
                          <a:lnTo>
                            <a:pt x="55" y="83"/>
                          </a:lnTo>
                          <a:lnTo>
                            <a:pt x="61" y="81"/>
                          </a:lnTo>
                          <a:lnTo>
                            <a:pt x="9" y="173"/>
                          </a:lnTo>
                          <a:lnTo>
                            <a:pt x="6" y="165"/>
                          </a:lnTo>
                          <a:lnTo>
                            <a:pt x="79" y="221"/>
                          </a:lnTo>
                          <a:lnTo>
                            <a:pt x="71" y="230"/>
                          </a:lnTo>
                          <a:lnTo>
                            <a:pt x="0" y="173"/>
                          </a:lnTo>
                          <a:lnTo>
                            <a:pt x="0" y="163"/>
                          </a:lnTo>
                          <a:lnTo>
                            <a:pt x="50" y="75"/>
                          </a:lnTo>
                          <a:lnTo>
                            <a:pt x="119" y="33"/>
                          </a:lnTo>
                          <a:lnTo>
                            <a:pt x="254" y="0"/>
                          </a:lnTo>
                          <a:lnTo>
                            <a:pt x="257" y="0"/>
                          </a:lnTo>
                          <a:lnTo>
                            <a:pt x="313" y="25"/>
                          </a:lnTo>
                          <a:lnTo>
                            <a:pt x="318" y="25"/>
                          </a:lnTo>
                          <a:lnTo>
                            <a:pt x="394" y="93"/>
                          </a:lnTo>
                          <a:lnTo>
                            <a:pt x="394" y="97"/>
                          </a:lnTo>
                          <a:lnTo>
                            <a:pt x="363" y="163"/>
                          </a:lnTo>
                          <a:lnTo>
                            <a:pt x="358" y="168"/>
                          </a:lnTo>
                          <a:lnTo>
                            <a:pt x="358" y="165"/>
                          </a:lnTo>
                          <a:lnTo>
                            <a:pt x="250" y="86"/>
                          </a:lnTo>
                          <a:lnTo>
                            <a:pt x="252" y="86"/>
                          </a:lnTo>
                          <a:lnTo>
                            <a:pt x="144" y="115"/>
                          </a:lnTo>
                          <a:lnTo>
                            <a:pt x="149" y="115"/>
                          </a:lnTo>
                          <a:lnTo>
                            <a:pt x="79" y="230"/>
                          </a:lnTo>
                          <a:lnTo>
                            <a:pt x="76" y="230"/>
                          </a:lnTo>
                          <a:lnTo>
                            <a:pt x="79" y="230"/>
                          </a:lnTo>
                          <a:lnTo>
                            <a:pt x="76" y="230"/>
                          </a:lnTo>
                          <a:lnTo>
                            <a:pt x="74" y="232"/>
                          </a:lnTo>
                          <a:lnTo>
                            <a:pt x="71" y="230"/>
                          </a:lnTo>
                          <a:lnTo>
                            <a:pt x="79" y="2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Freeform 1364"/>
                    <p:cNvSpPr/>
                    <p:nvPr/>
                  </p:nvSpPr>
                  <p:spPr>
                    <a:xfrm rot="2059200">
                      <a:off x="3780360" y="3049200"/>
                      <a:ext cx="185400" cy="16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4" h="200">
                          <a:moveTo>
                            <a:pt x="234" y="200"/>
                          </a:moveTo>
                          <a:lnTo>
                            <a:pt x="204" y="66"/>
                          </a:lnTo>
                          <a:lnTo>
                            <a:pt x="119" y="0"/>
                          </a:lnTo>
                          <a:lnTo>
                            <a:pt x="0" y="27"/>
                          </a:lnTo>
                          <a:lnTo>
                            <a:pt x="141" y="114"/>
                          </a:lnTo>
                          <a:lnTo>
                            <a:pt x="234" y="2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Freeform 1365"/>
                    <p:cNvSpPr/>
                    <p:nvPr/>
                  </p:nvSpPr>
                  <p:spPr>
                    <a:xfrm rot="2059200">
                      <a:off x="3813120" y="2877480"/>
                      <a:ext cx="53892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0" h="368">
                          <a:moveTo>
                            <a:pt x="83" y="368"/>
                          </a:moveTo>
                          <a:lnTo>
                            <a:pt x="193" y="339"/>
                          </a:lnTo>
                          <a:lnTo>
                            <a:pt x="236" y="244"/>
                          </a:lnTo>
                          <a:lnTo>
                            <a:pt x="304" y="204"/>
                          </a:lnTo>
                          <a:lnTo>
                            <a:pt x="480" y="155"/>
                          </a:lnTo>
                          <a:lnTo>
                            <a:pt x="612" y="212"/>
                          </a:lnTo>
                          <a:lnTo>
                            <a:pt x="680" y="103"/>
                          </a:lnTo>
                          <a:lnTo>
                            <a:pt x="540" y="23"/>
                          </a:lnTo>
                          <a:lnTo>
                            <a:pt x="433" y="0"/>
                          </a:lnTo>
                          <a:lnTo>
                            <a:pt x="256" y="50"/>
                          </a:lnTo>
                          <a:lnTo>
                            <a:pt x="124" y="155"/>
                          </a:lnTo>
                          <a:lnTo>
                            <a:pt x="0" y="322"/>
                          </a:lnTo>
                          <a:lnTo>
                            <a:pt x="83" y="368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Freeform 1366"/>
                    <p:cNvSpPr/>
                    <p:nvPr/>
                  </p:nvSpPr>
                  <p:spPr>
                    <a:xfrm rot="2059200">
                      <a:off x="3736440" y="2614680"/>
                      <a:ext cx="86436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9" h="660">
                          <a:moveTo>
                            <a:pt x="0" y="338"/>
                          </a:moveTo>
                          <a:lnTo>
                            <a:pt x="252" y="465"/>
                          </a:lnTo>
                          <a:lnTo>
                            <a:pt x="402" y="316"/>
                          </a:lnTo>
                          <a:lnTo>
                            <a:pt x="351" y="131"/>
                          </a:lnTo>
                          <a:lnTo>
                            <a:pt x="409" y="115"/>
                          </a:lnTo>
                          <a:lnTo>
                            <a:pt x="459" y="300"/>
                          </a:lnTo>
                          <a:lnTo>
                            <a:pt x="649" y="252"/>
                          </a:lnTo>
                          <a:lnTo>
                            <a:pt x="865" y="330"/>
                          </a:lnTo>
                          <a:lnTo>
                            <a:pt x="837" y="217"/>
                          </a:lnTo>
                          <a:lnTo>
                            <a:pt x="878" y="104"/>
                          </a:lnTo>
                          <a:lnTo>
                            <a:pt x="795" y="11"/>
                          </a:lnTo>
                          <a:lnTo>
                            <a:pt x="827" y="0"/>
                          </a:lnTo>
                          <a:lnTo>
                            <a:pt x="1089" y="177"/>
                          </a:lnTo>
                          <a:lnTo>
                            <a:pt x="1064" y="224"/>
                          </a:lnTo>
                          <a:lnTo>
                            <a:pt x="920" y="146"/>
                          </a:lnTo>
                          <a:lnTo>
                            <a:pt x="876" y="219"/>
                          </a:lnTo>
                          <a:lnTo>
                            <a:pt x="918" y="346"/>
                          </a:lnTo>
                          <a:lnTo>
                            <a:pt x="971" y="379"/>
                          </a:lnTo>
                          <a:lnTo>
                            <a:pt x="922" y="434"/>
                          </a:lnTo>
                          <a:lnTo>
                            <a:pt x="791" y="351"/>
                          </a:lnTo>
                          <a:lnTo>
                            <a:pt x="646" y="305"/>
                          </a:lnTo>
                          <a:lnTo>
                            <a:pt x="441" y="363"/>
                          </a:lnTo>
                          <a:lnTo>
                            <a:pt x="282" y="502"/>
                          </a:lnTo>
                          <a:lnTo>
                            <a:pt x="178" y="660"/>
                          </a:lnTo>
                          <a:lnTo>
                            <a:pt x="142" y="642"/>
                          </a:lnTo>
                          <a:lnTo>
                            <a:pt x="165" y="598"/>
                          </a:lnTo>
                          <a:lnTo>
                            <a:pt x="59" y="544"/>
                          </a:lnTo>
                          <a:lnTo>
                            <a:pt x="0" y="338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Freeform 1367"/>
                    <p:cNvSpPr/>
                    <p:nvPr/>
                  </p:nvSpPr>
                  <p:spPr>
                    <a:xfrm rot="2059200">
                      <a:off x="3740760" y="2709000"/>
                      <a:ext cx="16308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180">
                          <a:moveTo>
                            <a:pt x="31" y="108"/>
                          </a:moveTo>
                          <a:lnTo>
                            <a:pt x="168" y="180"/>
                          </a:lnTo>
                          <a:lnTo>
                            <a:pt x="205" y="108"/>
                          </a:lnTo>
                          <a:lnTo>
                            <a:pt x="0" y="0"/>
                          </a:lnTo>
                          <a:lnTo>
                            <a:pt x="31" y="108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Freeform 1368"/>
                    <p:cNvSpPr/>
                    <p:nvPr/>
                  </p:nvSpPr>
                  <p:spPr>
                    <a:xfrm rot="2059200">
                      <a:off x="3912120" y="2601360"/>
                      <a:ext cx="191520" cy="26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3" h="329">
                          <a:moveTo>
                            <a:pt x="96" y="329"/>
                          </a:moveTo>
                          <a:lnTo>
                            <a:pt x="243" y="174"/>
                          </a:lnTo>
                          <a:lnTo>
                            <a:pt x="198" y="0"/>
                          </a:lnTo>
                          <a:lnTo>
                            <a:pt x="95" y="26"/>
                          </a:lnTo>
                          <a:lnTo>
                            <a:pt x="0" y="274"/>
                          </a:lnTo>
                          <a:lnTo>
                            <a:pt x="96" y="329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Freeform 1369"/>
                    <p:cNvSpPr/>
                    <p:nvPr/>
                  </p:nvSpPr>
                  <p:spPr>
                    <a:xfrm rot="2059200">
                      <a:off x="3800880" y="2551320"/>
                      <a:ext cx="167760" cy="16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" h="206">
                          <a:moveTo>
                            <a:pt x="27" y="158"/>
                          </a:moveTo>
                          <a:lnTo>
                            <a:pt x="127" y="206"/>
                          </a:lnTo>
                          <a:lnTo>
                            <a:pt x="211" y="0"/>
                          </a:lnTo>
                          <a:lnTo>
                            <a:pt x="0" y="59"/>
                          </a:lnTo>
                          <a:lnTo>
                            <a:pt x="27" y="158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Freeform 1370"/>
                    <p:cNvSpPr/>
                    <p:nvPr/>
                  </p:nvSpPr>
                  <p:spPr>
                    <a:xfrm rot="2059200">
                      <a:off x="4124520" y="2691000"/>
                      <a:ext cx="36792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4" h="316">
                          <a:moveTo>
                            <a:pt x="20" y="163"/>
                          </a:moveTo>
                          <a:lnTo>
                            <a:pt x="0" y="103"/>
                          </a:lnTo>
                          <a:lnTo>
                            <a:pt x="379" y="0"/>
                          </a:lnTo>
                          <a:lnTo>
                            <a:pt x="464" y="92"/>
                          </a:lnTo>
                          <a:lnTo>
                            <a:pt x="422" y="197"/>
                          </a:lnTo>
                          <a:lnTo>
                            <a:pt x="448" y="316"/>
                          </a:lnTo>
                          <a:lnTo>
                            <a:pt x="325" y="268"/>
                          </a:lnTo>
                          <a:lnTo>
                            <a:pt x="237" y="234"/>
                          </a:lnTo>
                          <a:lnTo>
                            <a:pt x="174" y="250"/>
                          </a:lnTo>
                          <a:lnTo>
                            <a:pt x="146" y="126"/>
                          </a:lnTo>
                          <a:lnTo>
                            <a:pt x="20" y="163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Freeform 1371"/>
                    <p:cNvSpPr/>
                    <p:nvPr/>
                  </p:nvSpPr>
                  <p:spPr>
                    <a:xfrm rot="2059200">
                      <a:off x="4404240" y="2926440"/>
                      <a:ext cx="14760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236">
                          <a:moveTo>
                            <a:pt x="96" y="236"/>
                          </a:moveTo>
                          <a:lnTo>
                            <a:pt x="185" y="86"/>
                          </a:lnTo>
                          <a:lnTo>
                            <a:pt x="44" y="0"/>
                          </a:lnTo>
                          <a:lnTo>
                            <a:pt x="0" y="78"/>
                          </a:lnTo>
                          <a:lnTo>
                            <a:pt x="40" y="200"/>
                          </a:lnTo>
                          <a:lnTo>
                            <a:pt x="96" y="2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Freeform 1372"/>
                    <p:cNvSpPr/>
                    <p:nvPr/>
                  </p:nvSpPr>
                  <p:spPr>
                    <a:xfrm rot="2059200">
                      <a:off x="4561200" y="2818800"/>
                      <a:ext cx="21852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275">
                          <a:moveTo>
                            <a:pt x="130" y="275"/>
                          </a:moveTo>
                          <a:lnTo>
                            <a:pt x="0" y="187"/>
                          </a:lnTo>
                          <a:lnTo>
                            <a:pt x="71" y="54"/>
                          </a:lnTo>
                          <a:lnTo>
                            <a:pt x="260" y="0"/>
                          </a:lnTo>
                          <a:lnTo>
                            <a:pt x="276" y="57"/>
                          </a:lnTo>
                          <a:lnTo>
                            <a:pt x="130" y="27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Freeform 1373"/>
                    <p:cNvSpPr/>
                    <p:nvPr/>
                  </p:nvSpPr>
                  <p:spPr>
                    <a:xfrm rot="2059200">
                      <a:off x="4568400" y="2963520"/>
                      <a:ext cx="158400" cy="16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212">
                          <a:moveTo>
                            <a:pt x="0" y="158"/>
                          </a:moveTo>
                          <a:lnTo>
                            <a:pt x="82" y="212"/>
                          </a:lnTo>
                          <a:lnTo>
                            <a:pt x="142" y="194"/>
                          </a:lnTo>
                          <a:lnTo>
                            <a:pt x="92" y="138"/>
                          </a:lnTo>
                          <a:lnTo>
                            <a:pt x="201" y="143"/>
                          </a:lnTo>
                          <a:lnTo>
                            <a:pt x="169" y="24"/>
                          </a:lnTo>
                          <a:lnTo>
                            <a:pt x="105" y="0"/>
                          </a:lnTo>
                          <a:lnTo>
                            <a:pt x="22" y="121"/>
                          </a:lnTo>
                          <a:lnTo>
                            <a:pt x="0" y="15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Freeform 1374"/>
                    <p:cNvSpPr/>
                    <p:nvPr/>
                  </p:nvSpPr>
                  <p:spPr>
                    <a:xfrm rot="2059200">
                      <a:off x="4446360" y="3098160"/>
                      <a:ext cx="18072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7" h="157">
                          <a:moveTo>
                            <a:pt x="156" y="0"/>
                          </a:moveTo>
                          <a:lnTo>
                            <a:pt x="159" y="41"/>
                          </a:lnTo>
                          <a:lnTo>
                            <a:pt x="227" y="65"/>
                          </a:lnTo>
                          <a:lnTo>
                            <a:pt x="165" y="83"/>
                          </a:lnTo>
                          <a:lnTo>
                            <a:pt x="154" y="136"/>
                          </a:lnTo>
                          <a:lnTo>
                            <a:pt x="120" y="101"/>
                          </a:lnTo>
                          <a:lnTo>
                            <a:pt x="89" y="157"/>
                          </a:lnTo>
                          <a:lnTo>
                            <a:pt x="50" y="127"/>
                          </a:lnTo>
                          <a:lnTo>
                            <a:pt x="71" y="94"/>
                          </a:lnTo>
                          <a:lnTo>
                            <a:pt x="0" y="91"/>
                          </a:lnTo>
                          <a:lnTo>
                            <a:pt x="39" y="69"/>
                          </a:lnTo>
                          <a:lnTo>
                            <a:pt x="21" y="36"/>
                          </a:lnTo>
                          <a:lnTo>
                            <a:pt x="95" y="51"/>
                          </a:lnTo>
                          <a:lnTo>
                            <a:pt x="120" y="11"/>
                          </a:lnTo>
                          <a:lnTo>
                            <a:pt x="156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Freeform 1375"/>
                    <p:cNvSpPr/>
                    <p:nvPr/>
                  </p:nvSpPr>
                  <p:spPr>
                    <a:xfrm rot="2059200">
                      <a:off x="4605840" y="3133800"/>
                      <a:ext cx="66240" cy="10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136">
                          <a:moveTo>
                            <a:pt x="0" y="21"/>
                          </a:moveTo>
                          <a:lnTo>
                            <a:pt x="12" y="78"/>
                          </a:lnTo>
                          <a:lnTo>
                            <a:pt x="39" y="70"/>
                          </a:lnTo>
                          <a:lnTo>
                            <a:pt x="54" y="136"/>
                          </a:lnTo>
                          <a:lnTo>
                            <a:pt x="67" y="70"/>
                          </a:lnTo>
                          <a:lnTo>
                            <a:pt x="83" y="65"/>
                          </a:lnTo>
                          <a:lnTo>
                            <a:pt x="72" y="0"/>
                          </a:lnTo>
                          <a:lnTo>
                            <a:pt x="50" y="23"/>
                          </a:lnTo>
                          <a:lnTo>
                            <a:pt x="45" y="0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Freeform 1376"/>
                    <p:cNvSpPr/>
                    <p:nvPr/>
                  </p:nvSpPr>
                  <p:spPr>
                    <a:xfrm rot="2059200">
                      <a:off x="4128840" y="2719800"/>
                      <a:ext cx="132840" cy="13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162">
                          <a:moveTo>
                            <a:pt x="38" y="162"/>
                          </a:moveTo>
                          <a:lnTo>
                            <a:pt x="167" y="129"/>
                          </a:lnTo>
                          <a:lnTo>
                            <a:pt x="137" y="0"/>
                          </a:lnTo>
                          <a:lnTo>
                            <a:pt x="0" y="41"/>
                          </a:lnTo>
                          <a:lnTo>
                            <a:pt x="38" y="16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9" name="Freeform 1377"/>
                    <p:cNvSpPr/>
                    <p:nvPr/>
                  </p:nvSpPr>
                  <p:spPr>
                    <a:xfrm rot="2059200">
                      <a:off x="3927600" y="3020760"/>
                      <a:ext cx="326880" cy="15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198">
                          <a:moveTo>
                            <a:pt x="28" y="198"/>
                          </a:moveTo>
                          <a:lnTo>
                            <a:pt x="74" y="119"/>
                          </a:lnTo>
                          <a:lnTo>
                            <a:pt x="124" y="81"/>
                          </a:lnTo>
                          <a:lnTo>
                            <a:pt x="269" y="41"/>
                          </a:lnTo>
                          <a:lnTo>
                            <a:pt x="325" y="63"/>
                          </a:lnTo>
                          <a:lnTo>
                            <a:pt x="400" y="121"/>
                          </a:lnTo>
                          <a:lnTo>
                            <a:pt x="413" y="60"/>
                          </a:lnTo>
                          <a:lnTo>
                            <a:pt x="285" y="0"/>
                          </a:lnTo>
                          <a:lnTo>
                            <a:pt x="104" y="50"/>
                          </a:lnTo>
                          <a:lnTo>
                            <a:pt x="34" y="97"/>
                          </a:lnTo>
                          <a:lnTo>
                            <a:pt x="0" y="179"/>
                          </a:lnTo>
                          <a:lnTo>
                            <a:pt x="28" y="19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0" name="Freeform 1378"/>
                    <p:cNvSpPr/>
                    <p:nvPr/>
                  </p:nvSpPr>
                  <p:spPr>
                    <a:xfrm rot="2059200">
                      <a:off x="4140720" y="3081240"/>
                      <a:ext cx="124920" cy="38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490">
                          <a:moveTo>
                            <a:pt x="0" y="237"/>
                          </a:moveTo>
                          <a:lnTo>
                            <a:pt x="68" y="490"/>
                          </a:lnTo>
                          <a:lnTo>
                            <a:pt x="146" y="315"/>
                          </a:lnTo>
                          <a:lnTo>
                            <a:pt x="157" y="189"/>
                          </a:lnTo>
                          <a:lnTo>
                            <a:pt x="108" y="0"/>
                          </a:lnTo>
                          <a:lnTo>
                            <a:pt x="44" y="106"/>
                          </a:lnTo>
                          <a:lnTo>
                            <a:pt x="34" y="166"/>
                          </a:lnTo>
                          <a:lnTo>
                            <a:pt x="0" y="237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Freeform 1379"/>
                    <p:cNvSpPr/>
                    <p:nvPr/>
                  </p:nvSpPr>
                  <p:spPr>
                    <a:xfrm rot="2059200">
                      <a:off x="3893760" y="2580840"/>
                      <a:ext cx="113760" cy="19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245">
                          <a:moveTo>
                            <a:pt x="77" y="18"/>
                          </a:moveTo>
                          <a:lnTo>
                            <a:pt x="144" y="0"/>
                          </a:lnTo>
                          <a:lnTo>
                            <a:pt x="46" y="245"/>
                          </a:lnTo>
                          <a:lnTo>
                            <a:pt x="0" y="223"/>
                          </a:lnTo>
                          <a:lnTo>
                            <a:pt x="77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Freeform 1380"/>
                    <p:cNvSpPr/>
                    <p:nvPr/>
                  </p:nvSpPr>
                  <p:spPr>
                    <a:xfrm rot="2059200">
                      <a:off x="3726360" y="2814120"/>
                      <a:ext cx="8388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88">
                          <a:moveTo>
                            <a:pt x="0" y="0"/>
                          </a:moveTo>
                          <a:lnTo>
                            <a:pt x="105" y="52"/>
                          </a:lnTo>
                          <a:lnTo>
                            <a:pt x="88" y="88"/>
                          </a:lnTo>
                          <a:lnTo>
                            <a:pt x="16" y="5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Freeform 1381"/>
                    <p:cNvSpPr/>
                    <p:nvPr/>
                  </p:nvSpPr>
                  <p:spPr>
                    <a:xfrm rot="2059200">
                      <a:off x="3857400" y="2950200"/>
                      <a:ext cx="7128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00">
                          <a:moveTo>
                            <a:pt x="33" y="100"/>
                          </a:moveTo>
                          <a:lnTo>
                            <a:pt x="0" y="63"/>
                          </a:lnTo>
                          <a:lnTo>
                            <a:pt x="11" y="12"/>
                          </a:lnTo>
                          <a:lnTo>
                            <a:pt x="54" y="0"/>
                          </a:lnTo>
                          <a:lnTo>
                            <a:pt x="91" y="37"/>
                          </a:lnTo>
                          <a:lnTo>
                            <a:pt x="81" y="89"/>
                          </a:lnTo>
                          <a:lnTo>
                            <a:pt x="33" y="10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Freeform 1382"/>
                    <p:cNvSpPr/>
                    <p:nvPr/>
                  </p:nvSpPr>
                  <p:spPr>
                    <a:xfrm rot="2059200">
                      <a:off x="3964320" y="2921760"/>
                      <a:ext cx="82080" cy="8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3">
                          <a:moveTo>
                            <a:pt x="36" y="103"/>
                          </a:moveTo>
                          <a:lnTo>
                            <a:pt x="0" y="66"/>
                          </a:lnTo>
                          <a:lnTo>
                            <a:pt x="19" y="11"/>
                          </a:lnTo>
                          <a:lnTo>
                            <a:pt x="69" y="0"/>
                          </a:lnTo>
                          <a:lnTo>
                            <a:pt x="103" y="38"/>
                          </a:lnTo>
                          <a:lnTo>
                            <a:pt x="89" y="91"/>
                          </a:lnTo>
                          <a:lnTo>
                            <a:pt x="36" y="10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Freeform 1383"/>
                    <p:cNvSpPr/>
                    <p:nvPr/>
                  </p:nvSpPr>
                  <p:spPr>
                    <a:xfrm rot="2059200">
                      <a:off x="4079880" y="2931840"/>
                      <a:ext cx="8208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15">
                          <a:moveTo>
                            <a:pt x="42" y="115"/>
                          </a:moveTo>
                          <a:lnTo>
                            <a:pt x="0" y="70"/>
                          </a:lnTo>
                          <a:lnTo>
                            <a:pt x="13" y="16"/>
                          </a:lnTo>
                          <a:lnTo>
                            <a:pt x="68" y="0"/>
                          </a:lnTo>
                          <a:lnTo>
                            <a:pt x="105" y="43"/>
                          </a:lnTo>
                          <a:lnTo>
                            <a:pt x="94" y="102"/>
                          </a:lnTo>
                          <a:lnTo>
                            <a:pt x="42" y="1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Freeform 1384"/>
                    <p:cNvSpPr/>
                    <p:nvPr/>
                  </p:nvSpPr>
                  <p:spPr>
                    <a:xfrm rot="2059200">
                      <a:off x="4180320" y="2986920"/>
                      <a:ext cx="741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95">
                          <a:moveTo>
                            <a:pt x="36" y="95"/>
                          </a:moveTo>
                          <a:lnTo>
                            <a:pt x="0" y="57"/>
                          </a:lnTo>
                          <a:lnTo>
                            <a:pt x="12" y="9"/>
                          </a:lnTo>
                          <a:lnTo>
                            <a:pt x="57" y="0"/>
                          </a:lnTo>
                          <a:lnTo>
                            <a:pt x="92" y="33"/>
                          </a:lnTo>
                          <a:lnTo>
                            <a:pt x="79" y="86"/>
                          </a:lnTo>
                          <a:lnTo>
                            <a:pt x="36" y="9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Freeform 1385"/>
                    <p:cNvSpPr/>
                    <p:nvPr/>
                  </p:nvSpPr>
                  <p:spPr>
                    <a:xfrm rot="2059200">
                      <a:off x="4241160" y="3060720"/>
                      <a:ext cx="5688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95">
                          <a:moveTo>
                            <a:pt x="30" y="95"/>
                          </a:moveTo>
                          <a:lnTo>
                            <a:pt x="0" y="57"/>
                          </a:lnTo>
                          <a:lnTo>
                            <a:pt x="8" y="12"/>
                          </a:lnTo>
                          <a:lnTo>
                            <a:pt x="41" y="0"/>
                          </a:lnTo>
                          <a:lnTo>
                            <a:pt x="72" y="36"/>
                          </a:lnTo>
                          <a:lnTo>
                            <a:pt x="66" y="84"/>
                          </a:lnTo>
                          <a:lnTo>
                            <a:pt x="30" y="9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Freeform 1386"/>
                    <p:cNvSpPr/>
                    <p:nvPr/>
                  </p:nvSpPr>
                  <p:spPr>
                    <a:xfrm rot="2059200">
                      <a:off x="3967560" y="3192480"/>
                      <a:ext cx="6948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25">
                          <a:moveTo>
                            <a:pt x="0" y="125"/>
                          </a:moveTo>
                          <a:lnTo>
                            <a:pt x="88" y="107"/>
                          </a:lnTo>
                          <a:lnTo>
                            <a:pt x="5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Line 1387"/>
                    <p:cNvSpPr/>
                    <p:nvPr/>
                  </p:nvSpPr>
                  <p:spPr>
                    <a:xfrm flipH="1" flipV="1">
                      <a:off x="4033440" y="3326040"/>
                      <a:ext cx="67320" cy="244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Line 1388"/>
                    <p:cNvSpPr/>
                    <p:nvPr/>
                  </p:nvSpPr>
                  <p:spPr>
                    <a:xfrm flipH="1" flipV="1">
                      <a:off x="3923640" y="3287880"/>
                      <a:ext cx="62280" cy="212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Line 1389"/>
                    <p:cNvSpPr/>
                    <p:nvPr/>
                  </p:nvSpPr>
                  <p:spPr>
                    <a:xfrm flipH="1" flipV="1">
                      <a:off x="4060800" y="3306240"/>
                      <a:ext cx="47880" cy="19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Freeform 1390"/>
                    <p:cNvSpPr/>
                    <p:nvPr/>
                  </p:nvSpPr>
                  <p:spPr>
                    <a:xfrm rot="2059200">
                      <a:off x="4019040" y="3200400"/>
                      <a:ext cx="453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15">
                          <a:moveTo>
                            <a:pt x="59" y="0"/>
                          </a:moveTo>
                          <a:lnTo>
                            <a:pt x="0" y="15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Line 1391"/>
                    <p:cNvSpPr/>
                    <p:nvPr/>
                  </p:nvSpPr>
                  <p:spPr>
                    <a:xfrm flipV="1">
                      <a:off x="4056480" y="3135960"/>
                      <a:ext cx="9000" cy="266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Freeform 1392"/>
                    <p:cNvSpPr/>
                    <p:nvPr/>
                  </p:nvSpPr>
                  <p:spPr>
                    <a:xfrm rot="2059200">
                      <a:off x="4488480" y="2791440"/>
                      <a:ext cx="1551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34">
                          <a:moveTo>
                            <a:pt x="0" y="51"/>
                          </a:moveTo>
                          <a:lnTo>
                            <a:pt x="118" y="134"/>
                          </a:lnTo>
                          <a:lnTo>
                            <a:pt x="195" y="0"/>
                          </a:lnTo>
                          <a:lnTo>
                            <a:pt x="0" y="51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Freeform 1393"/>
                    <p:cNvSpPr/>
                    <p:nvPr/>
                  </p:nvSpPr>
                  <p:spPr>
                    <a:xfrm rot="2059200">
                      <a:off x="3642120" y="3113640"/>
                      <a:ext cx="220320" cy="26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0" h="331">
                          <a:moveTo>
                            <a:pt x="280" y="317"/>
                          </a:moveTo>
                          <a:lnTo>
                            <a:pt x="251" y="186"/>
                          </a:lnTo>
                          <a:lnTo>
                            <a:pt x="151" y="83"/>
                          </a:lnTo>
                          <a:lnTo>
                            <a:pt x="20" y="0"/>
                          </a:lnTo>
                          <a:lnTo>
                            <a:pt x="0" y="28"/>
                          </a:lnTo>
                          <a:lnTo>
                            <a:pt x="119" y="105"/>
                          </a:lnTo>
                          <a:lnTo>
                            <a:pt x="201" y="198"/>
                          </a:lnTo>
                          <a:lnTo>
                            <a:pt x="230" y="331"/>
                          </a:lnTo>
                          <a:lnTo>
                            <a:pt x="280" y="317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Line 1394"/>
                    <p:cNvSpPr/>
                    <p:nvPr/>
                  </p:nvSpPr>
                  <p:spPr>
                    <a:xfrm flipH="1" flipV="1">
                      <a:off x="4030560" y="3156480"/>
                      <a:ext cx="60840" cy="226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57" name="Group 1395"/>
            <p:cNvGrpSpPr/>
            <p:nvPr/>
          </p:nvGrpSpPr>
          <p:grpSpPr>
            <a:xfrm>
              <a:off x="2959200" y="1329480"/>
              <a:ext cx="3162960" cy="3261600"/>
              <a:chOff x="2959200" y="1329480"/>
              <a:chExt cx="3162960" cy="3261600"/>
            </a:xfrm>
          </p:grpSpPr>
          <p:grpSp>
            <p:nvGrpSpPr>
              <p:cNvPr id="658" name="Group 1396"/>
              <p:cNvGrpSpPr/>
              <p:nvPr/>
            </p:nvGrpSpPr>
            <p:grpSpPr>
              <a:xfrm>
                <a:off x="2959200" y="1329480"/>
                <a:ext cx="3134880" cy="3227400"/>
                <a:chOff x="2959200" y="1329480"/>
                <a:chExt cx="3134880" cy="3227400"/>
              </a:xfrm>
            </p:grpSpPr>
            <p:sp>
              <p:nvSpPr>
                <p:cNvPr id="659" name="Freeform 1397"/>
                <p:cNvSpPr/>
                <p:nvPr/>
              </p:nvSpPr>
              <p:spPr>
                <a:xfrm rot="2372400">
                  <a:off x="3568680" y="1641240"/>
                  <a:ext cx="1915920" cy="2603520"/>
                </a:xfrm>
                <a:custGeom>
                  <a:avLst/>
                  <a:gdLst/>
                  <a:ahLst/>
                  <a:rect l="l" t="t" r="r" b="b"/>
                  <a:pathLst>
                    <a:path w="2416" h="3279">
                      <a:moveTo>
                        <a:pt x="41" y="316"/>
                      </a:moveTo>
                      <a:lnTo>
                        <a:pt x="88" y="266"/>
                      </a:lnTo>
                      <a:lnTo>
                        <a:pt x="150" y="245"/>
                      </a:lnTo>
                      <a:lnTo>
                        <a:pt x="1848" y="0"/>
                      </a:lnTo>
                      <a:lnTo>
                        <a:pt x="1914" y="33"/>
                      </a:lnTo>
                      <a:lnTo>
                        <a:pt x="1967" y="75"/>
                      </a:lnTo>
                      <a:lnTo>
                        <a:pt x="1997" y="169"/>
                      </a:lnTo>
                      <a:lnTo>
                        <a:pt x="2416" y="2894"/>
                      </a:lnTo>
                      <a:lnTo>
                        <a:pt x="2416" y="2960"/>
                      </a:lnTo>
                      <a:lnTo>
                        <a:pt x="2387" y="3017"/>
                      </a:lnTo>
                      <a:lnTo>
                        <a:pt x="2317" y="3048"/>
                      </a:lnTo>
                      <a:lnTo>
                        <a:pt x="2240" y="3070"/>
                      </a:lnTo>
                      <a:lnTo>
                        <a:pt x="648" y="3278"/>
                      </a:lnTo>
                      <a:lnTo>
                        <a:pt x="547" y="3279"/>
                      </a:lnTo>
                      <a:lnTo>
                        <a:pt x="457" y="3234"/>
                      </a:lnTo>
                      <a:lnTo>
                        <a:pt x="430" y="3146"/>
                      </a:lnTo>
                      <a:lnTo>
                        <a:pt x="0" y="420"/>
                      </a:lnTo>
                      <a:lnTo>
                        <a:pt x="10" y="359"/>
                      </a:lnTo>
                      <a:lnTo>
                        <a:pt x="41" y="3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0" name="Group 1398"/>
                <p:cNvGrpSpPr/>
                <p:nvPr/>
              </p:nvGrpSpPr>
              <p:grpSpPr>
                <a:xfrm>
                  <a:off x="3386520" y="1599480"/>
                  <a:ext cx="2265840" cy="2733480"/>
                  <a:chOff x="3386520" y="1599480"/>
                  <a:chExt cx="2265840" cy="2733480"/>
                </a:xfrm>
              </p:grpSpPr>
              <p:sp>
                <p:nvSpPr>
                  <p:cNvPr id="661" name="Freeform 1399"/>
                  <p:cNvSpPr/>
                  <p:nvPr/>
                </p:nvSpPr>
                <p:spPr>
                  <a:xfrm rot="2372400">
                    <a:off x="4416840" y="1625760"/>
                    <a:ext cx="16956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303">
                        <a:moveTo>
                          <a:pt x="53" y="15"/>
                        </a:moveTo>
                        <a:lnTo>
                          <a:pt x="0" y="20"/>
                        </a:lnTo>
                        <a:lnTo>
                          <a:pt x="30" y="303"/>
                        </a:lnTo>
                        <a:lnTo>
                          <a:pt x="91" y="286"/>
                        </a:lnTo>
                        <a:lnTo>
                          <a:pt x="78" y="187"/>
                        </a:lnTo>
                        <a:lnTo>
                          <a:pt x="136" y="270"/>
                        </a:lnTo>
                        <a:lnTo>
                          <a:pt x="215" y="260"/>
                        </a:lnTo>
                        <a:lnTo>
                          <a:pt x="125" y="143"/>
                        </a:lnTo>
                        <a:lnTo>
                          <a:pt x="168" y="0"/>
                        </a:lnTo>
                        <a:lnTo>
                          <a:pt x="102" y="8"/>
                        </a:lnTo>
                        <a:lnTo>
                          <a:pt x="72" y="121"/>
                        </a:lnTo>
                        <a:lnTo>
                          <a:pt x="53" y="15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Freeform 1400"/>
                  <p:cNvSpPr/>
                  <p:nvPr/>
                </p:nvSpPr>
                <p:spPr>
                  <a:xfrm rot="2372400">
                    <a:off x="4467240" y="4100760"/>
                    <a:ext cx="1584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59">
                        <a:moveTo>
                          <a:pt x="148" y="245"/>
                        </a:moveTo>
                        <a:lnTo>
                          <a:pt x="200" y="242"/>
                        </a:lnTo>
                        <a:lnTo>
                          <a:pt x="171" y="0"/>
                        </a:lnTo>
                        <a:lnTo>
                          <a:pt x="111" y="8"/>
                        </a:lnTo>
                        <a:lnTo>
                          <a:pt x="123" y="91"/>
                        </a:lnTo>
                        <a:lnTo>
                          <a:pt x="67" y="16"/>
                        </a:lnTo>
                        <a:lnTo>
                          <a:pt x="0" y="25"/>
                        </a:lnTo>
                        <a:lnTo>
                          <a:pt x="77" y="130"/>
                        </a:lnTo>
                        <a:lnTo>
                          <a:pt x="35" y="259"/>
                        </a:lnTo>
                        <a:lnTo>
                          <a:pt x="101" y="253"/>
                        </a:lnTo>
                        <a:lnTo>
                          <a:pt x="129" y="150"/>
                        </a:lnTo>
                        <a:lnTo>
                          <a:pt x="148" y="245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Freeform 1401"/>
                  <p:cNvSpPr/>
                  <p:nvPr/>
                </p:nvSpPr>
                <p:spPr>
                  <a:xfrm rot="2372400">
                    <a:off x="4266720" y="1837800"/>
                    <a:ext cx="12996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06">
                        <a:moveTo>
                          <a:pt x="50" y="0"/>
                        </a:moveTo>
                        <a:lnTo>
                          <a:pt x="0" y="186"/>
                        </a:lnTo>
                        <a:lnTo>
                          <a:pt x="125" y="306"/>
                        </a:lnTo>
                        <a:lnTo>
                          <a:pt x="165" y="131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Freeform 1402"/>
                  <p:cNvSpPr/>
                  <p:nvPr/>
                </p:nvSpPr>
                <p:spPr>
                  <a:xfrm rot="2372400">
                    <a:off x="4618440" y="3877920"/>
                    <a:ext cx="129600" cy="2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305">
                        <a:moveTo>
                          <a:pt x="50" y="0"/>
                        </a:moveTo>
                        <a:lnTo>
                          <a:pt x="0" y="185"/>
                        </a:lnTo>
                        <a:lnTo>
                          <a:pt x="124" y="305"/>
                        </a:lnTo>
                        <a:lnTo>
                          <a:pt x="164" y="130"/>
                        </a:lnTo>
                        <a:lnTo>
                          <a:pt x="5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5" name="Group 1403"/>
                  <p:cNvGrpSpPr/>
                  <p:nvPr/>
                </p:nvGrpSpPr>
                <p:grpSpPr>
                  <a:xfrm>
                    <a:off x="3386520" y="1802520"/>
                    <a:ext cx="2265840" cy="2330640"/>
                    <a:chOff x="3386520" y="1802520"/>
                    <a:chExt cx="2265840" cy="2330640"/>
                  </a:xfrm>
                </p:grpSpPr>
                <p:sp>
                  <p:nvSpPr>
                    <p:cNvPr id="666" name="Freeform 1404"/>
                    <p:cNvSpPr/>
                    <p:nvPr/>
                  </p:nvSpPr>
                  <p:spPr>
                    <a:xfrm rot="2372400">
                      <a:off x="3823560" y="2031120"/>
                      <a:ext cx="1391760" cy="18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3" h="2359">
                          <a:moveTo>
                            <a:pt x="0" y="208"/>
                          </a:moveTo>
                          <a:lnTo>
                            <a:pt x="1414" y="0"/>
                          </a:lnTo>
                          <a:lnTo>
                            <a:pt x="1753" y="2182"/>
                          </a:lnTo>
                          <a:lnTo>
                            <a:pt x="357" y="2359"/>
                          </a:lnTo>
                          <a:lnTo>
                            <a:pt x="0" y="208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7" name="Group 1405"/>
                    <p:cNvGrpSpPr/>
                    <p:nvPr/>
                  </p:nvGrpSpPr>
                  <p:grpSpPr>
                    <a:xfrm>
                      <a:off x="4017960" y="2014920"/>
                      <a:ext cx="1465200" cy="1366560"/>
                      <a:chOff x="4017960" y="2014920"/>
                      <a:chExt cx="1465200" cy="1366560"/>
                    </a:xfrm>
                  </p:grpSpPr>
                  <p:sp>
                    <p:nvSpPr>
                      <p:cNvPr id="668" name="Freeform 1406"/>
                      <p:cNvSpPr/>
                      <p:nvPr/>
                    </p:nvSpPr>
                    <p:spPr>
                      <a:xfrm rot="2372400">
                        <a:off x="4383360" y="2041200"/>
                        <a:ext cx="229680" cy="40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9" h="514">
                            <a:moveTo>
                              <a:pt x="102" y="0"/>
                            </a:moveTo>
                            <a:lnTo>
                              <a:pt x="0" y="272"/>
                            </a:lnTo>
                            <a:lnTo>
                              <a:pt x="187" y="514"/>
                            </a:lnTo>
                            <a:lnTo>
                              <a:pt x="289" y="236"/>
                            </a:lnTo>
                            <a:lnTo>
                              <a:pt x="102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69" name="Group 1407"/>
                      <p:cNvGrpSpPr/>
                      <p:nvPr/>
                    </p:nvGrpSpPr>
                    <p:grpSpPr>
                      <a:xfrm>
                        <a:off x="4017960" y="2025720"/>
                        <a:ext cx="1465200" cy="1355760"/>
                        <a:chOff x="4017960" y="2025720"/>
                        <a:chExt cx="1465200" cy="1355760"/>
                      </a:xfrm>
                    </p:grpSpPr>
                    <p:sp>
                      <p:nvSpPr>
                        <p:cNvPr id="670" name="Freeform 1408"/>
                        <p:cNvSpPr/>
                        <p:nvPr/>
                      </p:nvSpPr>
                      <p:spPr>
                        <a:xfrm rot="2372400">
                          <a:off x="4055040" y="2559600"/>
                          <a:ext cx="1128240" cy="522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2" h="659">
                              <a:moveTo>
                                <a:pt x="451" y="109"/>
                              </a:moveTo>
                              <a:lnTo>
                                <a:pt x="0" y="383"/>
                              </a:lnTo>
                              <a:lnTo>
                                <a:pt x="44" y="659"/>
                              </a:lnTo>
                              <a:lnTo>
                                <a:pt x="317" y="615"/>
                              </a:lnTo>
                              <a:lnTo>
                                <a:pt x="244" y="476"/>
                              </a:lnTo>
                              <a:lnTo>
                                <a:pt x="315" y="405"/>
                              </a:lnTo>
                              <a:lnTo>
                                <a:pt x="370" y="607"/>
                              </a:lnTo>
                              <a:lnTo>
                                <a:pt x="1422" y="436"/>
                              </a:lnTo>
                              <a:lnTo>
                                <a:pt x="1389" y="237"/>
                              </a:lnTo>
                              <a:lnTo>
                                <a:pt x="1080" y="0"/>
                              </a:lnTo>
                              <a:lnTo>
                                <a:pt x="451" y="10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158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1" name="Freeform 1409"/>
                        <p:cNvSpPr/>
                        <p:nvPr/>
                      </p:nvSpPr>
                      <p:spPr>
                        <a:xfrm rot="2372400">
                          <a:off x="5140800" y="2487600"/>
                          <a:ext cx="158400" cy="63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" h="799">
                              <a:moveTo>
                                <a:pt x="73" y="0"/>
                              </a:moveTo>
                              <a:lnTo>
                                <a:pt x="202" y="799"/>
                              </a:lnTo>
                              <a:lnTo>
                                <a:pt x="102" y="719"/>
                              </a:lnTo>
                              <a:lnTo>
                                <a:pt x="0" y="59"/>
                              </a:lnTo>
                              <a:lnTo>
                                <a:pt x="7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158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2" name="Freeform 1410"/>
                        <p:cNvSpPr/>
                        <p:nvPr/>
                      </p:nvSpPr>
                      <p:spPr>
                        <a:xfrm rot="2372400">
                          <a:off x="5221800" y="2571480"/>
                          <a:ext cx="60120" cy="109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138">
                              <a:moveTo>
                                <a:pt x="0" y="10"/>
                              </a:moveTo>
                              <a:lnTo>
                                <a:pt x="57" y="0"/>
                              </a:lnTo>
                              <a:lnTo>
                                <a:pt x="76" y="130"/>
                              </a:lnTo>
                              <a:lnTo>
                                <a:pt x="19" y="138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158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3" name="Freeform 1411"/>
                        <p:cNvSpPr/>
                        <p:nvPr/>
                      </p:nvSpPr>
                      <p:spPr>
                        <a:xfrm rot="2372400">
                          <a:off x="5119920" y="2435400"/>
                          <a:ext cx="139320" cy="28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360">
                              <a:moveTo>
                                <a:pt x="143" y="104"/>
                              </a:moveTo>
                              <a:lnTo>
                                <a:pt x="129" y="0"/>
                              </a:lnTo>
                              <a:lnTo>
                                <a:pt x="0" y="162"/>
                              </a:lnTo>
                              <a:lnTo>
                                <a:pt x="14" y="247"/>
                              </a:lnTo>
                              <a:lnTo>
                                <a:pt x="176" y="360"/>
                              </a:lnTo>
                              <a:lnTo>
                                <a:pt x="160" y="247"/>
                              </a:lnTo>
                              <a:lnTo>
                                <a:pt x="64" y="195"/>
                              </a:lnTo>
                              <a:lnTo>
                                <a:pt x="143" y="10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4" name="Freeform 1412"/>
                        <p:cNvSpPr/>
                        <p:nvPr/>
                      </p:nvSpPr>
                      <p:spPr>
                        <a:xfrm rot="2372400">
                          <a:off x="4677120" y="2190960"/>
                          <a:ext cx="590040" cy="196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43" h="248">
                              <a:moveTo>
                                <a:pt x="0" y="110"/>
                              </a:moveTo>
                              <a:lnTo>
                                <a:pt x="743" y="0"/>
                              </a:lnTo>
                              <a:lnTo>
                                <a:pt x="641" y="167"/>
                              </a:lnTo>
                              <a:lnTo>
                                <a:pt x="649" y="225"/>
                              </a:lnTo>
                              <a:lnTo>
                                <a:pt x="509" y="248"/>
                              </a:lnTo>
                              <a:lnTo>
                                <a:pt x="310" y="207"/>
                              </a:lnTo>
                              <a:lnTo>
                                <a:pt x="133" y="234"/>
                              </a:lnTo>
                              <a:lnTo>
                                <a:pt x="0" y="1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158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5" name="Freeform 1413"/>
                        <p:cNvSpPr/>
                        <p:nvPr/>
                      </p:nvSpPr>
                      <p:spPr>
                        <a:xfrm rot="2372400">
                          <a:off x="4543560" y="2345760"/>
                          <a:ext cx="626400" cy="43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9" h="553">
                              <a:moveTo>
                                <a:pt x="55" y="30"/>
                              </a:moveTo>
                              <a:lnTo>
                                <a:pt x="83" y="173"/>
                              </a:lnTo>
                              <a:lnTo>
                                <a:pt x="33" y="241"/>
                              </a:lnTo>
                              <a:lnTo>
                                <a:pt x="39" y="276"/>
                              </a:lnTo>
                              <a:lnTo>
                                <a:pt x="73" y="270"/>
                              </a:lnTo>
                              <a:lnTo>
                                <a:pt x="100" y="290"/>
                              </a:lnTo>
                              <a:lnTo>
                                <a:pt x="130" y="316"/>
                              </a:lnTo>
                              <a:lnTo>
                                <a:pt x="115" y="330"/>
                              </a:lnTo>
                              <a:lnTo>
                                <a:pt x="131" y="411"/>
                              </a:lnTo>
                              <a:lnTo>
                                <a:pt x="115" y="460"/>
                              </a:lnTo>
                              <a:lnTo>
                                <a:pt x="67" y="467"/>
                              </a:lnTo>
                              <a:lnTo>
                                <a:pt x="64" y="433"/>
                              </a:lnTo>
                              <a:lnTo>
                                <a:pt x="28" y="435"/>
                              </a:lnTo>
                              <a:lnTo>
                                <a:pt x="0" y="491"/>
                              </a:lnTo>
                              <a:lnTo>
                                <a:pt x="81" y="553"/>
                              </a:lnTo>
                              <a:lnTo>
                                <a:pt x="189" y="533"/>
                              </a:lnTo>
                              <a:lnTo>
                                <a:pt x="240" y="489"/>
                              </a:lnTo>
                              <a:lnTo>
                                <a:pt x="345" y="472"/>
                              </a:lnTo>
                              <a:lnTo>
                                <a:pt x="342" y="447"/>
                              </a:lnTo>
                              <a:lnTo>
                                <a:pt x="789" y="377"/>
                              </a:lnTo>
                              <a:lnTo>
                                <a:pt x="784" y="340"/>
                              </a:lnTo>
                              <a:lnTo>
                                <a:pt x="737" y="349"/>
                              </a:lnTo>
                              <a:lnTo>
                                <a:pt x="720" y="231"/>
                              </a:lnTo>
                              <a:lnTo>
                                <a:pt x="604" y="125"/>
                              </a:lnTo>
                              <a:lnTo>
                                <a:pt x="569" y="20"/>
                              </a:lnTo>
                              <a:lnTo>
                                <a:pt x="431" y="41"/>
                              </a:lnTo>
                              <a:lnTo>
                                <a:pt x="230" y="0"/>
                              </a:lnTo>
                              <a:lnTo>
                                <a:pt x="55" y="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" name="Freeform 1414"/>
                        <p:cNvSpPr/>
                        <p:nvPr/>
                      </p:nvSpPr>
                      <p:spPr>
                        <a:xfrm rot="2372400">
                          <a:off x="4106520" y="2505240"/>
                          <a:ext cx="232920" cy="25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6" h="320">
                              <a:moveTo>
                                <a:pt x="233" y="0"/>
                              </a:moveTo>
                              <a:lnTo>
                                <a:pt x="0" y="201"/>
                              </a:lnTo>
                              <a:lnTo>
                                <a:pt x="17" y="320"/>
                              </a:lnTo>
                              <a:lnTo>
                                <a:pt x="296" y="59"/>
                              </a:lnTo>
                              <a:lnTo>
                                <a:pt x="23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7" name="Freeform 1415"/>
                        <p:cNvSpPr/>
                        <p:nvPr/>
                      </p:nvSpPr>
                      <p:spPr>
                        <a:xfrm rot="2372400">
                          <a:off x="4090680" y="2653200"/>
                          <a:ext cx="122040" cy="90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4" h="115">
                              <a:moveTo>
                                <a:pt x="0" y="61"/>
                              </a:moveTo>
                              <a:lnTo>
                                <a:pt x="65" y="0"/>
                              </a:lnTo>
                              <a:lnTo>
                                <a:pt x="154" y="95"/>
                              </a:lnTo>
                              <a:lnTo>
                                <a:pt x="51" y="115"/>
                              </a:lnTo>
                              <a:lnTo>
                                <a:pt x="0" y="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560" bIns="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8" name="Freeform 1416"/>
                        <p:cNvSpPr/>
                        <p:nvPr/>
                      </p:nvSpPr>
                      <p:spPr>
                        <a:xfrm rot="2372400">
                          <a:off x="4247280" y="2545920"/>
                          <a:ext cx="226800" cy="28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6" h="361">
                              <a:moveTo>
                                <a:pt x="0" y="32"/>
                              </a:moveTo>
                              <a:lnTo>
                                <a:pt x="146" y="154"/>
                              </a:lnTo>
                              <a:lnTo>
                                <a:pt x="236" y="361"/>
                              </a:lnTo>
                              <a:lnTo>
                                <a:pt x="286" y="355"/>
                              </a:lnTo>
                              <a:lnTo>
                                <a:pt x="196" y="122"/>
                              </a:lnTo>
                              <a:lnTo>
                                <a:pt x="57" y="0"/>
                              </a:lnTo>
                              <a:lnTo>
                                <a:pt x="0" y="3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9" name="Freeform 1417"/>
                        <p:cNvSpPr/>
                        <p:nvPr/>
                      </p:nvSpPr>
                      <p:spPr>
                        <a:xfrm rot="2372400">
                          <a:off x="4844880" y="2955240"/>
                          <a:ext cx="176040" cy="22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280">
                              <a:moveTo>
                                <a:pt x="0" y="39"/>
                              </a:moveTo>
                              <a:lnTo>
                                <a:pt x="29" y="0"/>
                              </a:lnTo>
                              <a:lnTo>
                                <a:pt x="203" y="141"/>
                              </a:lnTo>
                              <a:lnTo>
                                <a:pt x="222" y="270"/>
                              </a:lnTo>
                              <a:lnTo>
                                <a:pt x="179" y="280"/>
                              </a:lnTo>
                              <a:lnTo>
                                <a:pt x="160" y="165"/>
                              </a:lnTo>
                              <a:lnTo>
                                <a:pt x="0" y="3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0" name="Freeform 1418"/>
                        <p:cNvSpPr/>
                        <p:nvPr/>
                      </p:nvSpPr>
                      <p:spPr>
                        <a:xfrm rot="2372400">
                          <a:off x="4791240" y="2974680"/>
                          <a:ext cx="131400" cy="16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6" h="213">
                              <a:moveTo>
                                <a:pt x="25" y="0"/>
                              </a:moveTo>
                              <a:lnTo>
                                <a:pt x="149" y="100"/>
                              </a:lnTo>
                              <a:lnTo>
                                <a:pt x="166" y="202"/>
                              </a:lnTo>
                              <a:lnTo>
                                <a:pt x="116" y="213"/>
                              </a:lnTo>
                              <a:lnTo>
                                <a:pt x="97" y="110"/>
                              </a:lnTo>
                              <a:lnTo>
                                <a:pt x="0" y="36"/>
                              </a:lnTo>
                              <a:lnTo>
                                <a:pt x="2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1" name="Freeform 1419"/>
                        <p:cNvSpPr/>
                        <p:nvPr/>
                      </p:nvSpPr>
                      <p:spPr>
                        <a:xfrm rot="2372400">
                          <a:off x="4457160" y="2818800"/>
                          <a:ext cx="210600" cy="17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7" h="220">
                              <a:moveTo>
                                <a:pt x="0" y="220"/>
                              </a:moveTo>
                              <a:lnTo>
                                <a:pt x="15" y="99"/>
                              </a:lnTo>
                              <a:lnTo>
                                <a:pt x="70" y="30"/>
                              </a:lnTo>
                              <a:lnTo>
                                <a:pt x="267" y="0"/>
                              </a:lnTo>
                              <a:lnTo>
                                <a:pt x="245" y="135"/>
                              </a:lnTo>
                              <a:lnTo>
                                <a:pt x="246" y="180"/>
                              </a:lnTo>
                              <a:lnTo>
                                <a:pt x="0" y="2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2" name="Freeform 1420"/>
                        <p:cNvSpPr/>
                        <p:nvPr/>
                      </p:nvSpPr>
                      <p:spPr>
                        <a:xfrm rot="2372400">
                          <a:off x="4450320" y="2788200"/>
                          <a:ext cx="293400" cy="21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275">
                              <a:moveTo>
                                <a:pt x="21" y="275"/>
                              </a:moveTo>
                              <a:lnTo>
                                <a:pt x="0" y="137"/>
                              </a:lnTo>
                              <a:lnTo>
                                <a:pt x="63" y="51"/>
                              </a:lnTo>
                              <a:lnTo>
                                <a:pt x="370" y="0"/>
                              </a:lnTo>
                              <a:lnTo>
                                <a:pt x="328" y="122"/>
                              </a:lnTo>
                              <a:lnTo>
                                <a:pt x="316" y="233"/>
                              </a:lnTo>
                              <a:lnTo>
                                <a:pt x="269" y="240"/>
                              </a:lnTo>
                              <a:lnTo>
                                <a:pt x="270" y="195"/>
                              </a:lnTo>
                              <a:lnTo>
                                <a:pt x="289" y="61"/>
                              </a:lnTo>
                              <a:lnTo>
                                <a:pt x="94" y="93"/>
                              </a:lnTo>
                              <a:lnTo>
                                <a:pt x="34" y="162"/>
                              </a:lnTo>
                              <a:lnTo>
                                <a:pt x="21" y="27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afd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3" name="Freeform 1421"/>
                        <p:cNvSpPr/>
                        <p:nvPr/>
                      </p:nvSpPr>
                      <p:spPr>
                        <a:xfrm rot="2372400">
                          <a:off x="4450680" y="2747160"/>
                          <a:ext cx="397800" cy="30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2" h="379">
                              <a:moveTo>
                                <a:pt x="400" y="315"/>
                              </a:moveTo>
                              <a:lnTo>
                                <a:pt x="429" y="132"/>
                              </a:lnTo>
                              <a:lnTo>
                                <a:pt x="502" y="0"/>
                              </a:lnTo>
                              <a:lnTo>
                                <a:pt x="114" y="63"/>
                              </a:lnTo>
                              <a:lnTo>
                                <a:pt x="0" y="177"/>
                              </a:lnTo>
                              <a:lnTo>
                                <a:pt x="31" y="379"/>
                              </a:lnTo>
                              <a:lnTo>
                                <a:pt x="8" y="225"/>
                              </a:lnTo>
                              <a:lnTo>
                                <a:pt x="80" y="143"/>
                              </a:lnTo>
                              <a:lnTo>
                                <a:pt x="384" y="95"/>
                              </a:lnTo>
                              <a:lnTo>
                                <a:pt x="343" y="221"/>
                              </a:lnTo>
                              <a:lnTo>
                                <a:pt x="331" y="327"/>
                              </a:lnTo>
                              <a:lnTo>
                                <a:pt x="400" y="3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4" name="Freeform 1422"/>
                        <p:cNvSpPr/>
                        <p:nvPr/>
                      </p:nvSpPr>
                      <p:spPr>
                        <a:xfrm rot="2372400">
                          <a:off x="4467600" y="2731680"/>
                          <a:ext cx="480600" cy="30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5" h="380">
                              <a:moveTo>
                                <a:pt x="6" y="241"/>
                              </a:moveTo>
                              <a:lnTo>
                                <a:pt x="0" y="204"/>
                              </a:lnTo>
                              <a:lnTo>
                                <a:pt x="124" y="74"/>
                              </a:lnTo>
                              <a:lnTo>
                                <a:pt x="605" y="0"/>
                              </a:lnTo>
                              <a:lnTo>
                                <a:pt x="493" y="189"/>
                              </a:lnTo>
                              <a:lnTo>
                                <a:pt x="466" y="373"/>
                              </a:lnTo>
                              <a:lnTo>
                                <a:pt x="408" y="380"/>
                              </a:lnTo>
                              <a:lnTo>
                                <a:pt x="434" y="198"/>
                              </a:lnTo>
                              <a:lnTo>
                                <a:pt x="511" y="62"/>
                              </a:lnTo>
                              <a:lnTo>
                                <a:pt x="121" y="125"/>
                              </a:lnTo>
                              <a:lnTo>
                                <a:pt x="6" y="24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5" name="Freeform 1423"/>
                        <p:cNvSpPr/>
                        <p:nvPr/>
                      </p:nvSpPr>
                      <p:spPr>
                        <a:xfrm rot="2372400">
                          <a:off x="4700880" y="2654280"/>
                          <a:ext cx="12348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45">
                              <a:moveTo>
                                <a:pt x="0" y="12"/>
                              </a:moveTo>
                              <a:lnTo>
                                <a:pt x="12" y="85"/>
                              </a:lnTo>
                              <a:lnTo>
                                <a:pt x="144" y="65"/>
                              </a:lnTo>
                              <a:lnTo>
                                <a:pt x="155" y="134"/>
                              </a:lnTo>
                              <a:lnTo>
                                <a:pt x="90" y="145"/>
                              </a:lnTo>
                              <a:lnTo>
                                <a:pt x="69" y="0"/>
                              </a:lnTo>
                              <a:lnTo>
                                <a:pt x="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6" name="Freeform 1424"/>
                        <p:cNvSpPr/>
                        <p:nvPr/>
                      </p:nvSpPr>
                      <p:spPr>
                        <a:xfrm rot="2372400">
                          <a:off x="4749120" y="2685600"/>
                          <a:ext cx="12348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42">
                              <a:moveTo>
                                <a:pt x="0" y="11"/>
                              </a:moveTo>
                              <a:lnTo>
                                <a:pt x="11" y="83"/>
                              </a:lnTo>
                              <a:lnTo>
                                <a:pt x="147" y="63"/>
                              </a:lnTo>
                              <a:lnTo>
                                <a:pt x="155" y="133"/>
                              </a:lnTo>
                              <a:lnTo>
                                <a:pt x="92" y="142"/>
                              </a:lnTo>
                              <a:lnTo>
                                <a:pt x="70" y="0"/>
                              </a:lnTo>
                              <a:lnTo>
                                <a:pt x="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7" name="Freeform 1425"/>
                        <p:cNvSpPr/>
                        <p:nvPr/>
                      </p:nvSpPr>
                      <p:spPr>
                        <a:xfrm rot="2372400">
                          <a:off x="4796640" y="2710440"/>
                          <a:ext cx="12204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" h="145">
                              <a:moveTo>
                                <a:pt x="0" y="11"/>
                              </a:moveTo>
                              <a:lnTo>
                                <a:pt x="11" y="85"/>
                              </a:lnTo>
                              <a:lnTo>
                                <a:pt x="145" y="63"/>
                              </a:lnTo>
                              <a:lnTo>
                                <a:pt x="153" y="134"/>
                              </a:lnTo>
                              <a:lnTo>
                                <a:pt x="89" y="145"/>
                              </a:lnTo>
                              <a:lnTo>
                                <a:pt x="67" y="0"/>
                              </a:lnTo>
                              <a:lnTo>
                                <a:pt x="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8" name="Freeform 1426"/>
                        <p:cNvSpPr/>
                        <p:nvPr/>
                      </p:nvSpPr>
                      <p:spPr>
                        <a:xfrm rot="2372400">
                          <a:off x="4847760" y="2738520"/>
                          <a:ext cx="12204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4" h="147">
                              <a:moveTo>
                                <a:pt x="0" y="14"/>
                              </a:moveTo>
                              <a:lnTo>
                                <a:pt x="11" y="87"/>
                              </a:lnTo>
                              <a:lnTo>
                                <a:pt x="144" y="66"/>
                              </a:lnTo>
                              <a:lnTo>
                                <a:pt x="154" y="136"/>
                              </a:lnTo>
                              <a:lnTo>
                                <a:pt x="89" y="147"/>
                              </a:lnTo>
                              <a:lnTo>
                                <a:pt x="67" y="0"/>
                              </a:lnTo>
                              <a:lnTo>
                                <a:pt x="0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9" name="Freeform 1427"/>
                        <p:cNvSpPr/>
                        <p:nvPr/>
                      </p:nvSpPr>
                      <p:spPr>
                        <a:xfrm rot="2372400">
                          <a:off x="4896360" y="2769840"/>
                          <a:ext cx="12168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6" h="144">
                              <a:moveTo>
                                <a:pt x="0" y="10"/>
                              </a:moveTo>
                              <a:lnTo>
                                <a:pt x="14" y="84"/>
                              </a:lnTo>
                              <a:lnTo>
                                <a:pt x="145" y="65"/>
                              </a:lnTo>
                              <a:lnTo>
                                <a:pt x="156" y="133"/>
                              </a:lnTo>
                              <a:lnTo>
                                <a:pt x="92" y="144"/>
                              </a:lnTo>
                              <a:lnTo>
                                <a:pt x="70" y="0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0" name="Freeform 1428"/>
                        <p:cNvSpPr/>
                        <p:nvPr/>
                      </p:nvSpPr>
                      <p:spPr>
                        <a:xfrm rot="2372400">
                          <a:off x="4941720" y="2796840"/>
                          <a:ext cx="12204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6" h="144">
                              <a:moveTo>
                                <a:pt x="0" y="10"/>
                              </a:moveTo>
                              <a:lnTo>
                                <a:pt x="11" y="84"/>
                              </a:lnTo>
                              <a:lnTo>
                                <a:pt x="145" y="64"/>
                              </a:lnTo>
                              <a:lnTo>
                                <a:pt x="156" y="134"/>
                              </a:lnTo>
                              <a:lnTo>
                                <a:pt x="92" y="144"/>
                              </a:lnTo>
                              <a:lnTo>
                                <a:pt x="70" y="0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1" name="Freeform 1429"/>
                        <p:cNvSpPr/>
                        <p:nvPr/>
                      </p:nvSpPr>
                      <p:spPr>
                        <a:xfrm rot="2372400">
                          <a:off x="4986360" y="2822400"/>
                          <a:ext cx="12348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45">
                              <a:moveTo>
                                <a:pt x="0" y="12"/>
                              </a:moveTo>
                              <a:lnTo>
                                <a:pt x="11" y="85"/>
                              </a:lnTo>
                              <a:lnTo>
                                <a:pt x="144" y="65"/>
                              </a:lnTo>
                              <a:lnTo>
                                <a:pt x="155" y="134"/>
                              </a:lnTo>
                              <a:lnTo>
                                <a:pt x="89" y="145"/>
                              </a:lnTo>
                              <a:lnTo>
                                <a:pt x="70" y="0"/>
                              </a:lnTo>
                              <a:lnTo>
                                <a:pt x="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2" name="Freeform 1430"/>
                        <p:cNvSpPr/>
                        <p:nvPr/>
                      </p:nvSpPr>
                      <p:spPr>
                        <a:xfrm rot="2372400">
                          <a:off x="4334760" y="2540520"/>
                          <a:ext cx="214200" cy="34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1" h="430">
                              <a:moveTo>
                                <a:pt x="0" y="42"/>
                              </a:moveTo>
                              <a:lnTo>
                                <a:pt x="140" y="167"/>
                              </a:lnTo>
                              <a:lnTo>
                                <a:pt x="224" y="430"/>
                              </a:lnTo>
                              <a:lnTo>
                                <a:pt x="271" y="417"/>
                              </a:lnTo>
                              <a:lnTo>
                                <a:pt x="216" y="149"/>
                              </a:lnTo>
                              <a:lnTo>
                                <a:pt x="77" y="0"/>
                              </a:lnTo>
                              <a:lnTo>
                                <a:pt x="0" y="4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3" name="Freeform 1431"/>
                        <p:cNvSpPr/>
                        <p:nvPr/>
                      </p:nvSpPr>
                      <p:spPr>
                        <a:xfrm rot="2372400">
                          <a:off x="4713480" y="2291760"/>
                          <a:ext cx="44892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6" h="69">
                              <a:moveTo>
                                <a:pt x="0" y="36"/>
                              </a:moveTo>
                              <a:lnTo>
                                <a:pt x="250" y="0"/>
                              </a:lnTo>
                              <a:lnTo>
                                <a:pt x="430" y="40"/>
                              </a:lnTo>
                              <a:lnTo>
                                <a:pt x="559" y="20"/>
                              </a:lnTo>
                              <a:lnTo>
                                <a:pt x="566" y="49"/>
                              </a:lnTo>
                              <a:lnTo>
                                <a:pt x="436" y="69"/>
                              </a:lnTo>
                              <a:lnTo>
                                <a:pt x="248" y="27"/>
                              </a:lnTo>
                              <a:lnTo>
                                <a:pt x="28" y="61"/>
                              </a:lnTo>
                              <a:lnTo>
                                <a:pt x="0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4" name="Freeform 1432"/>
                        <p:cNvSpPr/>
                        <p:nvPr/>
                      </p:nvSpPr>
                      <p:spPr>
                        <a:xfrm rot="2372400">
                          <a:off x="4954680" y="2493360"/>
                          <a:ext cx="155160" cy="28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7" h="363">
                              <a:moveTo>
                                <a:pt x="37" y="0"/>
                              </a:moveTo>
                              <a:lnTo>
                                <a:pt x="58" y="118"/>
                              </a:lnTo>
                              <a:lnTo>
                                <a:pt x="180" y="229"/>
                              </a:lnTo>
                              <a:lnTo>
                                <a:pt x="197" y="350"/>
                              </a:lnTo>
                              <a:lnTo>
                                <a:pt x="164" y="363"/>
                              </a:lnTo>
                              <a:lnTo>
                                <a:pt x="147" y="239"/>
                              </a:lnTo>
                              <a:lnTo>
                                <a:pt x="22" y="124"/>
                              </a:lnTo>
                              <a:lnTo>
                                <a:pt x="0" y="8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5" name="Freeform 1433"/>
                        <p:cNvSpPr/>
                        <p:nvPr/>
                      </p:nvSpPr>
                      <p:spPr>
                        <a:xfrm rot="2372400">
                          <a:off x="4899960" y="2459520"/>
                          <a:ext cx="153720" cy="28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364">
                              <a:moveTo>
                                <a:pt x="41" y="0"/>
                              </a:moveTo>
                              <a:lnTo>
                                <a:pt x="59" y="124"/>
                              </a:lnTo>
                              <a:lnTo>
                                <a:pt x="177" y="237"/>
                              </a:lnTo>
                              <a:lnTo>
                                <a:pt x="194" y="352"/>
                              </a:lnTo>
                              <a:lnTo>
                                <a:pt x="149" y="364"/>
                              </a:lnTo>
                              <a:lnTo>
                                <a:pt x="136" y="244"/>
                              </a:lnTo>
                              <a:lnTo>
                                <a:pt x="19" y="131"/>
                              </a:lnTo>
                              <a:lnTo>
                                <a:pt x="0" y="2"/>
                              </a:lnTo>
                              <a:lnTo>
                                <a:pt x="4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6" name="Freeform 1434"/>
                        <p:cNvSpPr/>
                        <p:nvPr/>
                      </p:nvSpPr>
                      <p:spPr>
                        <a:xfrm rot="2372400">
                          <a:off x="4844160" y="2409120"/>
                          <a:ext cx="156600" cy="301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6" h="380">
                              <a:moveTo>
                                <a:pt x="44" y="13"/>
                              </a:moveTo>
                              <a:lnTo>
                                <a:pt x="60" y="142"/>
                              </a:lnTo>
                              <a:lnTo>
                                <a:pt x="179" y="264"/>
                              </a:lnTo>
                              <a:lnTo>
                                <a:pt x="196" y="378"/>
                              </a:lnTo>
                              <a:lnTo>
                                <a:pt x="160" y="380"/>
                              </a:lnTo>
                              <a:lnTo>
                                <a:pt x="145" y="274"/>
                              </a:lnTo>
                              <a:lnTo>
                                <a:pt x="21" y="148"/>
                              </a:lnTo>
                              <a:lnTo>
                                <a:pt x="0" y="0"/>
                              </a:lnTo>
                              <a:lnTo>
                                <a:pt x="44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7" name="Freeform 1435"/>
                        <p:cNvSpPr/>
                        <p:nvPr/>
                      </p:nvSpPr>
                      <p:spPr>
                        <a:xfrm rot="2372400">
                          <a:off x="4643280" y="2419560"/>
                          <a:ext cx="122040" cy="1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6" h="136">
                              <a:moveTo>
                                <a:pt x="0" y="44"/>
                              </a:moveTo>
                              <a:lnTo>
                                <a:pt x="113" y="92"/>
                              </a:lnTo>
                              <a:lnTo>
                                <a:pt x="143" y="64"/>
                              </a:lnTo>
                              <a:lnTo>
                                <a:pt x="156" y="0"/>
                              </a:lnTo>
                              <a:lnTo>
                                <a:pt x="120" y="51"/>
                              </a:lnTo>
                              <a:lnTo>
                                <a:pt x="63" y="130"/>
                              </a:lnTo>
                              <a:lnTo>
                                <a:pt x="24" y="136"/>
                              </a:lnTo>
                              <a:lnTo>
                                <a:pt x="53" y="92"/>
                              </a:lnTo>
                              <a:lnTo>
                                <a:pt x="0" y="4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8" name="Freeform 1436"/>
                        <p:cNvSpPr/>
                        <p:nvPr/>
                      </p:nvSpPr>
                      <p:spPr>
                        <a:xfrm rot="2372400">
                          <a:off x="4790880" y="2354400"/>
                          <a:ext cx="161640" cy="331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418">
                              <a:moveTo>
                                <a:pt x="39" y="10"/>
                              </a:moveTo>
                              <a:lnTo>
                                <a:pt x="63" y="174"/>
                              </a:lnTo>
                              <a:lnTo>
                                <a:pt x="187" y="295"/>
                              </a:lnTo>
                              <a:lnTo>
                                <a:pt x="204" y="408"/>
                              </a:lnTo>
                              <a:lnTo>
                                <a:pt x="170" y="418"/>
                              </a:lnTo>
                              <a:lnTo>
                                <a:pt x="153" y="308"/>
                              </a:lnTo>
                              <a:lnTo>
                                <a:pt x="30" y="186"/>
                              </a:lnTo>
                              <a:lnTo>
                                <a:pt x="0" y="0"/>
                              </a:lnTo>
                              <a:lnTo>
                                <a:pt x="39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Freeform 1437"/>
                        <p:cNvSpPr/>
                        <p:nvPr/>
                      </p:nvSpPr>
                      <p:spPr>
                        <a:xfrm rot="2372400">
                          <a:off x="4730040" y="2328480"/>
                          <a:ext cx="8064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0" h="67">
                              <a:moveTo>
                                <a:pt x="0" y="0"/>
                              </a:moveTo>
                              <a:lnTo>
                                <a:pt x="100" y="52"/>
                              </a:lnTo>
                              <a:lnTo>
                                <a:pt x="0" y="67"/>
                              </a:lnTo>
                              <a:lnTo>
                                <a:pt x="31" y="4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00" name="Group 1438"/>
                    <p:cNvGrpSpPr/>
                    <p:nvPr/>
                  </p:nvGrpSpPr>
                  <p:grpSpPr>
                    <a:xfrm>
                      <a:off x="3561840" y="2545920"/>
                      <a:ext cx="1465560" cy="1389240"/>
                      <a:chOff x="3561840" y="2545920"/>
                      <a:chExt cx="1465560" cy="1389240"/>
                    </a:xfrm>
                  </p:grpSpPr>
                  <p:grpSp>
                    <p:nvGrpSpPr>
                      <p:cNvPr id="701" name="Group 1439"/>
                      <p:cNvGrpSpPr/>
                      <p:nvPr/>
                    </p:nvGrpSpPr>
                    <p:grpSpPr>
                      <a:xfrm>
                        <a:off x="3561840" y="2545920"/>
                        <a:ext cx="1465560" cy="1374840"/>
                        <a:chOff x="3561840" y="2545920"/>
                        <a:chExt cx="1465560" cy="1374840"/>
                      </a:xfrm>
                    </p:grpSpPr>
                    <p:sp>
                      <p:nvSpPr>
                        <p:cNvPr id="702" name="Freeform 1440"/>
                        <p:cNvSpPr/>
                        <p:nvPr/>
                      </p:nvSpPr>
                      <p:spPr>
                        <a:xfrm rot="2372400">
                          <a:off x="3863160" y="2844720"/>
                          <a:ext cx="1126800" cy="522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20" h="658">
                              <a:moveTo>
                                <a:pt x="971" y="549"/>
                              </a:moveTo>
                              <a:lnTo>
                                <a:pt x="1420" y="276"/>
                              </a:lnTo>
                              <a:lnTo>
                                <a:pt x="1376" y="0"/>
                              </a:lnTo>
                              <a:lnTo>
                                <a:pt x="1104" y="44"/>
                              </a:lnTo>
                              <a:lnTo>
                                <a:pt x="1177" y="183"/>
                              </a:lnTo>
                              <a:lnTo>
                                <a:pt x="1105" y="254"/>
                              </a:lnTo>
                              <a:lnTo>
                                <a:pt x="1051" y="51"/>
                              </a:lnTo>
                              <a:lnTo>
                                <a:pt x="0" y="222"/>
                              </a:lnTo>
                              <a:lnTo>
                                <a:pt x="33" y="421"/>
                              </a:lnTo>
                              <a:lnTo>
                                <a:pt x="342" y="658"/>
                              </a:lnTo>
                              <a:lnTo>
                                <a:pt x="971" y="5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158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3" name="Freeform 1441"/>
                        <p:cNvSpPr/>
                        <p:nvPr/>
                      </p:nvSpPr>
                      <p:spPr>
                        <a:xfrm rot="2372400">
                          <a:off x="3744360" y="2806920"/>
                          <a:ext cx="159840" cy="631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0" h="795">
                              <a:moveTo>
                                <a:pt x="128" y="795"/>
                              </a:moveTo>
                              <a:lnTo>
                                <a:pt x="0" y="0"/>
                              </a:lnTo>
                              <a:lnTo>
                                <a:pt x="100" y="77"/>
                              </a:lnTo>
                              <a:lnTo>
                                <a:pt x="200" y="736"/>
                              </a:lnTo>
                              <a:lnTo>
                                <a:pt x="128" y="7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158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4" name="Freeform 1442"/>
                        <p:cNvSpPr/>
                        <p:nvPr/>
                      </p:nvSpPr>
                      <p:spPr>
                        <a:xfrm rot="2372400">
                          <a:off x="3762720" y="3244320"/>
                          <a:ext cx="59760" cy="10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" h="138">
                              <a:moveTo>
                                <a:pt x="76" y="128"/>
                              </a:moveTo>
                              <a:lnTo>
                                <a:pt x="20" y="138"/>
                              </a:lnTo>
                              <a:lnTo>
                                <a:pt x="0" y="9"/>
                              </a:lnTo>
                              <a:lnTo>
                                <a:pt x="58" y="0"/>
                              </a:lnTo>
                              <a:lnTo>
                                <a:pt x="76" y="12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158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5" name="Freeform 1443"/>
                        <p:cNvSpPr/>
                        <p:nvPr/>
                      </p:nvSpPr>
                      <p:spPr>
                        <a:xfrm rot="2372400">
                          <a:off x="3786120" y="3204720"/>
                          <a:ext cx="137520" cy="28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360">
                              <a:moveTo>
                                <a:pt x="33" y="257"/>
                              </a:moveTo>
                              <a:lnTo>
                                <a:pt x="48" y="360"/>
                              </a:lnTo>
                              <a:lnTo>
                                <a:pt x="175" y="198"/>
                              </a:lnTo>
                              <a:lnTo>
                                <a:pt x="162" y="114"/>
                              </a:lnTo>
                              <a:lnTo>
                                <a:pt x="0" y="0"/>
                              </a:lnTo>
                              <a:lnTo>
                                <a:pt x="16" y="114"/>
                              </a:lnTo>
                              <a:lnTo>
                                <a:pt x="113" y="165"/>
                              </a:lnTo>
                              <a:lnTo>
                                <a:pt x="33" y="25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6" name="Freeform 1444"/>
                        <p:cNvSpPr/>
                        <p:nvPr/>
                      </p:nvSpPr>
                      <p:spPr>
                        <a:xfrm rot="2372400">
                          <a:off x="3754800" y="3536280"/>
                          <a:ext cx="628200" cy="20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91" h="262">
                              <a:moveTo>
                                <a:pt x="791" y="158"/>
                              </a:moveTo>
                              <a:lnTo>
                                <a:pt x="0" y="262"/>
                              </a:lnTo>
                              <a:lnTo>
                                <a:pt x="127" y="81"/>
                              </a:lnTo>
                              <a:lnTo>
                                <a:pt x="118" y="23"/>
                              </a:lnTo>
                              <a:lnTo>
                                <a:pt x="257" y="0"/>
                              </a:lnTo>
                              <a:lnTo>
                                <a:pt x="456" y="40"/>
                              </a:lnTo>
                              <a:lnTo>
                                <a:pt x="634" y="13"/>
                              </a:lnTo>
                              <a:lnTo>
                                <a:pt x="791" y="15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158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7" name="Freeform 1445"/>
                        <p:cNvSpPr/>
                        <p:nvPr/>
                      </p:nvSpPr>
                      <p:spPr>
                        <a:xfrm rot="2372400">
                          <a:off x="3875760" y="3142440"/>
                          <a:ext cx="626400" cy="43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9" h="552">
                              <a:moveTo>
                                <a:pt x="734" y="523"/>
                              </a:moveTo>
                              <a:lnTo>
                                <a:pt x="706" y="380"/>
                              </a:lnTo>
                              <a:lnTo>
                                <a:pt x="756" y="311"/>
                              </a:lnTo>
                              <a:lnTo>
                                <a:pt x="750" y="276"/>
                              </a:lnTo>
                              <a:lnTo>
                                <a:pt x="716" y="282"/>
                              </a:lnTo>
                              <a:lnTo>
                                <a:pt x="689" y="262"/>
                              </a:lnTo>
                              <a:lnTo>
                                <a:pt x="660" y="237"/>
                              </a:lnTo>
                              <a:lnTo>
                                <a:pt x="675" y="222"/>
                              </a:lnTo>
                              <a:lnTo>
                                <a:pt x="659" y="141"/>
                              </a:lnTo>
                              <a:lnTo>
                                <a:pt x="675" y="93"/>
                              </a:lnTo>
                              <a:lnTo>
                                <a:pt x="722" y="85"/>
                              </a:lnTo>
                              <a:lnTo>
                                <a:pt x="726" y="120"/>
                              </a:lnTo>
                              <a:lnTo>
                                <a:pt x="761" y="117"/>
                              </a:lnTo>
                              <a:lnTo>
                                <a:pt x="789" y="61"/>
                              </a:lnTo>
                              <a:lnTo>
                                <a:pt x="709" y="0"/>
                              </a:lnTo>
                              <a:lnTo>
                                <a:pt x="600" y="19"/>
                              </a:lnTo>
                              <a:lnTo>
                                <a:pt x="550" y="63"/>
                              </a:lnTo>
                              <a:lnTo>
                                <a:pt x="445" y="80"/>
                              </a:lnTo>
                              <a:lnTo>
                                <a:pt x="447" y="105"/>
                              </a:lnTo>
                              <a:lnTo>
                                <a:pt x="0" y="176"/>
                              </a:lnTo>
                              <a:lnTo>
                                <a:pt x="5" y="212"/>
                              </a:lnTo>
                              <a:lnTo>
                                <a:pt x="53" y="204"/>
                              </a:lnTo>
                              <a:lnTo>
                                <a:pt x="70" y="321"/>
                              </a:lnTo>
                              <a:lnTo>
                                <a:pt x="186" y="427"/>
                              </a:lnTo>
                              <a:lnTo>
                                <a:pt x="220" y="532"/>
                              </a:lnTo>
                              <a:lnTo>
                                <a:pt x="358" y="512"/>
                              </a:lnTo>
                              <a:lnTo>
                                <a:pt x="560" y="552"/>
                              </a:lnTo>
                              <a:lnTo>
                                <a:pt x="734" y="52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8" name="Freeform 1446"/>
                        <p:cNvSpPr/>
                        <p:nvPr/>
                      </p:nvSpPr>
                      <p:spPr>
                        <a:xfrm rot="2372400">
                          <a:off x="4704480" y="3166920"/>
                          <a:ext cx="234720" cy="25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6" h="320">
                              <a:moveTo>
                                <a:pt x="63" y="320"/>
                              </a:moveTo>
                              <a:lnTo>
                                <a:pt x="296" y="120"/>
                              </a:lnTo>
                              <a:lnTo>
                                <a:pt x="279" y="0"/>
                              </a:lnTo>
                              <a:lnTo>
                                <a:pt x="0" y="261"/>
                              </a:lnTo>
                              <a:lnTo>
                                <a:pt x="63" y="32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9" name="Freeform 1447"/>
                        <p:cNvSpPr/>
                        <p:nvPr/>
                      </p:nvSpPr>
                      <p:spPr>
                        <a:xfrm rot="2372400">
                          <a:off x="4833000" y="3182760"/>
                          <a:ext cx="120240" cy="90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1" h="115">
                              <a:moveTo>
                                <a:pt x="151" y="54"/>
                              </a:moveTo>
                              <a:lnTo>
                                <a:pt x="88" y="115"/>
                              </a:lnTo>
                              <a:lnTo>
                                <a:pt x="0" y="20"/>
                              </a:lnTo>
                              <a:lnTo>
                                <a:pt x="101" y="0"/>
                              </a:lnTo>
                              <a:lnTo>
                                <a:pt x="151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560" bIns="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Freeform 1448"/>
                        <p:cNvSpPr/>
                        <p:nvPr/>
                      </p:nvSpPr>
                      <p:spPr>
                        <a:xfrm rot="2372400">
                          <a:off x="4573440" y="3093840"/>
                          <a:ext cx="225000" cy="28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5" h="362">
                              <a:moveTo>
                                <a:pt x="285" y="330"/>
                              </a:moveTo>
                              <a:lnTo>
                                <a:pt x="140" y="208"/>
                              </a:lnTo>
                              <a:lnTo>
                                <a:pt x="51" y="0"/>
                              </a:lnTo>
                              <a:lnTo>
                                <a:pt x="0" y="6"/>
                              </a:lnTo>
                              <a:lnTo>
                                <a:pt x="91" y="239"/>
                              </a:lnTo>
                              <a:lnTo>
                                <a:pt x="229" y="362"/>
                              </a:lnTo>
                              <a:lnTo>
                                <a:pt x="285" y="3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1" name="Freeform 1449"/>
                        <p:cNvSpPr/>
                        <p:nvPr/>
                      </p:nvSpPr>
                      <p:spPr>
                        <a:xfrm rot="2372400">
                          <a:off x="4024800" y="2749680"/>
                          <a:ext cx="176040" cy="22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3" h="280">
                              <a:moveTo>
                                <a:pt x="223" y="241"/>
                              </a:moveTo>
                              <a:lnTo>
                                <a:pt x="193" y="280"/>
                              </a:lnTo>
                              <a:lnTo>
                                <a:pt x="20" y="140"/>
                              </a:lnTo>
                              <a:lnTo>
                                <a:pt x="0" y="10"/>
                              </a:lnTo>
                              <a:lnTo>
                                <a:pt x="43" y="0"/>
                              </a:lnTo>
                              <a:lnTo>
                                <a:pt x="63" y="115"/>
                              </a:lnTo>
                              <a:lnTo>
                                <a:pt x="223" y="24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2" name="Freeform 1450"/>
                        <p:cNvSpPr/>
                        <p:nvPr/>
                      </p:nvSpPr>
                      <p:spPr>
                        <a:xfrm rot="2372400">
                          <a:off x="4122000" y="2783520"/>
                          <a:ext cx="132840" cy="168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6" h="212">
                              <a:moveTo>
                                <a:pt x="142" y="212"/>
                              </a:moveTo>
                              <a:lnTo>
                                <a:pt x="17" y="112"/>
                              </a:lnTo>
                              <a:lnTo>
                                <a:pt x="0" y="11"/>
                              </a:lnTo>
                              <a:lnTo>
                                <a:pt x="50" y="0"/>
                              </a:lnTo>
                              <a:lnTo>
                                <a:pt x="70" y="102"/>
                              </a:lnTo>
                              <a:lnTo>
                                <a:pt x="166" y="177"/>
                              </a:lnTo>
                              <a:lnTo>
                                <a:pt x="142" y="2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3" name="Freeform 1451"/>
                        <p:cNvSpPr/>
                        <p:nvPr/>
                      </p:nvSpPr>
                      <p:spPr>
                        <a:xfrm rot="2372400">
                          <a:off x="4376880" y="2934000"/>
                          <a:ext cx="210600" cy="17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5" h="220">
                              <a:moveTo>
                                <a:pt x="265" y="0"/>
                              </a:moveTo>
                              <a:lnTo>
                                <a:pt x="250" y="121"/>
                              </a:lnTo>
                              <a:lnTo>
                                <a:pt x="195" y="191"/>
                              </a:lnTo>
                              <a:lnTo>
                                <a:pt x="0" y="220"/>
                              </a:lnTo>
                              <a:lnTo>
                                <a:pt x="22" y="86"/>
                              </a:lnTo>
                              <a:lnTo>
                                <a:pt x="21" y="40"/>
                              </a:lnTo>
                              <a:lnTo>
                                <a:pt x="265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4" name="Freeform 1452"/>
                        <p:cNvSpPr/>
                        <p:nvPr/>
                      </p:nvSpPr>
                      <p:spPr>
                        <a:xfrm rot="2372400">
                          <a:off x="4300560" y="2920320"/>
                          <a:ext cx="294840" cy="21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3" h="275">
                              <a:moveTo>
                                <a:pt x="352" y="0"/>
                              </a:moveTo>
                              <a:lnTo>
                                <a:pt x="373" y="138"/>
                              </a:lnTo>
                              <a:lnTo>
                                <a:pt x="308" y="223"/>
                              </a:lnTo>
                              <a:lnTo>
                                <a:pt x="0" y="275"/>
                              </a:lnTo>
                              <a:lnTo>
                                <a:pt x="42" y="152"/>
                              </a:lnTo>
                              <a:lnTo>
                                <a:pt x="54" y="41"/>
                              </a:lnTo>
                              <a:lnTo>
                                <a:pt x="102" y="34"/>
                              </a:lnTo>
                              <a:lnTo>
                                <a:pt x="101" y="79"/>
                              </a:lnTo>
                              <a:lnTo>
                                <a:pt x="81" y="213"/>
                              </a:lnTo>
                              <a:lnTo>
                                <a:pt x="279" y="182"/>
                              </a:lnTo>
                              <a:lnTo>
                                <a:pt x="339" y="112"/>
                              </a:lnTo>
                              <a:lnTo>
                                <a:pt x="35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afd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Freeform 1453"/>
                        <p:cNvSpPr/>
                        <p:nvPr/>
                      </p:nvSpPr>
                      <p:spPr>
                        <a:xfrm rot="2372400">
                          <a:off x="4197240" y="2877480"/>
                          <a:ext cx="396360" cy="301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1" h="378">
                              <a:moveTo>
                                <a:pt x="103" y="63"/>
                              </a:moveTo>
                              <a:lnTo>
                                <a:pt x="74" y="246"/>
                              </a:lnTo>
                              <a:lnTo>
                                <a:pt x="0" y="378"/>
                              </a:lnTo>
                              <a:lnTo>
                                <a:pt x="389" y="315"/>
                              </a:lnTo>
                              <a:lnTo>
                                <a:pt x="501" y="201"/>
                              </a:lnTo>
                              <a:lnTo>
                                <a:pt x="471" y="0"/>
                              </a:lnTo>
                              <a:lnTo>
                                <a:pt x="494" y="154"/>
                              </a:lnTo>
                              <a:lnTo>
                                <a:pt x="422" y="235"/>
                              </a:lnTo>
                              <a:lnTo>
                                <a:pt x="118" y="284"/>
                              </a:lnTo>
                              <a:lnTo>
                                <a:pt x="159" y="157"/>
                              </a:lnTo>
                              <a:lnTo>
                                <a:pt x="170" y="51"/>
                              </a:lnTo>
                              <a:lnTo>
                                <a:pt x="103" y="6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6" name="Freeform 1454"/>
                        <p:cNvSpPr/>
                        <p:nvPr/>
                      </p:nvSpPr>
                      <p:spPr>
                        <a:xfrm rot="2372400">
                          <a:off x="4096080" y="2892240"/>
                          <a:ext cx="480960" cy="30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6" h="380">
                              <a:moveTo>
                                <a:pt x="600" y="138"/>
                              </a:moveTo>
                              <a:lnTo>
                                <a:pt x="606" y="176"/>
                              </a:lnTo>
                              <a:lnTo>
                                <a:pt x="481" y="305"/>
                              </a:lnTo>
                              <a:lnTo>
                                <a:pt x="0" y="380"/>
                              </a:lnTo>
                              <a:lnTo>
                                <a:pt x="112" y="190"/>
                              </a:lnTo>
                              <a:lnTo>
                                <a:pt x="139" y="6"/>
                              </a:lnTo>
                              <a:lnTo>
                                <a:pt x="198" y="0"/>
                              </a:lnTo>
                              <a:lnTo>
                                <a:pt x="171" y="182"/>
                              </a:lnTo>
                              <a:lnTo>
                                <a:pt x="94" y="317"/>
                              </a:lnTo>
                              <a:lnTo>
                                <a:pt x="485" y="254"/>
                              </a:lnTo>
                              <a:lnTo>
                                <a:pt x="600" y="1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7" name="Freeform 1455"/>
                        <p:cNvSpPr/>
                        <p:nvPr/>
                      </p:nvSpPr>
                      <p:spPr>
                        <a:xfrm rot="2372400">
                          <a:off x="4219560" y="3156840"/>
                          <a:ext cx="12312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45">
                              <a:moveTo>
                                <a:pt x="155" y="133"/>
                              </a:moveTo>
                              <a:lnTo>
                                <a:pt x="143" y="60"/>
                              </a:lnTo>
                              <a:lnTo>
                                <a:pt x="11" y="81"/>
                              </a:lnTo>
                              <a:lnTo>
                                <a:pt x="0" y="11"/>
                              </a:lnTo>
                              <a:lnTo>
                                <a:pt x="64" y="0"/>
                              </a:lnTo>
                              <a:lnTo>
                                <a:pt x="85" y="145"/>
                              </a:lnTo>
                              <a:lnTo>
                                <a:pt x="155" y="1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8" name="Freeform 1456"/>
                        <p:cNvSpPr/>
                        <p:nvPr/>
                      </p:nvSpPr>
                      <p:spPr>
                        <a:xfrm rot="2372400">
                          <a:off x="4172760" y="3129480"/>
                          <a:ext cx="12168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42">
                              <a:moveTo>
                                <a:pt x="155" y="131"/>
                              </a:moveTo>
                              <a:lnTo>
                                <a:pt x="144" y="59"/>
                              </a:lnTo>
                              <a:lnTo>
                                <a:pt x="9" y="80"/>
                              </a:lnTo>
                              <a:lnTo>
                                <a:pt x="0" y="9"/>
                              </a:lnTo>
                              <a:lnTo>
                                <a:pt x="64" y="0"/>
                              </a:lnTo>
                              <a:lnTo>
                                <a:pt x="86" y="142"/>
                              </a:lnTo>
                              <a:lnTo>
                                <a:pt x="155" y="13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9" name="Freeform 1457"/>
                        <p:cNvSpPr/>
                        <p:nvPr/>
                      </p:nvSpPr>
                      <p:spPr>
                        <a:xfrm rot="2372400">
                          <a:off x="4125600" y="3101040"/>
                          <a:ext cx="121680" cy="11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45">
                              <a:moveTo>
                                <a:pt x="155" y="134"/>
                              </a:moveTo>
                              <a:lnTo>
                                <a:pt x="144" y="60"/>
                              </a:lnTo>
                              <a:lnTo>
                                <a:pt x="8" y="82"/>
                              </a:lnTo>
                              <a:lnTo>
                                <a:pt x="0" y="11"/>
                              </a:lnTo>
                              <a:lnTo>
                                <a:pt x="65" y="0"/>
                              </a:lnTo>
                              <a:lnTo>
                                <a:pt x="87" y="145"/>
                              </a:lnTo>
                              <a:lnTo>
                                <a:pt x="155" y="1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0" name="Freeform 1458"/>
                        <p:cNvSpPr/>
                        <p:nvPr/>
                      </p:nvSpPr>
                      <p:spPr>
                        <a:xfrm rot="2372400">
                          <a:off x="4074840" y="3072240"/>
                          <a:ext cx="12348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6" h="147">
                              <a:moveTo>
                                <a:pt x="156" y="133"/>
                              </a:moveTo>
                              <a:lnTo>
                                <a:pt x="145" y="60"/>
                              </a:lnTo>
                              <a:lnTo>
                                <a:pt x="10" y="81"/>
                              </a:lnTo>
                              <a:lnTo>
                                <a:pt x="0" y="11"/>
                              </a:lnTo>
                              <a:lnTo>
                                <a:pt x="65" y="0"/>
                              </a:lnTo>
                              <a:lnTo>
                                <a:pt x="88" y="147"/>
                              </a:lnTo>
                              <a:lnTo>
                                <a:pt x="156" y="1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1" name="Freeform 1459"/>
                        <p:cNvSpPr/>
                        <p:nvPr/>
                      </p:nvSpPr>
                      <p:spPr>
                        <a:xfrm rot="2372400">
                          <a:off x="4025880" y="3042360"/>
                          <a:ext cx="12528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6" h="144">
                              <a:moveTo>
                                <a:pt x="156" y="135"/>
                              </a:moveTo>
                              <a:lnTo>
                                <a:pt x="143" y="60"/>
                              </a:lnTo>
                              <a:lnTo>
                                <a:pt x="11" y="80"/>
                              </a:lnTo>
                              <a:lnTo>
                                <a:pt x="0" y="11"/>
                              </a:lnTo>
                              <a:lnTo>
                                <a:pt x="63" y="0"/>
                              </a:lnTo>
                              <a:lnTo>
                                <a:pt x="85" y="144"/>
                              </a:lnTo>
                              <a:lnTo>
                                <a:pt x="156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2" name="Freeform 1460"/>
                        <p:cNvSpPr/>
                        <p:nvPr/>
                      </p:nvSpPr>
                      <p:spPr>
                        <a:xfrm rot="2372400">
                          <a:off x="3981960" y="3015720"/>
                          <a:ext cx="123480" cy="11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6" h="144">
                              <a:moveTo>
                                <a:pt x="156" y="134"/>
                              </a:moveTo>
                              <a:lnTo>
                                <a:pt x="145" y="60"/>
                              </a:lnTo>
                              <a:lnTo>
                                <a:pt x="11" y="81"/>
                              </a:lnTo>
                              <a:lnTo>
                                <a:pt x="0" y="10"/>
                              </a:lnTo>
                              <a:lnTo>
                                <a:pt x="64" y="0"/>
                              </a:lnTo>
                              <a:lnTo>
                                <a:pt x="85" y="144"/>
                              </a:lnTo>
                              <a:lnTo>
                                <a:pt x="156" y="1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3" name="Freeform 1461"/>
                        <p:cNvSpPr/>
                        <p:nvPr/>
                      </p:nvSpPr>
                      <p:spPr>
                        <a:xfrm rot="2372400">
                          <a:off x="3935160" y="2989800"/>
                          <a:ext cx="123120" cy="11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7" h="145">
                              <a:moveTo>
                                <a:pt x="157" y="133"/>
                              </a:moveTo>
                              <a:lnTo>
                                <a:pt x="146" y="60"/>
                              </a:lnTo>
                              <a:lnTo>
                                <a:pt x="11" y="81"/>
                              </a:lnTo>
                              <a:lnTo>
                                <a:pt x="0" y="11"/>
                              </a:lnTo>
                              <a:lnTo>
                                <a:pt x="66" y="0"/>
                              </a:lnTo>
                              <a:lnTo>
                                <a:pt x="86" y="145"/>
                              </a:lnTo>
                              <a:lnTo>
                                <a:pt x="157" y="1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4" name="Freeform 1462"/>
                        <p:cNvSpPr/>
                        <p:nvPr/>
                      </p:nvSpPr>
                      <p:spPr>
                        <a:xfrm rot="2372400">
                          <a:off x="4495680" y="3044520"/>
                          <a:ext cx="215640" cy="341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1" h="430">
                              <a:moveTo>
                                <a:pt x="271" y="387"/>
                              </a:moveTo>
                              <a:lnTo>
                                <a:pt x="132" y="262"/>
                              </a:lnTo>
                              <a:lnTo>
                                <a:pt x="48" y="0"/>
                              </a:lnTo>
                              <a:lnTo>
                                <a:pt x="0" y="12"/>
                              </a:lnTo>
                              <a:lnTo>
                                <a:pt x="55" y="281"/>
                              </a:lnTo>
                              <a:lnTo>
                                <a:pt x="194" y="430"/>
                              </a:lnTo>
                              <a:lnTo>
                                <a:pt x="271" y="38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5" name="Freeform 1463"/>
                        <p:cNvSpPr/>
                        <p:nvPr/>
                      </p:nvSpPr>
                      <p:spPr>
                        <a:xfrm rot="2372400">
                          <a:off x="3884760" y="3581280"/>
                          <a:ext cx="44748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4" h="68">
                              <a:moveTo>
                                <a:pt x="564" y="33"/>
                              </a:moveTo>
                              <a:lnTo>
                                <a:pt x="315" y="68"/>
                              </a:lnTo>
                              <a:lnTo>
                                <a:pt x="136" y="28"/>
                              </a:lnTo>
                              <a:lnTo>
                                <a:pt x="6" y="49"/>
                              </a:lnTo>
                              <a:lnTo>
                                <a:pt x="0" y="19"/>
                              </a:lnTo>
                              <a:lnTo>
                                <a:pt x="130" y="0"/>
                              </a:lnTo>
                              <a:lnTo>
                                <a:pt x="318" y="41"/>
                              </a:lnTo>
                              <a:lnTo>
                                <a:pt x="536" y="7"/>
                              </a:lnTo>
                              <a:lnTo>
                                <a:pt x="564" y="3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6" name="Freeform 1464"/>
                        <p:cNvSpPr/>
                        <p:nvPr/>
                      </p:nvSpPr>
                      <p:spPr>
                        <a:xfrm rot="2372400">
                          <a:off x="3937320" y="3156120"/>
                          <a:ext cx="155160" cy="28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7" h="363">
                              <a:moveTo>
                                <a:pt x="160" y="363"/>
                              </a:moveTo>
                              <a:lnTo>
                                <a:pt x="140" y="245"/>
                              </a:lnTo>
                              <a:lnTo>
                                <a:pt x="17" y="134"/>
                              </a:lnTo>
                              <a:lnTo>
                                <a:pt x="0" y="13"/>
                              </a:lnTo>
                              <a:lnTo>
                                <a:pt x="33" y="0"/>
                              </a:lnTo>
                              <a:lnTo>
                                <a:pt x="50" y="124"/>
                              </a:lnTo>
                              <a:lnTo>
                                <a:pt x="175" y="239"/>
                              </a:lnTo>
                              <a:lnTo>
                                <a:pt x="197" y="355"/>
                              </a:lnTo>
                              <a:lnTo>
                                <a:pt x="160" y="36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7" name="Freeform 1465"/>
                        <p:cNvSpPr/>
                        <p:nvPr/>
                      </p:nvSpPr>
                      <p:spPr>
                        <a:xfrm rot="2372400">
                          <a:off x="3992040" y="3188520"/>
                          <a:ext cx="153720" cy="28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364">
                              <a:moveTo>
                                <a:pt x="153" y="364"/>
                              </a:moveTo>
                              <a:lnTo>
                                <a:pt x="136" y="240"/>
                              </a:lnTo>
                              <a:lnTo>
                                <a:pt x="17" y="127"/>
                              </a:lnTo>
                              <a:lnTo>
                                <a:pt x="0" y="12"/>
                              </a:lnTo>
                              <a:lnTo>
                                <a:pt x="45" y="0"/>
                              </a:lnTo>
                              <a:lnTo>
                                <a:pt x="59" y="120"/>
                              </a:lnTo>
                              <a:lnTo>
                                <a:pt x="175" y="234"/>
                              </a:lnTo>
                              <a:lnTo>
                                <a:pt x="194" y="362"/>
                              </a:lnTo>
                              <a:lnTo>
                                <a:pt x="153" y="3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8" name="Freeform 1466"/>
                        <p:cNvSpPr/>
                        <p:nvPr/>
                      </p:nvSpPr>
                      <p:spPr>
                        <a:xfrm rot="2372400">
                          <a:off x="4044240" y="3226680"/>
                          <a:ext cx="158040" cy="30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380">
                              <a:moveTo>
                                <a:pt x="154" y="367"/>
                              </a:moveTo>
                              <a:lnTo>
                                <a:pt x="138" y="238"/>
                              </a:lnTo>
                              <a:lnTo>
                                <a:pt x="17" y="116"/>
                              </a:lnTo>
                              <a:lnTo>
                                <a:pt x="0" y="2"/>
                              </a:lnTo>
                              <a:lnTo>
                                <a:pt x="38" y="0"/>
                              </a:lnTo>
                              <a:lnTo>
                                <a:pt x="52" y="106"/>
                              </a:lnTo>
                              <a:lnTo>
                                <a:pt x="178" y="232"/>
                              </a:lnTo>
                              <a:lnTo>
                                <a:pt x="199" y="380"/>
                              </a:lnTo>
                              <a:lnTo>
                                <a:pt x="154" y="36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9" name="Freeform 1467"/>
                        <p:cNvSpPr/>
                        <p:nvPr/>
                      </p:nvSpPr>
                      <p:spPr>
                        <a:xfrm rot="2372400">
                          <a:off x="4274280" y="3403440"/>
                          <a:ext cx="125280" cy="10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7" h="135">
                              <a:moveTo>
                                <a:pt x="157" y="91"/>
                              </a:moveTo>
                              <a:lnTo>
                                <a:pt x="42" y="44"/>
                              </a:lnTo>
                              <a:lnTo>
                                <a:pt x="12" y="72"/>
                              </a:lnTo>
                              <a:lnTo>
                                <a:pt x="0" y="135"/>
                              </a:lnTo>
                              <a:lnTo>
                                <a:pt x="35" y="84"/>
                              </a:lnTo>
                              <a:lnTo>
                                <a:pt x="94" y="6"/>
                              </a:lnTo>
                              <a:lnTo>
                                <a:pt x="133" y="0"/>
                              </a:lnTo>
                              <a:lnTo>
                                <a:pt x="103" y="44"/>
                              </a:lnTo>
                              <a:lnTo>
                                <a:pt x="157" y="9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0" name="Freeform 1468"/>
                        <p:cNvSpPr/>
                        <p:nvPr/>
                      </p:nvSpPr>
                      <p:spPr>
                        <a:xfrm rot="2372400">
                          <a:off x="4093200" y="3250080"/>
                          <a:ext cx="161640" cy="331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418">
                              <a:moveTo>
                                <a:pt x="165" y="408"/>
                              </a:moveTo>
                              <a:lnTo>
                                <a:pt x="142" y="244"/>
                              </a:lnTo>
                              <a:lnTo>
                                <a:pt x="17" y="123"/>
                              </a:lnTo>
                              <a:lnTo>
                                <a:pt x="0" y="10"/>
                              </a:lnTo>
                              <a:lnTo>
                                <a:pt x="34" y="0"/>
                              </a:lnTo>
                              <a:lnTo>
                                <a:pt x="51" y="110"/>
                              </a:lnTo>
                              <a:lnTo>
                                <a:pt x="174" y="232"/>
                              </a:lnTo>
                              <a:lnTo>
                                <a:pt x="204" y="418"/>
                              </a:lnTo>
                              <a:lnTo>
                                <a:pt x="165" y="40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1" name="Freeform 1469"/>
                        <p:cNvSpPr/>
                        <p:nvPr/>
                      </p:nvSpPr>
                      <p:spPr>
                        <a:xfrm rot="2372400">
                          <a:off x="4235040" y="3545640"/>
                          <a:ext cx="80640" cy="52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2" h="67">
                              <a:moveTo>
                                <a:pt x="102" y="67"/>
                              </a:moveTo>
                              <a:lnTo>
                                <a:pt x="0" y="15"/>
                              </a:lnTo>
                              <a:lnTo>
                                <a:pt x="102" y="0"/>
                              </a:lnTo>
                              <a:lnTo>
                                <a:pt x="70" y="25"/>
                              </a:lnTo>
                              <a:lnTo>
                                <a:pt x="102" y="6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32" name="Freeform 1470"/>
                      <p:cNvSpPr/>
                      <p:nvPr/>
                    </p:nvSpPr>
                    <p:spPr>
                      <a:xfrm rot="2372400">
                        <a:off x="4415400" y="3500280"/>
                        <a:ext cx="229680" cy="408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9" h="514">
                            <a:moveTo>
                              <a:pt x="102" y="0"/>
                            </a:moveTo>
                            <a:lnTo>
                              <a:pt x="0" y="272"/>
                            </a:lnTo>
                            <a:lnTo>
                              <a:pt x="186" y="514"/>
                            </a:lnTo>
                            <a:lnTo>
                              <a:pt x="289" y="237"/>
                            </a:lnTo>
                            <a:lnTo>
                              <a:pt x="102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158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733" name="Group 1471"/>
              <p:cNvGrpSpPr/>
              <p:nvPr/>
            </p:nvGrpSpPr>
            <p:grpSpPr>
              <a:xfrm>
                <a:off x="3277080" y="1705320"/>
                <a:ext cx="2845080" cy="2885760"/>
                <a:chOff x="3277080" y="1705320"/>
                <a:chExt cx="2845080" cy="2885760"/>
              </a:xfrm>
            </p:grpSpPr>
            <p:sp>
              <p:nvSpPr>
                <p:cNvPr id="734" name="Freeform 1472"/>
                <p:cNvSpPr/>
                <p:nvPr/>
              </p:nvSpPr>
              <p:spPr>
                <a:xfrm rot="2593800">
                  <a:off x="3919320" y="1901160"/>
                  <a:ext cx="1560240" cy="2493720"/>
                </a:xfrm>
                <a:custGeom>
                  <a:avLst/>
                  <a:gdLst/>
                  <a:ahLst/>
                  <a:rect l="l" t="t" r="r" b="b"/>
                  <a:pathLst>
                    <a:path w="1968" h="3140">
                      <a:moveTo>
                        <a:pt x="0" y="150"/>
                      </a:moveTo>
                      <a:lnTo>
                        <a:pt x="8" y="86"/>
                      </a:lnTo>
                      <a:lnTo>
                        <a:pt x="28" y="38"/>
                      </a:lnTo>
                      <a:lnTo>
                        <a:pt x="69" y="11"/>
                      </a:lnTo>
                      <a:lnTo>
                        <a:pt x="128" y="0"/>
                      </a:lnTo>
                      <a:lnTo>
                        <a:pt x="1816" y="0"/>
                      </a:lnTo>
                      <a:lnTo>
                        <a:pt x="1876" y="5"/>
                      </a:lnTo>
                      <a:lnTo>
                        <a:pt x="1926" y="33"/>
                      </a:lnTo>
                      <a:lnTo>
                        <a:pt x="1957" y="86"/>
                      </a:lnTo>
                      <a:lnTo>
                        <a:pt x="1968" y="161"/>
                      </a:lnTo>
                      <a:lnTo>
                        <a:pt x="1968" y="2965"/>
                      </a:lnTo>
                      <a:lnTo>
                        <a:pt x="1966" y="3040"/>
                      </a:lnTo>
                      <a:lnTo>
                        <a:pt x="1952" y="3084"/>
                      </a:lnTo>
                      <a:lnTo>
                        <a:pt x="1921" y="3117"/>
                      </a:lnTo>
                      <a:lnTo>
                        <a:pt x="1886" y="3139"/>
                      </a:lnTo>
                      <a:lnTo>
                        <a:pt x="110" y="3140"/>
                      </a:lnTo>
                      <a:lnTo>
                        <a:pt x="62" y="3128"/>
                      </a:lnTo>
                      <a:lnTo>
                        <a:pt x="28" y="3101"/>
                      </a:lnTo>
                      <a:lnTo>
                        <a:pt x="8" y="3068"/>
                      </a:lnTo>
                      <a:lnTo>
                        <a:pt x="0" y="3009"/>
                      </a:lnTo>
                      <a:lnTo>
                        <a:pt x="0" y="1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1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5" name="Group 1473"/>
                <p:cNvGrpSpPr/>
                <p:nvPr/>
              </p:nvGrpSpPr>
              <p:grpSpPr>
                <a:xfrm>
                  <a:off x="4349160" y="1819440"/>
                  <a:ext cx="742320" cy="2630520"/>
                  <a:chOff x="4349160" y="1819440"/>
                  <a:chExt cx="742320" cy="2630520"/>
                </a:xfrm>
              </p:grpSpPr>
              <p:sp>
                <p:nvSpPr>
                  <p:cNvPr id="736" name="Freeform 1474"/>
                  <p:cNvSpPr/>
                  <p:nvPr/>
                </p:nvSpPr>
                <p:spPr>
                  <a:xfrm rot="2593800">
                    <a:off x="4526640" y="2862000"/>
                    <a:ext cx="338040" cy="57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5" h="720">
                        <a:moveTo>
                          <a:pt x="215" y="0"/>
                        </a:moveTo>
                        <a:lnTo>
                          <a:pt x="0" y="360"/>
                        </a:lnTo>
                        <a:lnTo>
                          <a:pt x="220" y="720"/>
                        </a:lnTo>
                        <a:lnTo>
                          <a:pt x="425" y="360"/>
                        </a:lnTo>
                        <a:lnTo>
                          <a:pt x="215" y="0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Freeform 1475"/>
                  <p:cNvSpPr/>
                  <p:nvPr/>
                </p:nvSpPr>
                <p:spPr>
                  <a:xfrm rot="2593800">
                    <a:off x="4695120" y="2024640"/>
                    <a:ext cx="150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316">
                        <a:moveTo>
                          <a:pt x="100" y="0"/>
                        </a:moveTo>
                        <a:lnTo>
                          <a:pt x="0" y="157"/>
                        </a:lnTo>
                        <a:lnTo>
                          <a:pt x="105" y="316"/>
                        </a:lnTo>
                        <a:lnTo>
                          <a:pt x="189" y="152"/>
                        </a:lnTo>
                        <a:lnTo>
                          <a:pt x="10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Freeform 1476"/>
                  <p:cNvSpPr/>
                  <p:nvPr/>
                </p:nvSpPr>
                <p:spPr>
                  <a:xfrm rot="2593800">
                    <a:off x="4591440" y="3980520"/>
                    <a:ext cx="14292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327">
                        <a:moveTo>
                          <a:pt x="89" y="0"/>
                        </a:moveTo>
                        <a:lnTo>
                          <a:pt x="0" y="169"/>
                        </a:lnTo>
                        <a:lnTo>
                          <a:pt x="95" y="327"/>
                        </a:lnTo>
                        <a:lnTo>
                          <a:pt x="179" y="169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58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9" name="Group 1477"/>
                  <p:cNvGrpSpPr/>
                  <p:nvPr/>
                </p:nvGrpSpPr>
                <p:grpSpPr>
                  <a:xfrm>
                    <a:off x="4834440" y="1819440"/>
                    <a:ext cx="257040" cy="261360"/>
                    <a:chOff x="4834440" y="1819440"/>
                    <a:chExt cx="257040" cy="261360"/>
                  </a:xfrm>
                </p:grpSpPr>
                <p:sp>
                  <p:nvSpPr>
                    <p:cNvPr id="740" name="Freeform 1478"/>
                    <p:cNvSpPr/>
                    <p:nvPr/>
                  </p:nvSpPr>
                  <p:spPr>
                    <a:xfrm rot="2593800">
                      <a:off x="4895280" y="1834200"/>
                      <a:ext cx="13500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293">
                          <a:moveTo>
                            <a:pt x="52" y="290"/>
                          </a:moveTo>
                          <a:lnTo>
                            <a:pt x="0" y="290"/>
                          </a:lnTo>
                          <a:lnTo>
                            <a:pt x="41" y="0"/>
                          </a:lnTo>
                          <a:lnTo>
                            <a:pt x="127" y="0"/>
                          </a:lnTo>
                          <a:lnTo>
                            <a:pt x="170" y="293"/>
                          </a:lnTo>
                          <a:lnTo>
                            <a:pt x="112" y="293"/>
                          </a:lnTo>
                          <a:lnTo>
                            <a:pt x="102" y="240"/>
                          </a:lnTo>
                          <a:lnTo>
                            <a:pt x="65" y="240"/>
                          </a:lnTo>
                          <a:lnTo>
                            <a:pt x="52" y="29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Freeform 1479"/>
                    <p:cNvSpPr/>
                    <p:nvPr/>
                  </p:nvSpPr>
                  <p:spPr>
                    <a:xfrm rot="2593800">
                      <a:off x="4957200" y="1892160"/>
                      <a:ext cx="2700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118">
                          <a:moveTo>
                            <a:pt x="36" y="118"/>
                          </a:moveTo>
                          <a:lnTo>
                            <a:pt x="0" y="115"/>
                          </a:lnTo>
                          <a:lnTo>
                            <a:pt x="19" y="0"/>
                          </a:lnTo>
                          <a:lnTo>
                            <a:pt x="36" y="11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2" name="Group 1480"/>
                  <p:cNvGrpSpPr/>
                  <p:nvPr/>
                </p:nvGrpSpPr>
                <p:grpSpPr>
                  <a:xfrm>
                    <a:off x="4349160" y="4188600"/>
                    <a:ext cx="257040" cy="261360"/>
                    <a:chOff x="4349160" y="4188600"/>
                    <a:chExt cx="257040" cy="261360"/>
                  </a:xfrm>
                </p:grpSpPr>
                <p:sp>
                  <p:nvSpPr>
                    <p:cNvPr id="743" name="Freeform 1481"/>
                    <p:cNvSpPr/>
                    <p:nvPr/>
                  </p:nvSpPr>
                  <p:spPr>
                    <a:xfrm rot="2593800">
                      <a:off x="4410000" y="4203360"/>
                      <a:ext cx="13500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292">
                          <a:moveTo>
                            <a:pt x="51" y="3"/>
                          </a:moveTo>
                          <a:lnTo>
                            <a:pt x="0" y="3"/>
                          </a:lnTo>
                          <a:lnTo>
                            <a:pt x="39" y="292"/>
                          </a:lnTo>
                          <a:lnTo>
                            <a:pt x="126" y="292"/>
                          </a:lnTo>
                          <a:lnTo>
                            <a:pt x="170" y="0"/>
                          </a:lnTo>
                          <a:lnTo>
                            <a:pt x="111" y="0"/>
                          </a:lnTo>
                          <a:lnTo>
                            <a:pt x="101" y="52"/>
                          </a:lnTo>
                          <a:lnTo>
                            <a:pt x="65" y="52"/>
                          </a:lnTo>
                          <a:lnTo>
                            <a:pt x="51" y="3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Freeform 1482"/>
                    <p:cNvSpPr/>
                    <p:nvPr/>
                  </p:nvSpPr>
                  <p:spPr>
                    <a:xfrm rot="2593800">
                      <a:off x="4453560" y="4281480"/>
                      <a:ext cx="2844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119">
                          <a:moveTo>
                            <a:pt x="35" y="0"/>
                          </a:moveTo>
                          <a:lnTo>
                            <a:pt x="0" y="4"/>
                          </a:lnTo>
                          <a:lnTo>
                            <a:pt x="18" y="119"/>
                          </a:lnTo>
                          <a:lnTo>
                            <a:pt x="3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45" name="Rectangle 1510"/>
          <p:cNvSpPr/>
          <p:nvPr/>
        </p:nvSpPr>
        <p:spPr>
          <a:xfrm>
            <a:off x="2666880" y="990720"/>
            <a:ext cx="3581640" cy="3657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511"/>
          <p:cNvSpPr/>
          <p:nvPr/>
        </p:nvSpPr>
        <p:spPr>
          <a:xfrm>
            <a:off x="685800" y="838080"/>
            <a:ext cx="7772400" cy="426744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54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ertionSort ( ElementType A[ ]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j, 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Type  T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P = 1; P &lt; N; P++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 = A[ P ];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the next coming car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j = P; j &gt; 0 &amp;&amp; A[ j - 1 ] &gt; Tmp; j--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 j ] = A[ j - 1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shift sorted cards to provide a 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for the new coming car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 j ] = Tmp;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place the new card at the proper posit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end for-P-loop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1512"/>
          <p:cNvSpPr/>
          <p:nvPr/>
        </p:nvSpPr>
        <p:spPr>
          <a:xfrm>
            <a:off x="609480" y="5181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worst ca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513"/>
          <p:cNvSpPr/>
          <p:nvPr/>
        </p:nvSpPr>
        <p:spPr>
          <a:xfrm>
            <a:off x="2590920" y="51814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[ ] is in reverse order.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1514"/>
          <p:cNvSpPr/>
          <p:nvPr/>
        </p:nvSpPr>
        <p:spPr>
          <a:xfrm>
            <a:off x="609480" y="55627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est ca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1515"/>
          <p:cNvSpPr/>
          <p:nvPr/>
        </p:nvSpPr>
        <p:spPr>
          <a:xfrm>
            <a:off x="2590920" y="556272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put A[ ] is in sorted order.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516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527"/>
          <p:cNvSpPr/>
          <p:nvPr/>
        </p:nvSpPr>
        <p:spPr>
          <a:xfrm>
            <a:off x="304920" y="1522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3  A Lower Bound for Simple Sorting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528"/>
          <p:cNvSpPr/>
          <p:nvPr/>
        </p:nvSpPr>
        <p:spPr>
          <a:xfrm>
            <a:off x="380880" y="762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vers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an array of numbers is any ordered pair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having the property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t A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&gt; A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529"/>
          <p:cNvSpPr/>
          <p:nvPr/>
        </p:nvSpPr>
        <p:spPr>
          <a:xfrm>
            <a:off x="380880" y="2133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list 34, 8, 64, 51, 32, 21 has     inver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530"/>
          <p:cNvSpPr/>
          <p:nvPr/>
        </p:nvSpPr>
        <p:spPr>
          <a:xfrm>
            <a:off x="658800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531"/>
          <p:cNvSpPr/>
          <p:nvPr/>
        </p:nvSpPr>
        <p:spPr>
          <a:xfrm>
            <a:off x="533520" y="25909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4, 8) (34, 32) (34, 21) (64, 51) (64, 32) (64, 21) (51, 32) (51, 21) (32, 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532"/>
          <p:cNvSpPr/>
          <p:nvPr/>
        </p:nvSpPr>
        <p:spPr>
          <a:xfrm>
            <a:off x="533520" y="3124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here are       swaps needed to sort this list by insertion s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533"/>
          <p:cNvSpPr/>
          <p:nvPr/>
        </p:nvSpPr>
        <p:spPr>
          <a:xfrm>
            <a:off x="198108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534"/>
          <p:cNvSpPr/>
          <p:nvPr/>
        </p:nvSpPr>
        <p:spPr>
          <a:xfrm>
            <a:off x="990720" y="3733920"/>
            <a:ext cx="7086600" cy="1143000"/>
          </a:xfrm>
          <a:prstGeom prst="wedgeEllipseCallout">
            <a:avLst>
              <a:gd name="adj1" fmla="val -32550"/>
              <a:gd name="adj2" fmla="val -71666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pping two adjacent elements that are out of place removes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xactly o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ver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535"/>
          <p:cNvSpPr/>
          <p:nvPr/>
        </p:nvSpPr>
        <p:spPr>
          <a:xfrm>
            <a:off x="609480" y="4952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) = O(              ) whe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is the number of inversions in the original ar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36"/>
          <p:cNvSpPr/>
          <p:nvPr/>
        </p:nvSpPr>
        <p:spPr>
          <a:xfrm>
            <a:off x="2438280" y="495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AutoShape 537"/>
          <p:cNvSpPr/>
          <p:nvPr/>
        </p:nvSpPr>
        <p:spPr>
          <a:xfrm>
            <a:off x="3657600" y="5410080"/>
            <a:ext cx="4876920" cy="762120"/>
          </a:xfrm>
          <a:prstGeom prst="wedgeEllipseCallout">
            <a:avLst>
              <a:gd name="adj1" fmla="val -56967"/>
              <a:gd name="adj2" fmla="val -7604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st if the list is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lmost sor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538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6629400" y="0"/>
            <a:ext cx="25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A Lower Bo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80880" y="380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verage number of inversions in an array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stinct numbers is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1 ) / 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380880" y="1295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algorithm that sorts by exchanging adjacent elements requires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me on ave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Group 5"/>
          <p:cNvGrpSpPr/>
          <p:nvPr/>
        </p:nvGrpSpPr>
        <p:grpSpPr>
          <a:xfrm>
            <a:off x="3200400" y="4362840"/>
            <a:ext cx="2438280" cy="2270880"/>
            <a:chOff x="3200400" y="4362840"/>
            <a:chExt cx="2438280" cy="2270880"/>
          </a:xfrm>
        </p:grpSpPr>
        <p:grpSp>
          <p:nvGrpSpPr>
            <p:cNvPr id="768" name="Group 6"/>
            <p:cNvGrpSpPr/>
            <p:nvPr/>
          </p:nvGrpSpPr>
          <p:grpSpPr>
            <a:xfrm>
              <a:off x="4130280" y="5077440"/>
              <a:ext cx="930600" cy="490320"/>
              <a:chOff x="4130280" y="5077440"/>
              <a:chExt cx="930600" cy="490320"/>
            </a:xfrm>
          </p:grpSpPr>
          <p:grpSp>
            <p:nvGrpSpPr>
              <p:cNvPr id="769" name="Group 7"/>
              <p:cNvGrpSpPr/>
              <p:nvPr/>
            </p:nvGrpSpPr>
            <p:grpSpPr>
              <a:xfrm>
                <a:off x="4130280" y="5235840"/>
                <a:ext cx="303840" cy="331920"/>
                <a:chOff x="4130280" y="5235840"/>
                <a:chExt cx="303840" cy="331920"/>
              </a:xfrm>
            </p:grpSpPr>
            <p:sp>
              <p:nvSpPr>
                <p:cNvPr id="770" name="Freeform 8"/>
                <p:cNvSpPr/>
                <p:nvPr/>
              </p:nvSpPr>
              <p:spPr>
                <a:xfrm flipH="1" rot="4723800">
                  <a:off x="4137840" y="5275440"/>
                  <a:ext cx="288360" cy="252360"/>
                </a:xfrm>
                <a:custGeom>
                  <a:avLst/>
                  <a:gdLst/>
                  <a:ahLst/>
                  <a:rect l="l" t="t" r="r" b="b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Arc 9"/>
                <p:cNvSpPr/>
                <p:nvPr/>
              </p:nvSpPr>
              <p:spPr>
                <a:xfrm flipH="1" rot="4723800">
                  <a:off x="4244760" y="5499360"/>
                  <a:ext cx="6840" cy="16560"/>
                </a:xfrm>
                <a:custGeom>
                  <a:avLst/>
                  <a:gdLst/>
                  <a:ahLst/>
                  <a:rect l="l" t="t" r="r" b="b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" name="Rectangle 10"/>
              <p:cNvSpPr/>
              <p:nvPr/>
            </p:nvSpPr>
            <p:spPr>
              <a:xfrm flipH="1" rot="4723800">
                <a:off x="4230360" y="5332320"/>
                <a:ext cx="241560" cy="4392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Freeform 11"/>
              <p:cNvSpPr/>
              <p:nvPr/>
            </p:nvSpPr>
            <p:spPr>
              <a:xfrm flipH="1" rot="4723800">
                <a:off x="4549680" y="4938480"/>
                <a:ext cx="286200" cy="693360"/>
              </a:xfrm>
              <a:custGeom>
                <a:avLst/>
                <a:gdLst/>
                <a:ahLst/>
                <a:rect l="l" t="t" r="r" b="b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12"/>
            <p:cNvGrpSpPr/>
            <p:nvPr/>
          </p:nvGrpSpPr>
          <p:grpSpPr>
            <a:xfrm>
              <a:off x="4765320" y="6444720"/>
              <a:ext cx="709200" cy="139680"/>
              <a:chOff x="4765320" y="6444720"/>
              <a:chExt cx="709200" cy="139680"/>
            </a:xfrm>
          </p:grpSpPr>
          <p:sp>
            <p:nvSpPr>
              <p:cNvPr id="775" name="Freeform 13"/>
              <p:cNvSpPr/>
              <p:nvPr/>
            </p:nvSpPr>
            <p:spPr>
              <a:xfrm flipH="1">
                <a:off x="4764960" y="6444720"/>
                <a:ext cx="449640" cy="116280"/>
              </a:xfrm>
              <a:custGeom>
                <a:avLst/>
                <a:gdLst/>
                <a:ahLst/>
                <a:rect l="l" t="t" r="r" b="b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Freeform 14"/>
              <p:cNvSpPr/>
              <p:nvPr/>
            </p:nvSpPr>
            <p:spPr>
              <a:xfrm flipH="1">
                <a:off x="5024520" y="6472080"/>
                <a:ext cx="449640" cy="112320"/>
              </a:xfrm>
              <a:custGeom>
                <a:avLst/>
                <a:gdLst/>
                <a:ahLst/>
                <a:rect l="l" t="t" r="r" b="b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Freeform 15"/>
            <p:cNvSpPr/>
            <p:nvPr/>
          </p:nvSpPr>
          <p:spPr>
            <a:xfrm flipH="1">
              <a:off x="4876920" y="5747040"/>
              <a:ext cx="420840" cy="715320"/>
            </a:xfrm>
            <a:custGeom>
              <a:avLst/>
              <a:gdLst/>
              <a:ahLst/>
              <a:rect l="l" t="t" r="r" b="b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16"/>
            <p:cNvSpPr/>
            <p:nvPr/>
          </p:nvSpPr>
          <p:spPr>
            <a:xfrm flipH="1">
              <a:off x="5039640" y="5709240"/>
              <a:ext cx="485640" cy="792000"/>
            </a:xfrm>
            <a:custGeom>
              <a:avLst/>
              <a:gdLst/>
              <a:ahLst/>
              <a:rect l="l" t="t" r="r" b="b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17"/>
            <p:cNvSpPr/>
            <p:nvPr/>
          </p:nvSpPr>
          <p:spPr>
            <a:xfrm flipH="1">
              <a:off x="4779720" y="5106240"/>
              <a:ext cx="175680" cy="619200"/>
            </a:xfrm>
            <a:custGeom>
              <a:avLst/>
              <a:gdLst/>
              <a:ahLst/>
              <a:rect l="l" t="t" r="r" b="b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Group 18"/>
            <p:cNvGrpSpPr/>
            <p:nvPr/>
          </p:nvGrpSpPr>
          <p:grpSpPr>
            <a:xfrm>
              <a:off x="4767840" y="5099760"/>
              <a:ext cx="86760" cy="646920"/>
              <a:chOff x="4767840" y="5099760"/>
              <a:chExt cx="86760" cy="646920"/>
            </a:xfrm>
          </p:grpSpPr>
          <p:sp>
            <p:nvSpPr>
              <p:cNvPr id="781" name="Freeform 19"/>
              <p:cNvSpPr/>
              <p:nvPr/>
            </p:nvSpPr>
            <p:spPr>
              <a:xfrm flipH="1">
                <a:off x="4767840" y="5145120"/>
                <a:ext cx="79200" cy="601560"/>
              </a:xfrm>
              <a:custGeom>
                <a:avLst/>
                <a:gdLst/>
                <a:ahLst/>
                <a:rect l="l" t="t" r="r" b="b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Arc 20"/>
              <p:cNvSpPr/>
              <p:nvPr/>
            </p:nvSpPr>
            <p:spPr>
              <a:xfrm flipH="1">
                <a:off x="4826520" y="5099760"/>
                <a:ext cx="28080" cy="58680"/>
              </a:xfrm>
              <a:custGeom>
                <a:avLst/>
                <a:gdLst/>
                <a:ahLst/>
                <a:rect l="l" t="t" r="r" b="b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0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0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Freeform 21"/>
            <p:cNvSpPr/>
            <p:nvPr/>
          </p:nvSpPr>
          <p:spPr>
            <a:xfrm flipH="1">
              <a:off x="4808520" y="4937400"/>
              <a:ext cx="830160" cy="931680"/>
            </a:xfrm>
            <a:custGeom>
              <a:avLst/>
              <a:gdLst/>
              <a:ahLst/>
              <a:rect l="l" t="t" r="r" b="b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22"/>
            <p:cNvSpPr/>
            <p:nvPr/>
          </p:nvSpPr>
          <p:spPr>
            <a:xfrm flipH="1">
              <a:off x="4834800" y="4951080"/>
              <a:ext cx="177120" cy="767160"/>
            </a:xfrm>
            <a:custGeom>
              <a:avLst/>
              <a:gdLst/>
              <a:ahLst/>
              <a:rect l="l" t="t" r="r" b="b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Group 23"/>
            <p:cNvGrpSpPr/>
            <p:nvPr/>
          </p:nvGrpSpPr>
          <p:grpSpPr>
            <a:xfrm>
              <a:off x="4382640" y="4362840"/>
              <a:ext cx="708120" cy="870120"/>
              <a:chOff x="4382640" y="4362840"/>
              <a:chExt cx="708120" cy="870120"/>
            </a:xfrm>
          </p:grpSpPr>
          <p:grpSp>
            <p:nvGrpSpPr>
              <p:cNvPr id="786" name="Group 24"/>
              <p:cNvGrpSpPr/>
              <p:nvPr/>
            </p:nvGrpSpPr>
            <p:grpSpPr>
              <a:xfrm>
                <a:off x="4382640" y="4362840"/>
                <a:ext cx="708120" cy="870120"/>
                <a:chOff x="4382640" y="4362840"/>
                <a:chExt cx="708120" cy="870120"/>
              </a:xfrm>
            </p:grpSpPr>
            <p:grpSp>
              <p:nvGrpSpPr>
                <p:cNvPr id="787" name="Group 25"/>
                <p:cNvGrpSpPr/>
                <p:nvPr/>
              </p:nvGrpSpPr>
              <p:grpSpPr>
                <a:xfrm>
                  <a:off x="4382640" y="4362840"/>
                  <a:ext cx="708120" cy="870120"/>
                  <a:chOff x="4382640" y="4362840"/>
                  <a:chExt cx="708120" cy="870120"/>
                </a:xfrm>
              </p:grpSpPr>
              <p:sp>
                <p:nvSpPr>
                  <p:cNvPr id="788" name="Freeform 26"/>
                  <p:cNvSpPr/>
                  <p:nvPr/>
                </p:nvSpPr>
                <p:spPr>
                  <a:xfrm flipH="1" rot="20579400">
                    <a:off x="4481280" y="4420800"/>
                    <a:ext cx="509760" cy="75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Freeform 27"/>
                  <p:cNvSpPr/>
                  <p:nvPr/>
                </p:nvSpPr>
                <p:spPr>
                  <a:xfrm flipH="1" rot="20579400">
                    <a:off x="4597920" y="4965480"/>
                    <a:ext cx="7884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Arc 28"/>
                  <p:cNvSpPr/>
                  <p:nvPr/>
                </p:nvSpPr>
                <p:spPr>
                  <a:xfrm flipH="1" rot="20579400">
                    <a:off x="4896720" y="4631040"/>
                    <a:ext cx="374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0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0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1" name="Freeform 29"/>
                <p:cNvSpPr/>
                <p:nvPr/>
              </p:nvSpPr>
              <p:spPr>
                <a:xfrm flipH="1" rot="20579400">
                  <a:off x="4543920" y="4411440"/>
                  <a:ext cx="382320" cy="327600"/>
                </a:xfrm>
                <a:custGeom>
                  <a:avLst/>
                  <a:gdLst/>
                  <a:ahLst/>
                  <a:rect l="l" t="t" r="r" b="b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2" name="Freeform 30"/>
              <p:cNvSpPr/>
              <p:nvPr/>
            </p:nvSpPr>
            <p:spPr>
              <a:xfrm flipH="1" rot="20579400">
                <a:off x="4789440" y="4944600"/>
                <a:ext cx="215280" cy="249120"/>
              </a:xfrm>
              <a:custGeom>
                <a:avLst/>
                <a:gdLst/>
                <a:ahLst/>
                <a:rect l="l" t="t" r="r" b="b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31"/>
              <p:cNvSpPr/>
              <p:nvPr/>
            </p:nvSpPr>
            <p:spPr>
              <a:xfrm flipH="1" rot="20579400">
                <a:off x="4823640" y="4938120"/>
                <a:ext cx="179280" cy="249120"/>
              </a:xfrm>
              <a:custGeom>
                <a:avLst/>
                <a:gdLst/>
                <a:ahLst/>
                <a:rect l="l" t="t" r="r" b="b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4" name="Group 32"/>
              <p:cNvGrpSpPr/>
              <p:nvPr/>
            </p:nvGrpSpPr>
            <p:grpSpPr>
              <a:xfrm>
                <a:off x="4515120" y="4670280"/>
                <a:ext cx="333360" cy="165600"/>
                <a:chOff x="4515120" y="4670280"/>
                <a:chExt cx="333360" cy="165600"/>
              </a:xfrm>
            </p:grpSpPr>
            <p:sp>
              <p:nvSpPr>
                <p:cNvPr id="795" name="Freeform 33"/>
                <p:cNvSpPr/>
                <p:nvPr/>
              </p:nvSpPr>
              <p:spPr>
                <a:xfrm flipH="1" rot="20579400">
                  <a:off x="4539240" y="4690080"/>
                  <a:ext cx="92520" cy="11880"/>
                </a:xfrm>
                <a:custGeom>
                  <a:avLst/>
                  <a:gdLst/>
                  <a:ahLst/>
                  <a:rect l="l" t="t" r="r" b="b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Oval 34"/>
                <p:cNvSpPr/>
                <p:nvPr/>
              </p:nvSpPr>
              <p:spPr>
                <a:xfrm flipH="1" rot="20579400">
                  <a:off x="4534200" y="4679280"/>
                  <a:ext cx="85320" cy="14724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Line 35"/>
                <p:cNvSpPr/>
                <p:nvPr/>
              </p:nvSpPr>
              <p:spPr>
                <a:xfrm flipH="1">
                  <a:off x="4615920" y="4673520"/>
                  <a:ext cx="232560" cy="7200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8" name="Group 36"/>
                <p:cNvGrpSpPr/>
                <p:nvPr/>
              </p:nvGrpSpPr>
              <p:grpSpPr>
                <a:xfrm>
                  <a:off x="4549680" y="4739400"/>
                  <a:ext cx="40320" cy="57240"/>
                  <a:chOff x="4549680" y="4739400"/>
                  <a:chExt cx="40320" cy="57240"/>
                </a:xfrm>
              </p:grpSpPr>
              <p:sp>
                <p:nvSpPr>
                  <p:cNvPr id="799" name="Oval 37"/>
                  <p:cNvSpPr/>
                  <p:nvPr/>
                </p:nvSpPr>
                <p:spPr>
                  <a:xfrm flipH="1" rot="20579400">
                    <a:off x="4556520" y="4741920"/>
                    <a:ext cx="26280" cy="518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Oval 38"/>
                  <p:cNvSpPr/>
                  <p:nvPr/>
                </p:nvSpPr>
                <p:spPr>
                  <a:xfrm flipH="1" rot="20579400">
                    <a:off x="4558680" y="4748400"/>
                    <a:ext cx="14760" cy="29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01" name="Group 39"/>
            <p:cNvGrpSpPr/>
            <p:nvPr/>
          </p:nvGrpSpPr>
          <p:grpSpPr>
            <a:xfrm>
              <a:off x="4177800" y="5006880"/>
              <a:ext cx="990720" cy="414720"/>
              <a:chOff x="4177800" y="5006880"/>
              <a:chExt cx="990720" cy="414720"/>
            </a:xfrm>
          </p:grpSpPr>
          <p:grpSp>
            <p:nvGrpSpPr>
              <p:cNvPr id="802" name="Group 40"/>
              <p:cNvGrpSpPr/>
              <p:nvPr/>
            </p:nvGrpSpPr>
            <p:grpSpPr>
              <a:xfrm>
                <a:off x="4177800" y="5006880"/>
                <a:ext cx="291600" cy="322920"/>
                <a:chOff x="4177800" y="5006880"/>
                <a:chExt cx="291600" cy="322920"/>
              </a:xfrm>
            </p:grpSpPr>
            <p:sp>
              <p:nvSpPr>
                <p:cNvPr id="803" name="Freeform 41"/>
                <p:cNvSpPr/>
                <p:nvPr/>
              </p:nvSpPr>
              <p:spPr>
                <a:xfrm flipH="1" rot="5914800">
                  <a:off x="4179240" y="5042520"/>
                  <a:ext cx="288720" cy="251280"/>
                </a:xfrm>
                <a:custGeom>
                  <a:avLst/>
                  <a:gdLst/>
                  <a:ahLst/>
                  <a:rect l="l" t="t" r="r" b="b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Arc 42"/>
                <p:cNvSpPr/>
                <p:nvPr/>
              </p:nvSpPr>
              <p:spPr>
                <a:xfrm flipH="1" rot="5914800">
                  <a:off x="4251600" y="5248440"/>
                  <a:ext cx="7920" cy="1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Group 43"/>
              <p:cNvGrpSpPr/>
              <p:nvPr/>
            </p:nvGrpSpPr>
            <p:grpSpPr>
              <a:xfrm>
                <a:off x="4391640" y="5030640"/>
                <a:ext cx="776880" cy="390960"/>
                <a:chOff x="4391640" y="5030640"/>
                <a:chExt cx="776880" cy="390960"/>
              </a:xfrm>
            </p:grpSpPr>
            <p:sp>
              <p:nvSpPr>
                <p:cNvPr id="806" name="Rectangle 44"/>
                <p:cNvSpPr/>
                <p:nvPr/>
              </p:nvSpPr>
              <p:spPr>
                <a:xfrm flipH="1" rot="5914800">
                  <a:off x="4311000" y="5155200"/>
                  <a:ext cx="241200" cy="4536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 rot="5914800">
                  <a:off x="4648320" y="4866840"/>
                  <a:ext cx="286920" cy="718200"/>
                </a:xfrm>
                <a:custGeom>
                  <a:avLst/>
                  <a:gdLst/>
                  <a:ahLst/>
                  <a:rect l="l" t="t" r="r" b="b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808" name="Object 46" descr=""/>
            <p:cNvPicPr/>
            <p:nvPr/>
          </p:nvPicPr>
          <p:blipFill>
            <a:blip r:embed="rId1"/>
            <a:stretch/>
          </p:blipFill>
          <p:spPr>
            <a:xfrm>
              <a:off x="3200400" y="5074560"/>
              <a:ext cx="1609200" cy="155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9" name="AutoShape 47"/>
          <p:cNvSpPr/>
          <p:nvPr/>
        </p:nvSpPr>
        <p:spPr>
          <a:xfrm flipH="1">
            <a:off x="609480" y="2209680"/>
            <a:ext cx="6019920" cy="1676520"/>
          </a:xfrm>
          <a:prstGeom prst="cloudCallout">
            <a:avLst>
              <a:gd name="adj1" fmla="val -1083"/>
              <a:gd name="adj2" fmla="val 119222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es this theorem tell you?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48"/>
          <p:cNvSpPr/>
          <p:nvPr/>
        </p:nvSpPr>
        <p:spPr>
          <a:xfrm>
            <a:off x="1143000" y="2057400"/>
            <a:ext cx="7162920" cy="1828800"/>
          </a:xfrm>
          <a:prstGeom prst="cloudCallout">
            <a:avLst>
              <a:gd name="adj1" fmla="val 907"/>
              <a:gd name="adj2" fmla="val 79861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 class of algorithms that perfor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ly adjacent exchanges, we’ll have to 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time to sort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49"/>
          <p:cNvSpPr/>
          <p:nvPr/>
        </p:nvSpPr>
        <p:spPr>
          <a:xfrm flipH="1">
            <a:off x="532800" y="2133720"/>
            <a:ext cx="5562360" cy="1676160"/>
          </a:xfrm>
          <a:prstGeom prst="cloudCallout">
            <a:avLst>
              <a:gd name="adj1" fmla="val -6282"/>
              <a:gd name="adj2" fmla="val 123009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at 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you speed it u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50"/>
          <p:cNvSpPr/>
          <p:nvPr/>
        </p:nvSpPr>
        <p:spPr>
          <a:xfrm>
            <a:off x="3657600" y="2057400"/>
            <a:ext cx="4800600" cy="1371600"/>
          </a:xfrm>
          <a:prstGeom prst="cloudCallout">
            <a:avLst>
              <a:gd name="adj1" fmla="val -27379"/>
              <a:gd name="adj2" fmla="val 122685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hhh… hash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51"/>
          <p:cNvSpPr/>
          <p:nvPr/>
        </p:nvSpPr>
        <p:spPr>
          <a:xfrm flipH="1">
            <a:off x="532800" y="2133720"/>
            <a:ext cx="5562360" cy="1828800"/>
          </a:xfrm>
          <a:prstGeom prst="cloudCallout">
            <a:avLst>
              <a:gd name="adj1" fmla="val -6138"/>
              <a:gd name="adj2" fmla="val 110152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y!  We are talking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parison-bas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or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must do comparisons, an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52"/>
          <p:cNvSpPr/>
          <p:nvPr/>
        </p:nvSpPr>
        <p:spPr>
          <a:xfrm>
            <a:off x="3809880" y="2209680"/>
            <a:ext cx="4800600" cy="1371600"/>
          </a:xfrm>
          <a:prstGeom prst="cloudCallout">
            <a:avLst>
              <a:gd name="adj1" fmla="val -32638"/>
              <a:gd name="adj2" fmla="val 111111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swaps el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are far apar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53"/>
          <p:cNvSpPr/>
          <p:nvPr/>
        </p:nvSpPr>
        <p:spPr>
          <a:xfrm flipH="1">
            <a:off x="609480" y="2133720"/>
            <a:ext cx="5562720" cy="1828800"/>
          </a:xfrm>
          <a:prstGeom prst="cloudCallout">
            <a:avLst>
              <a:gd name="adj1" fmla="val -4884"/>
              <a:gd name="adj2" fmla="val 111106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rt guy!  To run faster, we ju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 to eliminat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more than ju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o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nversion per ex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54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8" dur="1" fill="hold"/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Microsoft Office User</cp:lastModifiedBy>
  <dcterms:modified xsi:type="dcterms:W3CDTF">2021-12-06T01:40:30Z</dcterms:modified>
  <cp:revision>145</cp:revision>
  <dc:subject/>
  <dc:title>没有幻灯片标题</dc:title>
</cp:coreProperties>
</file>