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4.wmf" ContentType="image/x-wmf"/>
  <Override PartName="/ppt/media/TYPE.WAV" ContentType="audio/x-wav"/>
  <Override PartName="/ppt/media/image2.jpeg" ContentType="image/jpeg"/>
  <Override PartName="/ppt/media/image3.jpeg" ContentType="image/jpeg"/>
  <Override PartName="/ppt/media/WHOOSH.WAV" ContentType="audio/x-wav"/>
  <Override PartName="/ppt/media/CHIMES.WAV" ContentType="audio/x-wav"/>
  <Override PartName="/ppt/media/PROJCTO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F772-A370-427A-9B98-CE3B0508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注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注意报告匿名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（学在浙大有删除用户信息的各种方法）：包括文件属性、文件名、代码注释、截图。。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606-94F4-47CF-9BDF-23486EA2E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EAD-BC14-42B0-B913-69775028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064-E7FD-45F6-A0F0-14D17A94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221-3451-4140-A485-B811F3A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D63-15A6-4015-9160-0D26F47F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D6D-E3DB-44AC-AFA5-47A7C2BA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C0F-130A-435C-BCD5-4B675C9C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1F2E-F856-418D-918D-63E1A30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E6F-88D3-42AB-AE12-98D68BBD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539-FB39-4BC5-B2E9-337DC28F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CCFF-FCA8-4EAE-A440-CC52E2E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7BC-62B7-407A-8247-ACC833F0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CB0-B22D-4407-81B1-AE5F83C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E649-B470-4FD3-9B9E-6A9B5FBBD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3049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3   Compare th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609480" y="838080"/>
            <a:ext cx="7772400" cy="926280"/>
            <a:chOff x="609480" y="838080"/>
            <a:chExt cx="7772400" cy="926280"/>
          </a:xfrm>
        </p:grpSpPr>
        <p:sp>
          <p:nvSpPr>
            <p:cNvPr id="50" name="Text Box 3"/>
            <p:cNvSpPr/>
            <p:nvPr/>
          </p:nvSpPr>
          <p:spPr>
            <a:xfrm>
              <a:off x="609480" y="838080"/>
              <a:ext cx="7772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〖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Exampl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〗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Given (possibly negative) integer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MS Hei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MS Hei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, …,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A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  <a:ea typeface="MS Hei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MS Hei"/>
                </a:rPr>
                <a:t>, find the maximum valu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Object 4"/>
                <p:cNvSpPr txBox="1"/>
                <p:nvPr/>
              </p:nvSpPr>
              <p:spPr>
                <a:xfrm>
                  <a:off x="5099040" y="1190520"/>
                  <a:ext cx="9968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AutoShape 6"/>
          <p:cNvSpPr/>
          <p:nvPr/>
        </p:nvSpPr>
        <p:spPr>
          <a:xfrm>
            <a:off x="5791320" y="1981080"/>
            <a:ext cx="3124080" cy="1295640"/>
          </a:xfrm>
          <a:prstGeom prst="wedgeEllipseCallout">
            <a:avLst>
              <a:gd name="adj1" fmla="val -45782"/>
              <a:gd name="adj2" fmla="val -8137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 sum is 0 if all the integers are nega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762120" y="1752480"/>
            <a:ext cx="175248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lgorithm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62120" y="2362320"/>
            <a:ext cx="7619760" cy="4114800"/>
          </a:xfrm>
          <a:prstGeom prst="foldedCorner">
            <a:avLst>
              <a:gd name="adj" fmla="val 583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xSubsequenceSum 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[ ],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hisSum,  MaxSum,  i,  j,  k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1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Sum = 0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initialize the maximum 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2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0; i &lt; N; i++ )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tart from A[ i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3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j = i; j &lt; N; j++ ) {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at A[ j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4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Sum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5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k = i; k &lt;= j; k++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6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ThisSum += A[ k ]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um from A[ i ] to A[ j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7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hisSum &gt; MaxSum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8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MaxSum = ThisSum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update max 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for-j and for-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9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xSu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6200" y="5943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5257800" y="3733920"/>
            <a:ext cx="2819520" cy="1218960"/>
          </a:xfrm>
          <a:prstGeom prst="wedgeEllipseCallout">
            <a:avLst>
              <a:gd name="adj1" fmla="val -32152"/>
              <a:gd name="adj2" fmla="val 13984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ed analysis is given on p.18-1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2819520" y="1905120"/>
            <a:ext cx="2895480" cy="22860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819520" y="1905120"/>
            <a:ext cx="2286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2819520" y="1905120"/>
            <a:ext cx="4572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819520" y="1905120"/>
            <a:ext cx="6858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2819520" y="1905120"/>
            <a:ext cx="289548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048120" y="1905120"/>
            <a:ext cx="2286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3048120" y="1905120"/>
            <a:ext cx="4572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9"/>
          <p:cNvSpPr/>
          <p:nvPr/>
        </p:nvSpPr>
        <p:spPr>
          <a:xfrm>
            <a:off x="3048120" y="1905120"/>
            <a:ext cx="266688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057400" y="3809880"/>
            <a:ext cx="3124080" cy="1143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3276720" y="1905120"/>
            <a:ext cx="457200" cy="228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2"/>
          <p:cNvSpPr/>
          <p:nvPr/>
        </p:nvSpPr>
        <p:spPr>
          <a:xfrm>
            <a:off x="3733920" y="1905120"/>
            <a:ext cx="228600" cy="228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609480" y="609480"/>
            <a:ext cx="175284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lgorith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638680" y="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Compare th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609480" y="1371600"/>
            <a:ext cx="7620120" cy="4343400"/>
          </a:xfrm>
          <a:prstGeom prst="foldedCorner">
            <a:avLst>
              <a:gd name="adj" fmla="val 583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xSubsequenceSum 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[ ],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hisSum,  MaxSum,  i,  j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1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Sum = 0;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initialize the maximum 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2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 = 0; i &lt; N; i++ )  {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tart from A[ i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3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ThisSum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4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j = i; j &lt; N; j++ ) {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at A[ j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5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Sum += A[ j ]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sum from A[ i ] to A[ j ]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6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hisSum &gt; MaxSum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7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MaxSum = ThisSum;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update max sum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/* end for-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for-i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8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MaxSu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429000" y="5791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638680" y="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Compare th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533520" y="457200"/>
            <a:ext cx="175248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lgorithm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38280" y="533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 and 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5867280" y="685800"/>
            <a:ext cx="2133720" cy="1522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6019920" y="914400"/>
            <a:ext cx="6094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7315200" y="914400"/>
            <a:ext cx="45720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6172200" y="1066680"/>
            <a:ext cx="129528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934320" y="533520"/>
            <a:ext cx="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24"/>
          <p:cNvGrpSpPr/>
          <p:nvPr/>
        </p:nvGrpSpPr>
        <p:grpSpPr>
          <a:xfrm>
            <a:off x="1523880" y="1828800"/>
            <a:ext cx="5486400" cy="533520"/>
            <a:chOff x="1523880" y="1828800"/>
            <a:chExt cx="5486400" cy="533520"/>
          </a:xfrm>
        </p:grpSpPr>
        <p:sp>
          <p:nvSpPr>
            <p:cNvPr id="83" name="Rectangle 11"/>
            <p:cNvSpPr/>
            <p:nvPr/>
          </p:nvSpPr>
          <p:spPr>
            <a:xfrm>
              <a:off x="15238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22096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28954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35812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42670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49528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56386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6324480" y="1828800"/>
              <a:ext cx="6858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1523880" y="1828800"/>
              <a:ext cx="5486400" cy="53352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AutoShape 25"/>
          <p:cNvSpPr/>
          <p:nvPr/>
        </p:nvSpPr>
        <p:spPr>
          <a:xfrm>
            <a:off x="3962520" y="1143000"/>
            <a:ext cx="1523880" cy="457200"/>
          </a:xfrm>
          <a:prstGeom prst="wedgeRectCallout">
            <a:avLst>
              <a:gd name="adj1" fmla="val 95416"/>
              <a:gd name="adj2" fmla="val -61805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qu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26"/>
          <p:cNvSpPr/>
          <p:nvPr/>
        </p:nvSpPr>
        <p:spPr>
          <a:xfrm>
            <a:off x="7162920" y="1219320"/>
            <a:ext cx="1523880" cy="457200"/>
          </a:xfrm>
          <a:prstGeom prst="wedgeRectCallout">
            <a:avLst>
              <a:gd name="adj1" fmla="val -64583"/>
              <a:gd name="adj2" fmla="val -122916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7"/>
          <p:cNvSpPr/>
          <p:nvPr/>
        </p:nvSpPr>
        <p:spPr>
          <a:xfrm>
            <a:off x="4267080" y="18288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8"/>
          <p:cNvSpPr/>
          <p:nvPr/>
        </p:nvSpPr>
        <p:spPr>
          <a:xfrm>
            <a:off x="2895480" y="1828800"/>
            <a:ext cx="0" cy="53352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9"/>
          <p:cNvSpPr/>
          <p:nvPr/>
        </p:nvSpPr>
        <p:spPr>
          <a:xfrm>
            <a:off x="2209680" y="1828800"/>
            <a:ext cx="0" cy="5335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1523880" y="2514600"/>
            <a:ext cx="685800" cy="304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895480" y="2514600"/>
            <a:ext cx="685800" cy="304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3581280" y="1828800"/>
            <a:ext cx="0" cy="5335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1523880" y="2971800"/>
            <a:ext cx="1371600" cy="3049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2895480" y="2971800"/>
            <a:ext cx="685800" cy="3049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5"/>
          <p:cNvSpPr/>
          <p:nvPr/>
        </p:nvSpPr>
        <p:spPr>
          <a:xfrm>
            <a:off x="1523880" y="2971800"/>
            <a:ext cx="2057400" cy="304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6"/>
          <p:cNvSpPr/>
          <p:nvPr/>
        </p:nvSpPr>
        <p:spPr>
          <a:xfrm>
            <a:off x="5638680" y="1828800"/>
            <a:ext cx="0" cy="53352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7"/>
          <p:cNvSpPr/>
          <p:nvPr/>
        </p:nvSpPr>
        <p:spPr>
          <a:xfrm>
            <a:off x="4952880" y="1828800"/>
            <a:ext cx="0" cy="5335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8"/>
          <p:cNvSpPr/>
          <p:nvPr/>
        </p:nvSpPr>
        <p:spPr>
          <a:xfrm>
            <a:off x="4952880" y="2514600"/>
            <a:ext cx="685800" cy="304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9"/>
          <p:cNvSpPr/>
          <p:nvPr/>
        </p:nvSpPr>
        <p:spPr>
          <a:xfrm>
            <a:off x="5638680" y="2514600"/>
            <a:ext cx="685800" cy="3049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0"/>
          <p:cNvSpPr/>
          <p:nvPr/>
        </p:nvSpPr>
        <p:spPr>
          <a:xfrm>
            <a:off x="4952880" y="2971800"/>
            <a:ext cx="685800" cy="3049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5638680" y="2971800"/>
            <a:ext cx="685800" cy="304920"/>
          </a:xfrm>
          <a:prstGeom prst="rect">
            <a:avLst/>
          </a:pr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4952880" y="2971800"/>
            <a:ext cx="1371600" cy="30492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4"/>
          <p:cNvSpPr/>
          <p:nvPr/>
        </p:nvSpPr>
        <p:spPr>
          <a:xfrm>
            <a:off x="1523880" y="3429000"/>
            <a:ext cx="274320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4267080" y="3429000"/>
            <a:ext cx="2057400" cy="3049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6"/>
          <p:cNvSpPr/>
          <p:nvPr/>
        </p:nvSpPr>
        <p:spPr>
          <a:xfrm>
            <a:off x="1523880" y="3429000"/>
            <a:ext cx="480060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47"/>
          <p:cNvSpPr/>
          <p:nvPr/>
        </p:nvSpPr>
        <p:spPr>
          <a:xfrm>
            <a:off x="6324480" y="1828800"/>
            <a:ext cx="0" cy="5335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8"/>
          <p:cNvSpPr/>
          <p:nvPr/>
        </p:nvSpPr>
        <p:spPr>
          <a:xfrm>
            <a:off x="1066680" y="3962520"/>
            <a:ext cx="1524240" cy="761760"/>
          </a:xfrm>
          <a:prstGeom prst="wedgeEllipseCallout">
            <a:avLst>
              <a:gd name="adj1" fmla="val 45416"/>
              <a:gd name="adj2" fmla="val -13604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9"/>
          <p:cNvSpPr/>
          <p:nvPr/>
        </p:nvSpPr>
        <p:spPr>
          <a:xfrm>
            <a:off x="6019920" y="3962520"/>
            <a:ext cx="1523880" cy="761760"/>
          </a:xfrm>
          <a:prstGeom prst="wedgeEllipseCallout">
            <a:avLst>
              <a:gd name="adj1" fmla="val -73750"/>
              <a:gd name="adj2" fmla="val -13604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0"/>
          <p:cNvSpPr/>
          <p:nvPr/>
        </p:nvSpPr>
        <p:spPr>
          <a:xfrm>
            <a:off x="3657600" y="3962520"/>
            <a:ext cx="1523880" cy="761760"/>
          </a:xfrm>
          <a:prstGeom prst="wedgeEllipseCallout">
            <a:avLst>
              <a:gd name="adj1" fmla="val -23750"/>
              <a:gd name="adj2" fmla="val -71041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447920" y="48769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 )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= O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2209680" y="5257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[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]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4"/>
          <p:cNvSpPr/>
          <p:nvPr/>
        </p:nvSpPr>
        <p:spPr>
          <a:xfrm>
            <a:off x="2209680" y="563868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(1)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k N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5"/>
          <p:cNvSpPr/>
          <p:nvPr/>
        </p:nvSpPr>
        <p:spPr>
          <a:xfrm>
            <a:off x="2209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56"/>
          <p:cNvSpPr/>
          <p:nvPr/>
        </p:nvSpPr>
        <p:spPr>
          <a:xfrm>
            <a:off x="6324480" y="5029200"/>
            <a:ext cx="2286000" cy="1143000"/>
          </a:xfrm>
          <a:prstGeom prst="wedgeEllipseCallout">
            <a:avLst>
              <a:gd name="adj1" fmla="val -156388"/>
              <a:gd name="adj2" fmla="val 57083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so true f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7"/>
          <p:cNvSpPr/>
          <p:nvPr/>
        </p:nvSpPr>
        <p:spPr>
          <a:xfrm flipV="1">
            <a:off x="6324480" y="4799880"/>
            <a:ext cx="2286000" cy="1676520"/>
          </a:xfrm>
          <a:prstGeom prst="verticalScroll">
            <a:avLst>
              <a:gd name="adj" fmla="val 8708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rogram can be found on p.2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8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638680" y="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Compare th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3520" y="457200"/>
            <a:ext cx="1752480" cy="533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Algorithm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438280" y="533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-lin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33520" y="1066680"/>
            <a:ext cx="8001000" cy="4038840"/>
          </a:xfrm>
          <a:prstGeom prst="foldedCorner">
            <a:avLst>
              <a:gd name="adj" fmla="val 7833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xSubsequenceSum(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st 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A[ ],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N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hisSum, MaxSum, j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1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Sum = MaxSum =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2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j = 0; j &lt; N; j++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3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ThisSum += A[ j 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4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hisSum &gt; MaxSum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5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Sum = ThisSu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6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ThisSum &lt; 0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7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end for-j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/* 8*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xSu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609480" y="5318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609480" y="5775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[ ] is scanned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o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4"/>
          <p:cNvGrpSpPr/>
          <p:nvPr/>
        </p:nvGrpSpPr>
        <p:grpSpPr>
          <a:xfrm>
            <a:off x="4648320" y="2133720"/>
            <a:ext cx="3657600" cy="380880"/>
            <a:chOff x="4648320" y="2133720"/>
            <a:chExt cx="3657600" cy="380880"/>
          </a:xfrm>
        </p:grpSpPr>
        <p:sp>
          <p:nvSpPr>
            <p:cNvPr id="131" name="Rectangle 8"/>
            <p:cNvSpPr/>
            <p:nvPr/>
          </p:nvSpPr>
          <p:spPr>
            <a:xfrm>
              <a:off x="46483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1055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55627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60199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9"/>
            <p:cNvSpPr/>
            <p:nvPr/>
          </p:nvSpPr>
          <p:spPr>
            <a:xfrm>
              <a:off x="64771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69343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73915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7848720" y="2133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23"/>
            <p:cNvSpPr/>
            <p:nvPr/>
          </p:nvSpPr>
          <p:spPr>
            <a:xfrm>
              <a:off x="4648320" y="2133720"/>
              <a:ext cx="3657600" cy="380880"/>
            </a:xfrm>
            <a:prstGeom prst="rect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Rectangle 25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105520" y="25146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5562720" y="2514600"/>
            <a:ext cx="9144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64771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5105520" y="2133720"/>
            <a:ext cx="1828800" cy="380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3     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2     4     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69343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73915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5105520" y="2514600"/>
            <a:ext cx="1371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7"/>
          <p:cNvSpPr/>
          <p:nvPr/>
        </p:nvSpPr>
        <p:spPr>
          <a:xfrm>
            <a:off x="6934320" y="2514600"/>
            <a:ext cx="9144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8"/>
          <p:cNvSpPr/>
          <p:nvPr/>
        </p:nvSpPr>
        <p:spPr>
          <a:xfrm>
            <a:off x="7848720" y="2133720"/>
            <a:ext cx="457200" cy="3808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9"/>
          <p:cNvSpPr/>
          <p:nvPr/>
        </p:nvSpPr>
        <p:spPr>
          <a:xfrm>
            <a:off x="3048120" y="4343400"/>
            <a:ext cx="5638680" cy="1981080"/>
          </a:xfrm>
          <a:prstGeom prst="wedgeEllipseCallout">
            <a:avLst>
              <a:gd name="adj1" fmla="val 12666"/>
              <a:gd name="adj2" fmla="val -14399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 any point in time, the algorithm can correctly give an answer to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ubseque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roblem for the data it has already r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5638680" y="0"/>
            <a:ext cx="34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3  Compare the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447"/>
          <p:cNvGrpSpPr/>
          <p:nvPr/>
        </p:nvGrpSpPr>
        <p:grpSpPr>
          <a:xfrm>
            <a:off x="457200" y="685800"/>
            <a:ext cx="8153280" cy="3962520"/>
            <a:chOff x="457200" y="685800"/>
            <a:chExt cx="8153280" cy="3962520"/>
          </a:xfrm>
        </p:grpSpPr>
        <p:sp>
          <p:nvSpPr>
            <p:cNvPr id="158" name="AutoShape 89"/>
            <p:cNvSpPr/>
            <p:nvPr/>
          </p:nvSpPr>
          <p:spPr>
            <a:xfrm>
              <a:off x="457200" y="1600200"/>
              <a:ext cx="8153280" cy="3048120"/>
            </a:xfrm>
            <a:prstGeom prst="bevel">
              <a:avLst>
                <a:gd name="adj" fmla="val 4583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7086600" y="2592360"/>
              <a:ext cx="13716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03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0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3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304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298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5638680" y="2592360"/>
              <a:ext cx="144792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0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48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58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686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8.01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4267080" y="2592360"/>
              <a:ext cx="13716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0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11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.12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11.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5"/>
            <p:cNvSpPr/>
            <p:nvPr/>
          </p:nvSpPr>
          <p:spPr>
            <a:xfrm>
              <a:off x="2895480" y="2592360"/>
              <a:ext cx="13716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001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0.470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448.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4"/>
            <p:cNvSpPr/>
            <p:nvPr/>
          </p:nvSpPr>
          <p:spPr>
            <a:xfrm>
              <a:off x="609480" y="2592360"/>
              <a:ext cx="2286000" cy="19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7086600" y="2184480"/>
              <a:ext cx="13716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O(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5638680" y="2184480"/>
              <a:ext cx="14479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O(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log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4267080" y="2184480"/>
              <a:ext cx="13716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O(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Times New Roman"/>
                </a:rPr>
                <a:t>2</a:t>
              </a: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0"/>
            <p:cNvSpPr/>
            <p:nvPr/>
          </p:nvSpPr>
          <p:spPr>
            <a:xfrm>
              <a:off x="2895480" y="2184480"/>
              <a:ext cx="13716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O( </a:t>
              </a:r>
              <a:r>
                <a:rPr b="1" i="1" lang="en-US" sz="18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r>
                <a:rPr b="1" lang="en-US" sz="1800" spc="-1" strike="noStrike" baseline="30000">
                  <a:solidFill>
                    <a:srgbClr val="ffffcc"/>
                  </a:solidFill>
                  <a:latin typeface="Times New Roman"/>
                </a:rPr>
                <a:t>3</a:t>
              </a:r>
              <a:r>
                <a:rPr b="1" lang="en-US" sz="1800" spc="-1" strike="noStrike">
                  <a:solidFill>
                    <a:srgbClr val="ffffcc"/>
                  </a:solidFill>
                  <a:latin typeface="Times New Roman"/>
                </a:rPr>
                <a:t>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9"/>
            <p:cNvSpPr/>
            <p:nvPr/>
          </p:nvSpPr>
          <p:spPr>
            <a:xfrm>
              <a:off x="609480" y="2184480"/>
              <a:ext cx="22860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7086600" y="1778040"/>
              <a:ext cx="1371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5638680" y="1778040"/>
              <a:ext cx="1447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4267080" y="1778040"/>
              <a:ext cx="1371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2895480" y="1778040"/>
              <a:ext cx="13716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609480" y="1778040"/>
              <a:ext cx="22860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0"/>
            <p:cNvSpPr/>
            <p:nvPr/>
          </p:nvSpPr>
          <p:spPr>
            <a:xfrm>
              <a:off x="609480" y="2184480"/>
              <a:ext cx="78487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21"/>
            <p:cNvSpPr/>
            <p:nvPr/>
          </p:nvSpPr>
          <p:spPr>
            <a:xfrm>
              <a:off x="609480" y="2592360"/>
              <a:ext cx="7848720" cy="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2895480" y="1778040"/>
              <a:ext cx="0" cy="271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25"/>
            <p:cNvSpPr/>
            <p:nvPr/>
          </p:nvSpPr>
          <p:spPr>
            <a:xfrm>
              <a:off x="4267080" y="1778040"/>
              <a:ext cx="0" cy="271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6"/>
            <p:cNvSpPr/>
            <p:nvPr/>
          </p:nvSpPr>
          <p:spPr>
            <a:xfrm>
              <a:off x="5638680" y="1778040"/>
              <a:ext cx="0" cy="271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7086600" y="1778040"/>
              <a:ext cx="0" cy="2717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609480" y="1778040"/>
              <a:ext cx="784872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609480" y="1778040"/>
              <a:ext cx="0" cy="271764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8"/>
            <p:cNvSpPr/>
            <p:nvPr/>
          </p:nvSpPr>
          <p:spPr>
            <a:xfrm>
              <a:off x="8458200" y="1778040"/>
              <a:ext cx="0" cy="271764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09480" y="4495680"/>
              <a:ext cx="7848720" cy="0"/>
            </a:xfrm>
            <a:prstGeom prst="line">
              <a:avLst/>
            </a:prstGeom>
            <a:ln cap="sq"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53"/>
            <p:cNvSpPr/>
            <p:nvPr/>
          </p:nvSpPr>
          <p:spPr>
            <a:xfrm>
              <a:off x="1447920" y="2590920"/>
              <a:ext cx="14475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Times New Roman"/>
                </a:rPr>
                <a:t>N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=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Times New Roman"/>
                </a:rPr>
                <a:t>N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=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Times New Roman"/>
                </a:rPr>
                <a:t>N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=1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Times New Roman"/>
                </a:rPr>
                <a:t>N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=1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cc"/>
                  </a:solidFill>
                  <a:latin typeface="Times New Roman"/>
                </a:rPr>
                <a:t>N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=100,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52"/>
            <p:cNvSpPr/>
            <p:nvPr/>
          </p:nvSpPr>
          <p:spPr>
            <a:xfrm>
              <a:off x="609480" y="2590920"/>
              <a:ext cx="83844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put Siz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609480" y="2590920"/>
              <a:ext cx="838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609480" y="4495680"/>
              <a:ext cx="838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56"/>
            <p:cNvSpPr/>
            <p:nvPr/>
          </p:nvSpPr>
          <p:spPr>
            <a:xfrm>
              <a:off x="609480" y="2590920"/>
              <a:ext cx="0" cy="19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57"/>
            <p:cNvSpPr/>
            <p:nvPr/>
          </p:nvSpPr>
          <p:spPr>
            <a:xfrm>
              <a:off x="1447920" y="2590920"/>
              <a:ext cx="0" cy="190476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8"/>
            <p:cNvSpPr/>
            <p:nvPr/>
          </p:nvSpPr>
          <p:spPr>
            <a:xfrm>
              <a:off x="2895480" y="2590920"/>
              <a:ext cx="0" cy="1904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28"/>
            <p:cNvSpPr/>
            <p:nvPr/>
          </p:nvSpPr>
          <p:spPr>
            <a:xfrm>
              <a:off x="1447920" y="2590920"/>
              <a:ext cx="1447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29"/>
            <p:cNvSpPr/>
            <p:nvPr/>
          </p:nvSpPr>
          <p:spPr>
            <a:xfrm>
              <a:off x="1447920" y="4495680"/>
              <a:ext cx="1447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446"/>
            <p:cNvSpPr/>
            <p:nvPr/>
          </p:nvSpPr>
          <p:spPr>
            <a:xfrm>
              <a:off x="609480" y="68580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nning times of several algorithms for maximum subsequence sum (in second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AutoShape 448"/>
          <p:cNvSpPr/>
          <p:nvPr/>
        </p:nvSpPr>
        <p:spPr>
          <a:xfrm>
            <a:off x="1066680" y="5105520"/>
            <a:ext cx="6782040" cy="9144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: The time required to read the input is not inclu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49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57200" y="304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4   Logarithms in the Runn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33520" y="990720"/>
            <a:ext cx="6019560" cy="23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MS Hei"/>
              </a:rPr>
              <a:t>Binary Sear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He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He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Given:    A [0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A [1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……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A [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1] ;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MS He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Task:      Find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MS He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Output:   i      if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MS Hei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= =  A [ i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1    if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MS Hei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Hei"/>
              </a:rPr>
              <a:t>  is not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457200" y="3581280"/>
            <a:ext cx="8077320" cy="380880"/>
            <a:chOff x="457200" y="3581280"/>
            <a:chExt cx="8077320" cy="380880"/>
          </a:xfrm>
        </p:grpSpPr>
        <p:sp>
          <p:nvSpPr>
            <p:cNvPr id="199" name="Line 6"/>
            <p:cNvSpPr/>
            <p:nvPr/>
          </p:nvSpPr>
          <p:spPr>
            <a:xfrm>
              <a:off x="762120" y="3962160"/>
              <a:ext cx="746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V="1">
              <a:off x="762120" y="388584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8229600" y="388584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 flipV="1">
              <a:off x="4497480" y="3885840"/>
              <a:ext cx="0" cy="75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457200" y="35812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7924680" y="358128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4156200" y="35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13"/>
          <p:cNvSpPr/>
          <p:nvPr/>
        </p:nvSpPr>
        <p:spPr>
          <a:xfrm>
            <a:off x="2819520" y="419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MS Hei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 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14"/>
          <p:cNvGrpSpPr/>
          <p:nvPr/>
        </p:nvGrpSpPr>
        <p:grpSpPr>
          <a:xfrm>
            <a:off x="457200" y="5257800"/>
            <a:ext cx="3733920" cy="380880"/>
            <a:chOff x="457200" y="5257800"/>
            <a:chExt cx="3733920" cy="380880"/>
          </a:xfrm>
        </p:grpSpPr>
        <p:sp>
          <p:nvSpPr>
            <p:cNvPr id="208" name="Line 15"/>
            <p:cNvSpPr/>
            <p:nvPr/>
          </p:nvSpPr>
          <p:spPr>
            <a:xfrm>
              <a:off x="762120" y="5638680"/>
              <a:ext cx="301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6"/>
            <p:cNvSpPr/>
            <p:nvPr/>
          </p:nvSpPr>
          <p:spPr>
            <a:xfrm flipV="1">
              <a:off x="762120" y="556236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7"/>
            <p:cNvSpPr/>
            <p:nvPr/>
          </p:nvSpPr>
          <p:spPr>
            <a:xfrm flipV="1">
              <a:off x="3778200" y="556236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457200" y="52578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2286000" y="5257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gh = mid 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20"/>
          <p:cNvGrpSpPr/>
          <p:nvPr/>
        </p:nvGrpSpPr>
        <p:grpSpPr>
          <a:xfrm>
            <a:off x="4724280" y="5257800"/>
            <a:ext cx="3810240" cy="380880"/>
            <a:chOff x="4724280" y="5257800"/>
            <a:chExt cx="3810240" cy="380880"/>
          </a:xfrm>
        </p:grpSpPr>
        <p:sp>
          <p:nvSpPr>
            <p:cNvPr id="214" name="Line 21"/>
            <p:cNvSpPr/>
            <p:nvPr/>
          </p:nvSpPr>
          <p:spPr>
            <a:xfrm>
              <a:off x="5181480" y="5638680"/>
              <a:ext cx="3011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2"/>
            <p:cNvSpPr/>
            <p:nvPr/>
          </p:nvSpPr>
          <p:spPr>
            <a:xfrm flipV="1">
              <a:off x="5181480" y="556236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 flipV="1">
              <a:off x="8197920" y="5562360"/>
              <a:ext cx="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7924680" y="5257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4724280" y="52578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w= mid +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Text Box 26"/>
          <p:cNvSpPr/>
          <p:nvPr/>
        </p:nvSpPr>
        <p:spPr>
          <a:xfrm>
            <a:off x="167652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617220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3962520" y="4572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4419720" y="4952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0"/>
          <p:cNvSpPr/>
          <p:nvPr/>
        </p:nvSpPr>
        <p:spPr>
          <a:xfrm>
            <a:off x="3962520" y="5715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838080" y="533520"/>
            <a:ext cx="7391520" cy="5715000"/>
          </a:xfrm>
          <a:prstGeom prst="foldedCorner">
            <a:avLst>
              <a:gd name="adj" fmla="val 665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8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inarySearch (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n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lementType  A[ ]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mentType  X,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Low, Mid, High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1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= 0;  High = N -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2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Low &lt;= High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3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Mid = ( Low + High 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4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[ Mid ] &lt; X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5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= Mid +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6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A[ Mid ] &gt; X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7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High = Mid - 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8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Mid;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Found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end whil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9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otFound;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NotFound is defined as -1 *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029200" y="0"/>
            <a:ext cx="41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4  Logarithms in the Runn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5562720" y="1447920"/>
            <a:ext cx="2133360" cy="609480"/>
          </a:xfrm>
          <a:prstGeom prst="wedgeEllipseCallout">
            <a:avLst>
              <a:gd name="adj1" fmla="val -86013"/>
              <a:gd name="adj2" fmla="val 97134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523880" y="5715000"/>
            <a:ext cx="327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wor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O( lo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5562720" y="1600200"/>
            <a:ext cx="2438280" cy="25146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2514600"/>
              <a:gd name="textAreaBottom" fmla="*/ 2395800 h 2514600"/>
            </a:gdLst>
            <a:ahLst/>
            <a:rect l="textAreaLeft" t="textAreaTop" r="textAreaRight" b="textAreaBottom"/>
            <a:pathLst>
              <a:path w="21600" h="22276">
                <a:moveTo>
                  <a:pt x="3600" y="0"/>
                </a:moveTo>
                <a:arcTo wR="3600" hR="3600" stAng="16200000" swAng="-5400000"/>
                <a:lnTo>
                  <a:pt x="0" y="18676"/>
                </a:lnTo>
                <a:arcTo wR="3600" hR="3600" stAng="10800000" swAng="-5400000"/>
                <a:lnTo>
                  <a:pt x="18000" y="222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y useful in case the data ar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is in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or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rder (e.g. find words from a dictionar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066680" y="2057400"/>
            <a:ext cx="6858000" cy="32004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27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ome 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elf-study Euclid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nd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457200" y="471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5   Checking You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7"/>
          <p:cNvGrpSpPr/>
          <p:nvPr/>
        </p:nvGrpSpPr>
        <p:grpSpPr>
          <a:xfrm>
            <a:off x="685800" y="1355760"/>
            <a:ext cx="2209680" cy="685800"/>
            <a:chOff x="685800" y="1355760"/>
            <a:chExt cx="2209680" cy="685800"/>
          </a:xfrm>
        </p:grpSpPr>
        <p:sp>
          <p:nvSpPr>
            <p:cNvPr id="234" name="Form"/>
            <p:cNvSpPr/>
            <p:nvPr/>
          </p:nvSpPr>
          <p:spPr>
            <a:xfrm>
              <a:off x="685800" y="1355760"/>
              <a:ext cx="2209680" cy="685800"/>
            </a:xfrm>
            <a:custGeom>
              <a:avLst/>
              <a:gdLst>
                <a:gd name="textAreaLeft" fmla="*/ 484200 w 2209680"/>
                <a:gd name="textAreaRight" fmla="*/ 1986120 w 2209680"/>
                <a:gd name="textAreaTop" fmla="*/ 41040 h 685800"/>
                <a:gd name="textAreaBottom" fmla="*/ 5191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  <a:path w="21600" h="21600">
                  <a:moveTo>
                    <a:pt x="12840" y="18507"/>
                  </a:moveTo>
                  <a:lnTo>
                    <a:pt x="16051" y="18507"/>
                  </a:lnTo>
                  <a:lnTo>
                    <a:pt x="16051" y="19260"/>
                  </a:lnTo>
                  <a:lnTo>
                    <a:pt x="12840" y="19260"/>
                  </a:lnTo>
                  <a:lnTo>
                    <a:pt x="12840" y="18507"/>
                  </a:lnTo>
                  <a:close/>
                </a:path>
                <a:path w="21600" h="21600">
                  <a:moveTo>
                    <a:pt x="16731" y="18507"/>
                  </a:moveTo>
                  <a:lnTo>
                    <a:pt x="19941" y="18507"/>
                  </a:lnTo>
                  <a:lnTo>
                    <a:pt x="19941" y="19260"/>
                  </a:lnTo>
                  <a:lnTo>
                    <a:pt x="16731" y="19260"/>
                  </a:lnTo>
                  <a:lnTo>
                    <a:pt x="16731" y="18507"/>
                  </a:lnTo>
                  <a:close/>
                </a:path>
                <a:path w="21600" h="21600">
                  <a:moveTo>
                    <a:pt x="1913" y="1194"/>
                  </a:moveTo>
                  <a:lnTo>
                    <a:pt x="3699" y="1194"/>
                  </a:lnTo>
                  <a:lnTo>
                    <a:pt x="2678" y="1832"/>
                  </a:lnTo>
                  <a:lnTo>
                    <a:pt x="2296" y="1538"/>
                  </a:lnTo>
                  <a:lnTo>
                    <a:pt x="2125" y="1636"/>
                  </a:lnTo>
                  <a:lnTo>
                    <a:pt x="2700" y="2078"/>
                  </a:lnTo>
                  <a:lnTo>
                    <a:pt x="3699" y="1440"/>
                  </a:lnTo>
                  <a:lnTo>
                    <a:pt x="3699" y="2176"/>
                  </a:lnTo>
                  <a:lnTo>
                    <a:pt x="1913" y="2176"/>
                  </a:lnTo>
                  <a:lnTo>
                    <a:pt x="1913" y="1194"/>
                  </a:lnTo>
                  <a:close/>
                </a:path>
                <a:path w="21600" h="21600">
                  <a:moveTo>
                    <a:pt x="1913" y="2765"/>
                  </a:moveTo>
                  <a:lnTo>
                    <a:pt x="3699" y="2765"/>
                  </a:lnTo>
                  <a:lnTo>
                    <a:pt x="2678" y="3403"/>
                  </a:lnTo>
                  <a:lnTo>
                    <a:pt x="2296" y="3109"/>
                  </a:lnTo>
                  <a:lnTo>
                    <a:pt x="2125" y="3207"/>
                  </a:lnTo>
                  <a:lnTo>
                    <a:pt x="2700" y="3649"/>
                  </a:lnTo>
                  <a:lnTo>
                    <a:pt x="3699" y="3010"/>
                  </a:lnTo>
                  <a:lnTo>
                    <a:pt x="3699" y="3747"/>
                  </a:lnTo>
                  <a:lnTo>
                    <a:pt x="1913" y="3747"/>
                  </a:lnTo>
                  <a:lnTo>
                    <a:pt x="1913" y="2765"/>
                  </a:lnTo>
                  <a:close/>
                </a:path>
                <a:path w="21600" h="21600">
                  <a:moveTo>
                    <a:pt x="1913" y="4336"/>
                  </a:moveTo>
                  <a:lnTo>
                    <a:pt x="3699" y="4336"/>
                  </a:lnTo>
                  <a:lnTo>
                    <a:pt x="2678" y="4974"/>
                  </a:lnTo>
                  <a:lnTo>
                    <a:pt x="2296" y="4680"/>
                  </a:lnTo>
                  <a:lnTo>
                    <a:pt x="2125" y="4778"/>
                  </a:lnTo>
                  <a:lnTo>
                    <a:pt x="2700" y="5220"/>
                  </a:lnTo>
                  <a:lnTo>
                    <a:pt x="3699" y="4581"/>
                  </a:lnTo>
                  <a:lnTo>
                    <a:pt x="3699" y="5318"/>
                  </a:lnTo>
                  <a:lnTo>
                    <a:pt x="1913" y="5318"/>
                  </a:lnTo>
                  <a:lnTo>
                    <a:pt x="1913" y="4336"/>
                  </a:lnTo>
                  <a:close/>
                </a:path>
                <a:path w="21600" h="21600">
                  <a:moveTo>
                    <a:pt x="1913" y="5907"/>
                  </a:moveTo>
                  <a:lnTo>
                    <a:pt x="3699" y="5907"/>
                  </a:lnTo>
                  <a:lnTo>
                    <a:pt x="2678" y="6545"/>
                  </a:lnTo>
                  <a:lnTo>
                    <a:pt x="2296" y="6250"/>
                  </a:lnTo>
                  <a:lnTo>
                    <a:pt x="2125" y="6349"/>
                  </a:lnTo>
                  <a:lnTo>
                    <a:pt x="2700" y="6790"/>
                  </a:lnTo>
                  <a:lnTo>
                    <a:pt x="3699" y="6152"/>
                  </a:lnTo>
                  <a:lnTo>
                    <a:pt x="3699" y="6889"/>
                  </a:lnTo>
                  <a:lnTo>
                    <a:pt x="1913" y="6889"/>
                  </a:lnTo>
                  <a:lnTo>
                    <a:pt x="1913" y="5907"/>
                  </a:lnTo>
                  <a:close/>
                </a:path>
                <a:path w="21600" h="21600">
                  <a:moveTo>
                    <a:pt x="1913" y="7478"/>
                  </a:moveTo>
                  <a:lnTo>
                    <a:pt x="3699" y="7478"/>
                  </a:lnTo>
                  <a:lnTo>
                    <a:pt x="2678" y="8116"/>
                  </a:lnTo>
                  <a:lnTo>
                    <a:pt x="2296" y="7821"/>
                  </a:lnTo>
                  <a:lnTo>
                    <a:pt x="2125" y="7919"/>
                  </a:lnTo>
                  <a:lnTo>
                    <a:pt x="2700" y="8361"/>
                  </a:lnTo>
                  <a:lnTo>
                    <a:pt x="3699" y="7723"/>
                  </a:lnTo>
                  <a:lnTo>
                    <a:pt x="3699" y="8460"/>
                  </a:lnTo>
                  <a:lnTo>
                    <a:pt x="1913" y="8460"/>
                  </a:lnTo>
                  <a:lnTo>
                    <a:pt x="1913" y="7478"/>
                  </a:lnTo>
                  <a:close/>
                </a:path>
                <a:path w="21600" h="21600">
                  <a:moveTo>
                    <a:pt x="1913" y="9049"/>
                  </a:moveTo>
                  <a:lnTo>
                    <a:pt x="3699" y="9049"/>
                  </a:lnTo>
                  <a:lnTo>
                    <a:pt x="2678" y="9687"/>
                  </a:lnTo>
                  <a:lnTo>
                    <a:pt x="2296" y="9392"/>
                  </a:lnTo>
                  <a:lnTo>
                    <a:pt x="2125" y="9490"/>
                  </a:lnTo>
                  <a:lnTo>
                    <a:pt x="2700" y="9932"/>
                  </a:lnTo>
                  <a:lnTo>
                    <a:pt x="3699" y="9294"/>
                  </a:lnTo>
                  <a:lnTo>
                    <a:pt x="3699" y="10030"/>
                  </a:lnTo>
                  <a:lnTo>
                    <a:pt x="1913" y="10030"/>
                  </a:lnTo>
                  <a:lnTo>
                    <a:pt x="1913" y="9049"/>
                  </a:lnTo>
                  <a:close/>
                </a:path>
                <a:path w="21600" h="21600">
                  <a:moveTo>
                    <a:pt x="1913" y="10620"/>
                  </a:moveTo>
                  <a:lnTo>
                    <a:pt x="3699" y="10620"/>
                  </a:lnTo>
                  <a:lnTo>
                    <a:pt x="2678" y="11258"/>
                  </a:lnTo>
                  <a:lnTo>
                    <a:pt x="2296" y="10963"/>
                  </a:lnTo>
                  <a:lnTo>
                    <a:pt x="2125" y="11061"/>
                  </a:lnTo>
                  <a:lnTo>
                    <a:pt x="2700" y="11503"/>
                  </a:lnTo>
                  <a:lnTo>
                    <a:pt x="3699" y="10865"/>
                  </a:lnTo>
                  <a:lnTo>
                    <a:pt x="3699" y="11601"/>
                  </a:lnTo>
                  <a:lnTo>
                    <a:pt x="1913" y="11601"/>
                  </a:lnTo>
                  <a:lnTo>
                    <a:pt x="1913" y="10620"/>
                  </a:lnTo>
                  <a:close/>
                </a:path>
                <a:path w="21600" h="21600">
                  <a:moveTo>
                    <a:pt x="1913" y="12190"/>
                  </a:moveTo>
                  <a:lnTo>
                    <a:pt x="3699" y="12190"/>
                  </a:lnTo>
                  <a:lnTo>
                    <a:pt x="2678" y="12829"/>
                  </a:lnTo>
                  <a:lnTo>
                    <a:pt x="2296" y="12534"/>
                  </a:lnTo>
                  <a:lnTo>
                    <a:pt x="2125" y="12632"/>
                  </a:lnTo>
                  <a:lnTo>
                    <a:pt x="2700" y="13074"/>
                  </a:lnTo>
                  <a:lnTo>
                    <a:pt x="3699" y="12436"/>
                  </a:lnTo>
                  <a:lnTo>
                    <a:pt x="3699" y="13172"/>
                  </a:lnTo>
                  <a:lnTo>
                    <a:pt x="1913" y="13172"/>
                  </a:lnTo>
                  <a:lnTo>
                    <a:pt x="1913" y="12190"/>
                  </a:lnTo>
                  <a:close/>
                </a:path>
                <a:path w="21600" h="21600">
                  <a:moveTo>
                    <a:pt x="1913" y="13761"/>
                  </a:moveTo>
                  <a:lnTo>
                    <a:pt x="3699" y="13761"/>
                  </a:lnTo>
                  <a:lnTo>
                    <a:pt x="2678" y="14400"/>
                  </a:lnTo>
                  <a:lnTo>
                    <a:pt x="2296" y="14105"/>
                  </a:lnTo>
                  <a:lnTo>
                    <a:pt x="2125" y="14203"/>
                  </a:lnTo>
                  <a:lnTo>
                    <a:pt x="2700" y="14645"/>
                  </a:lnTo>
                  <a:lnTo>
                    <a:pt x="3699" y="14007"/>
                  </a:lnTo>
                  <a:lnTo>
                    <a:pt x="3699" y="14743"/>
                  </a:lnTo>
                  <a:lnTo>
                    <a:pt x="1913" y="14743"/>
                  </a:lnTo>
                  <a:lnTo>
                    <a:pt x="1913" y="13761"/>
                  </a:lnTo>
                  <a:close/>
                </a:path>
                <a:path w="21600" h="21600">
                  <a:moveTo>
                    <a:pt x="1913" y="15332"/>
                  </a:moveTo>
                  <a:lnTo>
                    <a:pt x="3699" y="15332"/>
                  </a:lnTo>
                  <a:lnTo>
                    <a:pt x="2678" y="15970"/>
                  </a:lnTo>
                  <a:lnTo>
                    <a:pt x="2296" y="15676"/>
                  </a:lnTo>
                  <a:lnTo>
                    <a:pt x="2125" y="15774"/>
                  </a:lnTo>
                  <a:lnTo>
                    <a:pt x="2700" y="16216"/>
                  </a:lnTo>
                  <a:lnTo>
                    <a:pt x="3699" y="15578"/>
                  </a:lnTo>
                  <a:lnTo>
                    <a:pt x="3699" y="16314"/>
                  </a:lnTo>
                  <a:lnTo>
                    <a:pt x="1913" y="16314"/>
                  </a:lnTo>
                  <a:lnTo>
                    <a:pt x="1913" y="15332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6"/>
            <p:cNvSpPr/>
            <p:nvPr/>
          </p:nvSpPr>
          <p:spPr>
            <a:xfrm>
              <a:off x="1218960" y="14320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ethod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8"/>
          <p:cNvSpPr/>
          <p:nvPr/>
        </p:nvSpPr>
        <p:spPr>
          <a:xfrm>
            <a:off x="3048120" y="1279440"/>
            <a:ext cx="5410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check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check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check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9"/>
          <p:cNvGrpSpPr/>
          <p:nvPr/>
        </p:nvGrpSpPr>
        <p:grpSpPr>
          <a:xfrm>
            <a:off x="609480" y="3540240"/>
            <a:ext cx="2209680" cy="685800"/>
            <a:chOff x="609480" y="3540240"/>
            <a:chExt cx="2209680" cy="685800"/>
          </a:xfrm>
        </p:grpSpPr>
        <p:sp>
          <p:nvSpPr>
            <p:cNvPr id="238" name="Form"/>
            <p:cNvSpPr/>
            <p:nvPr/>
          </p:nvSpPr>
          <p:spPr>
            <a:xfrm>
              <a:off x="609480" y="3540240"/>
              <a:ext cx="2209680" cy="685800"/>
            </a:xfrm>
            <a:custGeom>
              <a:avLst/>
              <a:gdLst>
                <a:gd name="textAreaLeft" fmla="*/ 484200 w 2209680"/>
                <a:gd name="textAreaRight" fmla="*/ 1986120 w 2209680"/>
                <a:gd name="textAreaTop" fmla="*/ 41040 h 685800"/>
                <a:gd name="textAreaBottom" fmla="*/ 51912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57" y="21632"/>
                  </a:moveTo>
                  <a:lnTo>
                    <a:pt x="5187" y="21632"/>
                  </a:lnTo>
                  <a:lnTo>
                    <a:pt x="85" y="17509"/>
                  </a:lnTo>
                  <a:lnTo>
                    <a:pt x="85" y="10849"/>
                  </a:lnTo>
                  <a:lnTo>
                    <a:pt x="85" y="81"/>
                  </a:lnTo>
                  <a:lnTo>
                    <a:pt x="10757" y="81"/>
                  </a:lnTo>
                  <a:lnTo>
                    <a:pt x="21706" y="81"/>
                  </a:lnTo>
                  <a:lnTo>
                    <a:pt x="21706" y="10652"/>
                  </a:lnTo>
                  <a:lnTo>
                    <a:pt x="21706" y="21632"/>
                  </a:lnTo>
                  <a:lnTo>
                    <a:pt x="10757" y="21632"/>
                  </a:lnTo>
                  <a:close/>
                </a:path>
                <a:path w="21600" h="21600">
                  <a:moveTo>
                    <a:pt x="85" y="17509"/>
                  </a:moveTo>
                  <a:lnTo>
                    <a:pt x="5187" y="17509"/>
                  </a:lnTo>
                  <a:lnTo>
                    <a:pt x="5187" y="21632"/>
                  </a:lnTo>
                  <a:lnTo>
                    <a:pt x="85" y="17509"/>
                  </a:lnTo>
                  <a:close/>
                </a:path>
                <a:path w="21600" h="21600">
                  <a:moveTo>
                    <a:pt x="12840" y="18507"/>
                  </a:moveTo>
                  <a:lnTo>
                    <a:pt x="16051" y="18507"/>
                  </a:lnTo>
                  <a:lnTo>
                    <a:pt x="16051" y="19260"/>
                  </a:lnTo>
                  <a:lnTo>
                    <a:pt x="12840" y="19260"/>
                  </a:lnTo>
                  <a:lnTo>
                    <a:pt x="12840" y="18507"/>
                  </a:lnTo>
                  <a:close/>
                </a:path>
                <a:path w="21600" h="21600">
                  <a:moveTo>
                    <a:pt x="16731" y="18507"/>
                  </a:moveTo>
                  <a:lnTo>
                    <a:pt x="19941" y="18507"/>
                  </a:lnTo>
                  <a:lnTo>
                    <a:pt x="19941" y="19260"/>
                  </a:lnTo>
                  <a:lnTo>
                    <a:pt x="16731" y="19260"/>
                  </a:lnTo>
                  <a:lnTo>
                    <a:pt x="16731" y="18507"/>
                  </a:lnTo>
                  <a:close/>
                </a:path>
                <a:path w="21600" h="21600">
                  <a:moveTo>
                    <a:pt x="1913" y="1194"/>
                  </a:moveTo>
                  <a:lnTo>
                    <a:pt x="3699" y="1194"/>
                  </a:lnTo>
                  <a:lnTo>
                    <a:pt x="2678" y="1832"/>
                  </a:lnTo>
                  <a:lnTo>
                    <a:pt x="2296" y="1538"/>
                  </a:lnTo>
                  <a:lnTo>
                    <a:pt x="2125" y="1636"/>
                  </a:lnTo>
                  <a:lnTo>
                    <a:pt x="2700" y="2078"/>
                  </a:lnTo>
                  <a:lnTo>
                    <a:pt x="3699" y="1440"/>
                  </a:lnTo>
                  <a:lnTo>
                    <a:pt x="3699" y="2176"/>
                  </a:lnTo>
                  <a:lnTo>
                    <a:pt x="1913" y="2176"/>
                  </a:lnTo>
                  <a:lnTo>
                    <a:pt x="1913" y="1194"/>
                  </a:lnTo>
                  <a:close/>
                </a:path>
                <a:path w="21600" h="21600">
                  <a:moveTo>
                    <a:pt x="1913" y="2765"/>
                  </a:moveTo>
                  <a:lnTo>
                    <a:pt x="3699" y="2765"/>
                  </a:lnTo>
                  <a:lnTo>
                    <a:pt x="2678" y="3403"/>
                  </a:lnTo>
                  <a:lnTo>
                    <a:pt x="2296" y="3109"/>
                  </a:lnTo>
                  <a:lnTo>
                    <a:pt x="2125" y="3207"/>
                  </a:lnTo>
                  <a:lnTo>
                    <a:pt x="2700" y="3649"/>
                  </a:lnTo>
                  <a:lnTo>
                    <a:pt x="3699" y="3010"/>
                  </a:lnTo>
                  <a:lnTo>
                    <a:pt x="3699" y="3747"/>
                  </a:lnTo>
                  <a:lnTo>
                    <a:pt x="1913" y="3747"/>
                  </a:lnTo>
                  <a:lnTo>
                    <a:pt x="1913" y="2765"/>
                  </a:lnTo>
                  <a:close/>
                </a:path>
                <a:path w="21600" h="21600">
                  <a:moveTo>
                    <a:pt x="1913" y="4336"/>
                  </a:moveTo>
                  <a:lnTo>
                    <a:pt x="3699" y="4336"/>
                  </a:lnTo>
                  <a:lnTo>
                    <a:pt x="2678" y="4974"/>
                  </a:lnTo>
                  <a:lnTo>
                    <a:pt x="2296" y="4680"/>
                  </a:lnTo>
                  <a:lnTo>
                    <a:pt x="2125" y="4778"/>
                  </a:lnTo>
                  <a:lnTo>
                    <a:pt x="2700" y="5220"/>
                  </a:lnTo>
                  <a:lnTo>
                    <a:pt x="3699" y="4581"/>
                  </a:lnTo>
                  <a:lnTo>
                    <a:pt x="3699" y="5318"/>
                  </a:lnTo>
                  <a:lnTo>
                    <a:pt x="1913" y="5318"/>
                  </a:lnTo>
                  <a:lnTo>
                    <a:pt x="1913" y="4336"/>
                  </a:lnTo>
                  <a:close/>
                </a:path>
                <a:path w="21600" h="21600">
                  <a:moveTo>
                    <a:pt x="1913" y="5907"/>
                  </a:moveTo>
                  <a:lnTo>
                    <a:pt x="3699" y="5907"/>
                  </a:lnTo>
                  <a:lnTo>
                    <a:pt x="2678" y="6545"/>
                  </a:lnTo>
                  <a:lnTo>
                    <a:pt x="2296" y="6250"/>
                  </a:lnTo>
                  <a:lnTo>
                    <a:pt x="2125" y="6349"/>
                  </a:lnTo>
                  <a:lnTo>
                    <a:pt x="2700" y="6790"/>
                  </a:lnTo>
                  <a:lnTo>
                    <a:pt x="3699" y="6152"/>
                  </a:lnTo>
                  <a:lnTo>
                    <a:pt x="3699" y="6889"/>
                  </a:lnTo>
                  <a:lnTo>
                    <a:pt x="1913" y="6889"/>
                  </a:lnTo>
                  <a:lnTo>
                    <a:pt x="1913" y="5907"/>
                  </a:lnTo>
                  <a:close/>
                </a:path>
                <a:path w="21600" h="21600">
                  <a:moveTo>
                    <a:pt x="1913" y="7478"/>
                  </a:moveTo>
                  <a:lnTo>
                    <a:pt x="3699" y="7478"/>
                  </a:lnTo>
                  <a:lnTo>
                    <a:pt x="2678" y="8116"/>
                  </a:lnTo>
                  <a:lnTo>
                    <a:pt x="2296" y="7821"/>
                  </a:lnTo>
                  <a:lnTo>
                    <a:pt x="2125" y="7919"/>
                  </a:lnTo>
                  <a:lnTo>
                    <a:pt x="2700" y="8361"/>
                  </a:lnTo>
                  <a:lnTo>
                    <a:pt x="3699" y="7723"/>
                  </a:lnTo>
                  <a:lnTo>
                    <a:pt x="3699" y="8460"/>
                  </a:lnTo>
                  <a:lnTo>
                    <a:pt x="1913" y="8460"/>
                  </a:lnTo>
                  <a:lnTo>
                    <a:pt x="1913" y="7478"/>
                  </a:lnTo>
                  <a:close/>
                </a:path>
                <a:path w="21600" h="21600">
                  <a:moveTo>
                    <a:pt x="1913" y="9049"/>
                  </a:moveTo>
                  <a:lnTo>
                    <a:pt x="3699" y="9049"/>
                  </a:lnTo>
                  <a:lnTo>
                    <a:pt x="2678" y="9687"/>
                  </a:lnTo>
                  <a:lnTo>
                    <a:pt x="2296" y="9392"/>
                  </a:lnTo>
                  <a:lnTo>
                    <a:pt x="2125" y="9490"/>
                  </a:lnTo>
                  <a:lnTo>
                    <a:pt x="2700" y="9932"/>
                  </a:lnTo>
                  <a:lnTo>
                    <a:pt x="3699" y="9294"/>
                  </a:lnTo>
                  <a:lnTo>
                    <a:pt x="3699" y="10030"/>
                  </a:lnTo>
                  <a:lnTo>
                    <a:pt x="1913" y="10030"/>
                  </a:lnTo>
                  <a:lnTo>
                    <a:pt x="1913" y="9049"/>
                  </a:lnTo>
                  <a:close/>
                </a:path>
                <a:path w="21600" h="21600">
                  <a:moveTo>
                    <a:pt x="1913" y="10620"/>
                  </a:moveTo>
                  <a:lnTo>
                    <a:pt x="3699" y="10620"/>
                  </a:lnTo>
                  <a:lnTo>
                    <a:pt x="2678" y="11258"/>
                  </a:lnTo>
                  <a:lnTo>
                    <a:pt x="2296" y="10963"/>
                  </a:lnTo>
                  <a:lnTo>
                    <a:pt x="2125" y="11061"/>
                  </a:lnTo>
                  <a:lnTo>
                    <a:pt x="2700" y="11503"/>
                  </a:lnTo>
                  <a:lnTo>
                    <a:pt x="3699" y="10865"/>
                  </a:lnTo>
                  <a:lnTo>
                    <a:pt x="3699" y="11601"/>
                  </a:lnTo>
                  <a:lnTo>
                    <a:pt x="1913" y="11601"/>
                  </a:lnTo>
                  <a:lnTo>
                    <a:pt x="1913" y="10620"/>
                  </a:lnTo>
                  <a:close/>
                </a:path>
                <a:path w="21600" h="21600">
                  <a:moveTo>
                    <a:pt x="1913" y="12190"/>
                  </a:moveTo>
                  <a:lnTo>
                    <a:pt x="3699" y="12190"/>
                  </a:lnTo>
                  <a:lnTo>
                    <a:pt x="2678" y="12829"/>
                  </a:lnTo>
                  <a:lnTo>
                    <a:pt x="2296" y="12534"/>
                  </a:lnTo>
                  <a:lnTo>
                    <a:pt x="2125" y="12632"/>
                  </a:lnTo>
                  <a:lnTo>
                    <a:pt x="2700" y="13074"/>
                  </a:lnTo>
                  <a:lnTo>
                    <a:pt x="3699" y="12436"/>
                  </a:lnTo>
                  <a:lnTo>
                    <a:pt x="3699" y="13172"/>
                  </a:lnTo>
                  <a:lnTo>
                    <a:pt x="1913" y="13172"/>
                  </a:lnTo>
                  <a:lnTo>
                    <a:pt x="1913" y="12190"/>
                  </a:lnTo>
                  <a:close/>
                </a:path>
                <a:path w="21600" h="21600">
                  <a:moveTo>
                    <a:pt x="1913" y="13761"/>
                  </a:moveTo>
                  <a:lnTo>
                    <a:pt x="3699" y="13761"/>
                  </a:lnTo>
                  <a:lnTo>
                    <a:pt x="2678" y="14400"/>
                  </a:lnTo>
                  <a:lnTo>
                    <a:pt x="2296" y="14105"/>
                  </a:lnTo>
                  <a:lnTo>
                    <a:pt x="2125" y="14203"/>
                  </a:lnTo>
                  <a:lnTo>
                    <a:pt x="2700" y="14645"/>
                  </a:lnTo>
                  <a:lnTo>
                    <a:pt x="3699" y="14007"/>
                  </a:lnTo>
                  <a:lnTo>
                    <a:pt x="3699" y="14743"/>
                  </a:lnTo>
                  <a:lnTo>
                    <a:pt x="1913" y="14743"/>
                  </a:lnTo>
                  <a:lnTo>
                    <a:pt x="1913" y="13761"/>
                  </a:lnTo>
                  <a:close/>
                </a:path>
                <a:path w="21600" h="21600">
                  <a:moveTo>
                    <a:pt x="1913" y="15332"/>
                  </a:moveTo>
                  <a:lnTo>
                    <a:pt x="3699" y="15332"/>
                  </a:lnTo>
                  <a:lnTo>
                    <a:pt x="2678" y="15970"/>
                  </a:lnTo>
                  <a:lnTo>
                    <a:pt x="2296" y="15676"/>
                  </a:lnTo>
                  <a:lnTo>
                    <a:pt x="2125" y="15774"/>
                  </a:lnTo>
                  <a:lnTo>
                    <a:pt x="2700" y="16216"/>
                  </a:lnTo>
                  <a:lnTo>
                    <a:pt x="3699" y="15578"/>
                  </a:lnTo>
                  <a:lnTo>
                    <a:pt x="3699" y="16314"/>
                  </a:lnTo>
                  <a:lnTo>
                    <a:pt x="1913" y="16314"/>
                  </a:lnTo>
                  <a:lnTo>
                    <a:pt x="1913" y="15332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1142640" y="36165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Method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4"/>
          <p:cNvGrpSpPr/>
          <p:nvPr/>
        </p:nvGrpSpPr>
        <p:grpSpPr>
          <a:xfrm>
            <a:off x="3048120" y="3540240"/>
            <a:ext cx="3809880" cy="1108080"/>
            <a:chOff x="3048120" y="3540240"/>
            <a:chExt cx="3809880" cy="1108080"/>
          </a:xfrm>
        </p:grpSpPr>
        <p:sp>
          <p:nvSpPr>
            <p:cNvPr id="241" name="Text Box 12"/>
            <p:cNvSpPr/>
            <p:nvPr/>
          </p:nvSpPr>
          <p:spPr>
            <a:xfrm>
              <a:off x="3048120" y="354024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en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= O(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), check i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2" name="Object 13"/>
                <p:cNvSpPr txBox="1"/>
                <p:nvPr/>
              </p:nvSpPr>
              <p:spPr>
                <a:xfrm>
                  <a:off x="3733920" y="3997440"/>
                  <a:ext cx="224784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N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lim>
                      </m:limLow>
                      <m:f>
                        <m:num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Constan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3" name="AutoShape 15"/>
          <p:cNvSpPr/>
          <p:nvPr/>
        </p:nvSpPr>
        <p:spPr>
          <a:xfrm flipH="1">
            <a:off x="1142280" y="4876920"/>
            <a:ext cx="6705720" cy="990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the example given on p.28 (Figures 2.12 &amp; 2.1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0" y="65530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1295280" y="714240"/>
            <a:ext cx="6096240" cy="2085480"/>
            <a:chOff x="1295280" y="714240"/>
            <a:chExt cx="6096240" cy="2085480"/>
          </a:xfrm>
        </p:grpSpPr>
        <p:sp>
          <p:nvSpPr>
            <p:cNvPr id="246" name="Text Box 3"/>
            <p:cNvSpPr/>
            <p:nvPr/>
          </p:nvSpPr>
          <p:spPr>
            <a:xfrm>
              <a:off x="1600200" y="866880"/>
              <a:ext cx="5791320" cy="19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aboratory Projec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Performance Measur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eorgia"/>
                </a:rPr>
                <a:t>Normal: 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Hard: A+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Object 4" descr=""/>
            <p:cNvPicPr/>
            <p:nvPr/>
          </p:nvPicPr>
          <p:blipFill>
            <a:blip r:embed="rId1"/>
            <a:stretch/>
          </p:blipFill>
          <p:spPr>
            <a:xfrm>
              <a:off x="1295280" y="714240"/>
              <a:ext cx="1295640" cy="99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Rectangle 13"/>
          <p:cNvSpPr/>
          <p:nvPr/>
        </p:nvSpPr>
        <p:spPr>
          <a:xfrm>
            <a:off x="1285920" y="274464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Due:  See P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3-04T03:16:53Z</dcterms:modified>
  <cp:revision>240</cp:revision>
  <dc:subject/>
  <dc:title>没有幻灯片标题</dc:title>
</cp:coreProperties>
</file>