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CASHREG.WAV" ContentType="audio/x-wav"/>
  <Override PartName="/ppt/media/PROJCTOR.WAV" ContentType="audio/x-wav"/>
  <Override PartName="/ppt/media/image1.wmf" ContentType="image/x-wmf"/>
  <Override PartName="/ppt/media/CAMERA.WAV" ContentType="audio/x-wav"/>
  <Override PartName="/ppt/media/WHOOSH.WAV" ContentType="audio/x-wav"/>
  <Override PartName="/ppt/media/DING.WAV" ContentType="audio/x-wav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6EF-62E4-4FDC-9D87-C8A618A8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27B4-898A-4B54-836D-9CA30A39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D9A9-D22F-43FB-9B41-B02F3B13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9C0-9471-44D2-AA1A-1CAFAAFA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513-5886-4677-A4A8-CE296A36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514-D39B-4BBC-80A0-2D890BB8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2C6-584F-4DA5-9820-39925F93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3BF0-3E2F-4857-B5AB-429031B3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713E-415E-4A31-9303-39140CC7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527-C0ED-4870-A37A-474E2E9A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1411-2B85-4465-9695-48E90829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559-CCED-45C0-9E67-4F656AC1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75EB-5C5D-4753-AA0B-0621D97FB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WHOOSH.WAV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WHOOSH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DING.WAV"/><Relationship Id="rId9" Type="http://schemas.openxmlformats.org/officeDocument/2006/relationships/audio" Target="../media/PROJCTOR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DING.WAV"/><Relationship Id="rId17" Type="http://schemas.openxmlformats.org/officeDocument/2006/relationships/audio" Target="../media/TYPE.WAV"/><Relationship Id="rId18" Type="http://schemas.openxmlformats.org/officeDocument/2006/relationships/audio" Target="../media/PROJCTOR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SHREG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57200" y="7632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HAPTER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SJOINT SET 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2"/>
          <p:cNvSpPr/>
          <p:nvPr/>
        </p:nvSpPr>
        <p:spPr>
          <a:xfrm>
            <a:off x="457200" y="12193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1  Equivalence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95"/>
          <p:cNvSpPr/>
          <p:nvPr/>
        </p:nvSpPr>
        <p:spPr>
          <a:xfrm>
            <a:off x="380880" y="19810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re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defined on a set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f for every pair of elements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a, b </a:t>
            </a:r>
            <a:r>
              <a:rPr b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a R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either true or false.  If </a:t>
            </a:r>
            <a:r>
              <a:rPr b="1" i="1" lang="en-US" sz="2400" spc="-1" strike="noStrike">
                <a:solidFill>
                  <a:srgbClr val="009900"/>
                </a:solidFill>
                <a:latin typeface="Times New Roman"/>
              </a:rPr>
              <a:t>a R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rue, then we say that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is related to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6"/>
          <p:cNvSpPr/>
          <p:nvPr/>
        </p:nvSpPr>
        <p:spPr>
          <a:xfrm>
            <a:off x="380880" y="33526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relation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over a set,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s said to be an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equivalence re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ff it is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ymmetr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flex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ransi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ver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7"/>
          <p:cNvSpPr/>
          <p:nvPr/>
        </p:nvSpPr>
        <p:spPr>
          <a:xfrm>
            <a:off x="380880" y="4724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members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 set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said to be in the same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equivalence 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ff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~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 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8"/>
          <p:cNvSpPr/>
          <p:nvPr/>
        </p:nvSpPr>
        <p:spPr>
          <a:xfrm>
            <a:off x="0" y="6477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2"/>
          <p:cNvSpPr/>
          <p:nvPr/>
        </p:nvSpPr>
        <p:spPr>
          <a:xfrm>
            <a:off x="900000" y="184464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d-te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PR. 22th, 17: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上课教室（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B-20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80880" y="1522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2  The Dynamic Equivalenc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521"/>
          <p:cNvGrpSpPr/>
          <p:nvPr/>
        </p:nvGrpSpPr>
        <p:grpSpPr>
          <a:xfrm>
            <a:off x="609480" y="762120"/>
            <a:ext cx="7772400" cy="533160"/>
            <a:chOff x="609480" y="762120"/>
            <a:chExt cx="7772400" cy="533160"/>
          </a:xfrm>
        </p:grpSpPr>
        <p:pic>
          <p:nvPicPr>
            <p:cNvPr id="49" name="Picture 1516" descr="DARTS"/>
            <p:cNvPicPr/>
            <p:nvPr/>
          </p:nvPicPr>
          <p:blipFill>
            <a:blip r:embed="rId1"/>
            <a:stretch/>
          </p:blipFill>
          <p:spPr>
            <a:xfrm>
              <a:off x="609480" y="762120"/>
              <a:ext cx="53352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517"/>
            <p:cNvSpPr/>
            <p:nvPr/>
          </p:nvSpPr>
          <p:spPr>
            <a:xfrm>
              <a:off x="1219320" y="838080"/>
              <a:ext cx="716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iven an equivalence relation ~, decide for any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if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~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Text Box 1519"/>
          <p:cNvSpPr/>
          <p:nvPr/>
        </p:nvSpPr>
        <p:spPr>
          <a:xfrm>
            <a:off x="304920" y="1371600"/>
            <a:ext cx="82278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{ 1, 2, 3, 4, 5, 6, 7, 8, 9, 10, 11, 12 } and 9 relations: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equivalence classes are  {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, 4, 7, 11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, {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1, 3, 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}, {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6, 8, 9, 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520"/>
          <p:cNvSpPr/>
          <p:nvPr/>
        </p:nvSpPr>
        <p:spPr>
          <a:xfrm>
            <a:off x="685800" y="2743200"/>
            <a:ext cx="7620120" cy="358128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82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lgorith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step 1: read the relations i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ize N disjoint se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read in a ~ b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!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=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i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two se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end-whil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step 2: decide if a ~ b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read in a and b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Find(a) == Find(b) )   output( tru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( fals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522"/>
          <p:cNvSpPr/>
          <p:nvPr/>
        </p:nvSpPr>
        <p:spPr>
          <a:xfrm>
            <a:off x="2057400" y="2778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(Union / Fi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523"/>
          <p:cNvSpPr/>
          <p:nvPr/>
        </p:nvSpPr>
        <p:spPr>
          <a:xfrm>
            <a:off x="5105520" y="4191120"/>
            <a:ext cx="2971800" cy="1143000"/>
          </a:xfrm>
          <a:prstGeom prst="wedgeEllipseCallout">
            <a:avLst>
              <a:gd name="adj1" fmla="val -90222"/>
              <a:gd name="adj2" fmla="val -57083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ynamic (on-l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524"/>
          <p:cNvSpPr/>
          <p:nvPr/>
        </p:nvSpPr>
        <p:spPr>
          <a:xfrm>
            <a:off x="0" y="6477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648320" y="0"/>
            <a:ext cx="44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The Dynamic Equivalenc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457200" y="380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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l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sets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 2, 3, ...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57200" y="91440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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... ..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—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80880" y="160020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{ 6, 7, 8, 10 }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{ 1, 4, 9 }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{ 2, 3, 5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Group 6"/>
          <p:cNvGrpSpPr/>
          <p:nvPr/>
        </p:nvGrpSpPr>
        <p:grpSpPr>
          <a:xfrm>
            <a:off x="3048120" y="2286000"/>
            <a:ext cx="1600200" cy="1066680"/>
            <a:chOff x="3048120" y="2286000"/>
            <a:chExt cx="1600200" cy="1066680"/>
          </a:xfrm>
        </p:grpSpPr>
        <p:sp>
          <p:nvSpPr>
            <p:cNvPr id="61" name="Oval 7"/>
            <p:cNvSpPr/>
            <p:nvPr/>
          </p:nvSpPr>
          <p:spPr>
            <a:xfrm>
              <a:off x="3657600" y="228600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3048120" y="289548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4267080" y="2895480"/>
              <a:ext cx="38124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 flipH="1">
              <a:off x="3657600" y="297180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1"/>
            <p:cNvSpPr/>
            <p:nvPr/>
          </p:nvSpPr>
          <p:spPr>
            <a:xfrm flipH="1">
              <a:off x="3281400" y="2627280"/>
              <a:ext cx="4176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3998880" y="2590560"/>
              <a:ext cx="34596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3"/>
            <p:cNvSpPr/>
            <p:nvPr/>
          </p:nvSpPr>
          <p:spPr>
            <a:xfrm>
              <a:off x="3846600" y="26668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5334120" y="2362320"/>
            <a:ext cx="990360" cy="990000"/>
            <a:chOff x="5334120" y="2362320"/>
            <a:chExt cx="990360" cy="990000"/>
          </a:xfrm>
        </p:grpSpPr>
        <p:sp>
          <p:nvSpPr>
            <p:cNvPr id="69" name="Oval 15"/>
            <p:cNvSpPr/>
            <p:nvPr/>
          </p:nvSpPr>
          <p:spPr>
            <a:xfrm>
              <a:off x="5638680" y="2362320"/>
              <a:ext cx="38124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6"/>
            <p:cNvSpPr/>
            <p:nvPr/>
          </p:nvSpPr>
          <p:spPr>
            <a:xfrm>
              <a:off x="5334120" y="2971800"/>
              <a:ext cx="380880" cy="38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7"/>
            <p:cNvSpPr/>
            <p:nvPr/>
          </p:nvSpPr>
          <p:spPr>
            <a:xfrm flipH="1">
              <a:off x="5562360" y="2705040"/>
              <a:ext cx="15228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8"/>
            <p:cNvSpPr/>
            <p:nvPr/>
          </p:nvSpPr>
          <p:spPr>
            <a:xfrm flipH="1">
              <a:off x="5943600" y="2971800"/>
              <a:ext cx="380880" cy="38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9"/>
            <p:cNvSpPr/>
            <p:nvPr/>
          </p:nvSpPr>
          <p:spPr>
            <a:xfrm>
              <a:off x="5943600" y="2705040"/>
              <a:ext cx="15228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7086600" y="2362320"/>
            <a:ext cx="990360" cy="990000"/>
            <a:chOff x="7086600" y="2362320"/>
            <a:chExt cx="990360" cy="990000"/>
          </a:xfrm>
        </p:grpSpPr>
        <p:sp>
          <p:nvSpPr>
            <p:cNvPr id="75" name="Oval 21"/>
            <p:cNvSpPr/>
            <p:nvPr/>
          </p:nvSpPr>
          <p:spPr>
            <a:xfrm>
              <a:off x="7391520" y="236232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2"/>
            <p:cNvSpPr/>
            <p:nvPr/>
          </p:nvSpPr>
          <p:spPr>
            <a:xfrm>
              <a:off x="7086600" y="2971800"/>
              <a:ext cx="380880" cy="38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3"/>
            <p:cNvSpPr/>
            <p:nvPr/>
          </p:nvSpPr>
          <p:spPr>
            <a:xfrm flipH="1">
              <a:off x="7314840" y="2705040"/>
              <a:ext cx="15228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4"/>
            <p:cNvSpPr/>
            <p:nvPr/>
          </p:nvSpPr>
          <p:spPr>
            <a:xfrm flipH="1">
              <a:off x="7695360" y="2971800"/>
              <a:ext cx="381240" cy="38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25"/>
            <p:cNvSpPr/>
            <p:nvPr/>
          </p:nvSpPr>
          <p:spPr>
            <a:xfrm>
              <a:off x="7696080" y="2705040"/>
              <a:ext cx="15264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Text Box 26"/>
          <p:cNvSpPr/>
          <p:nvPr/>
        </p:nvSpPr>
        <p:spPr>
          <a:xfrm>
            <a:off x="2514600" y="3595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ossible forest representation of these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27"/>
          <p:cNvSpPr/>
          <p:nvPr/>
        </p:nvSpPr>
        <p:spPr>
          <a:xfrm flipH="1" flipV="1" rot="5400000">
            <a:off x="570240" y="1790640"/>
            <a:ext cx="1905120" cy="2438280"/>
          </a:xfrm>
          <a:prstGeom prst="wedgeEllipseCallout">
            <a:avLst>
              <a:gd name="adj1" fmla="val 17083"/>
              <a:gd name="adj2" fmla="val 82550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nter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457200" y="4308480"/>
            <a:ext cx="800100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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Operati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Union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::= Repla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 Find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::= Find the s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hich contains the eleme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0" y="6477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380880" y="1522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3  Basic Data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33520" y="685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ion (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914400" y="1143000"/>
            <a:ext cx="75438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Ide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Mak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ubtre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 or vice versa.  That is, we can set the parent pointer of one of the roots to the other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6"/>
          <p:cNvGrpSpPr/>
          <p:nvPr/>
        </p:nvGrpSpPr>
        <p:grpSpPr>
          <a:xfrm>
            <a:off x="1295280" y="1981080"/>
            <a:ext cx="1600200" cy="1066680"/>
            <a:chOff x="1295280" y="1981080"/>
            <a:chExt cx="1600200" cy="1066680"/>
          </a:xfrm>
        </p:grpSpPr>
        <p:sp>
          <p:nvSpPr>
            <p:cNvPr id="88" name="Oval 7"/>
            <p:cNvSpPr/>
            <p:nvPr/>
          </p:nvSpPr>
          <p:spPr>
            <a:xfrm>
              <a:off x="1904760" y="198108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8"/>
            <p:cNvSpPr/>
            <p:nvPr/>
          </p:nvSpPr>
          <p:spPr>
            <a:xfrm>
              <a:off x="1295280" y="259056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9"/>
            <p:cNvSpPr/>
            <p:nvPr/>
          </p:nvSpPr>
          <p:spPr>
            <a:xfrm>
              <a:off x="2514240" y="2590560"/>
              <a:ext cx="38124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10"/>
            <p:cNvSpPr/>
            <p:nvPr/>
          </p:nvSpPr>
          <p:spPr>
            <a:xfrm flipH="1">
              <a:off x="1904760" y="266688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1"/>
            <p:cNvSpPr/>
            <p:nvPr/>
          </p:nvSpPr>
          <p:spPr>
            <a:xfrm flipH="1">
              <a:off x="1528560" y="2322360"/>
              <a:ext cx="4176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>
              <a:off x="2246040" y="2285640"/>
              <a:ext cx="34596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>
              <a:off x="2093760" y="236196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Group 14"/>
          <p:cNvGrpSpPr/>
          <p:nvPr/>
        </p:nvGrpSpPr>
        <p:grpSpPr>
          <a:xfrm>
            <a:off x="2819520" y="2590920"/>
            <a:ext cx="990360" cy="990000"/>
            <a:chOff x="2819520" y="2590920"/>
            <a:chExt cx="990360" cy="990000"/>
          </a:xfrm>
        </p:grpSpPr>
        <p:sp>
          <p:nvSpPr>
            <p:cNvPr id="96" name="Oval 15"/>
            <p:cNvSpPr/>
            <p:nvPr/>
          </p:nvSpPr>
          <p:spPr>
            <a:xfrm>
              <a:off x="3124080" y="2590920"/>
              <a:ext cx="38124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16"/>
            <p:cNvSpPr/>
            <p:nvPr/>
          </p:nvSpPr>
          <p:spPr>
            <a:xfrm>
              <a:off x="2819520" y="3200400"/>
              <a:ext cx="380880" cy="38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H="1">
              <a:off x="3047760" y="2933640"/>
              <a:ext cx="15228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8"/>
            <p:cNvSpPr/>
            <p:nvPr/>
          </p:nvSpPr>
          <p:spPr>
            <a:xfrm flipH="1">
              <a:off x="3429000" y="3200400"/>
              <a:ext cx="380880" cy="38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>
              <a:off x="3429000" y="2933640"/>
              <a:ext cx="15228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0"/>
          <p:cNvGrpSpPr/>
          <p:nvPr/>
        </p:nvGrpSpPr>
        <p:grpSpPr>
          <a:xfrm>
            <a:off x="6095880" y="1981080"/>
            <a:ext cx="990360" cy="990720"/>
            <a:chOff x="6095880" y="1981080"/>
            <a:chExt cx="990360" cy="990720"/>
          </a:xfrm>
        </p:grpSpPr>
        <p:sp>
          <p:nvSpPr>
            <p:cNvPr id="102" name="Oval 21"/>
            <p:cNvSpPr/>
            <p:nvPr/>
          </p:nvSpPr>
          <p:spPr>
            <a:xfrm>
              <a:off x="6400440" y="1981080"/>
              <a:ext cx="38124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22"/>
            <p:cNvSpPr/>
            <p:nvPr/>
          </p:nvSpPr>
          <p:spPr>
            <a:xfrm>
              <a:off x="6095880" y="259092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3"/>
            <p:cNvSpPr/>
            <p:nvPr/>
          </p:nvSpPr>
          <p:spPr>
            <a:xfrm flipH="1">
              <a:off x="6324120" y="2324160"/>
              <a:ext cx="15228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24"/>
            <p:cNvSpPr/>
            <p:nvPr/>
          </p:nvSpPr>
          <p:spPr>
            <a:xfrm flipH="1">
              <a:off x="6705360" y="259092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>
              <a:off x="6705360" y="2324160"/>
              <a:ext cx="15228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4800600" y="2514600"/>
            <a:ext cx="1600200" cy="1066680"/>
            <a:chOff x="4800600" y="2514600"/>
            <a:chExt cx="1600200" cy="1066680"/>
          </a:xfrm>
        </p:grpSpPr>
        <p:sp>
          <p:nvSpPr>
            <p:cNvPr id="108" name="Oval 27"/>
            <p:cNvSpPr/>
            <p:nvPr/>
          </p:nvSpPr>
          <p:spPr>
            <a:xfrm>
              <a:off x="5410080" y="251460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28"/>
            <p:cNvSpPr/>
            <p:nvPr/>
          </p:nvSpPr>
          <p:spPr>
            <a:xfrm>
              <a:off x="4800600" y="312408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Oval 29"/>
            <p:cNvSpPr/>
            <p:nvPr/>
          </p:nvSpPr>
          <p:spPr>
            <a:xfrm>
              <a:off x="6019560" y="3124080"/>
              <a:ext cx="38124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Oval 30"/>
            <p:cNvSpPr/>
            <p:nvPr/>
          </p:nvSpPr>
          <p:spPr>
            <a:xfrm flipH="1">
              <a:off x="5410080" y="320040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31"/>
            <p:cNvSpPr/>
            <p:nvPr/>
          </p:nvSpPr>
          <p:spPr>
            <a:xfrm flipH="1">
              <a:off x="5033880" y="2855880"/>
              <a:ext cx="4176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32"/>
            <p:cNvSpPr/>
            <p:nvPr/>
          </p:nvSpPr>
          <p:spPr>
            <a:xfrm>
              <a:off x="5751360" y="2819160"/>
              <a:ext cx="34596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33"/>
            <p:cNvSpPr/>
            <p:nvPr/>
          </p:nvSpPr>
          <p:spPr>
            <a:xfrm>
              <a:off x="5599080" y="2895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Line 34"/>
          <p:cNvSpPr/>
          <p:nvPr/>
        </p:nvSpPr>
        <p:spPr>
          <a:xfrm flipH="1" flipV="1">
            <a:off x="2286000" y="2209320"/>
            <a:ext cx="91440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5"/>
          <p:cNvSpPr/>
          <p:nvPr/>
        </p:nvSpPr>
        <p:spPr>
          <a:xfrm flipV="1">
            <a:off x="5715000" y="2285640"/>
            <a:ext cx="6858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1143000" y="31240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6781680" y="31240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8"/>
          <p:cNvSpPr/>
          <p:nvPr/>
        </p:nvSpPr>
        <p:spPr>
          <a:xfrm>
            <a:off x="914400" y="38862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Implementation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39"/>
          <p:cNvGrpSpPr/>
          <p:nvPr/>
        </p:nvGrpSpPr>
        <p:grpSpPr>
          <a:xfrm>
            <a:off x="1600200" y="4419720"/>
            <a:ext cx="2057400" cy="1143000"/>
            <a:chOff x="1600200" y="4419720"/>
            <a:chExt cx="2057400" cy="1143000"/>
          </a:xfrm>
        </p:grpSpPr>
        <p:sp>
          <p:nvSpPr>
            <p:cNvPr id="121" name="Rectangle 40"/>
            <p:cNvSpPr/>
            <p:nvPr/>
          </p:nvSpPr>
          <p:spPr>
            <a:xfrm>
              <a:off x="2590560" y="4419720"/>
              <a:ext cx="53352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41"/>
            <p:cNvSpPr/>
            <p:nvPr/>
          </p:nvSpPr>
          <p:spPr>
            <a:xfrm>
              <a:off x="2590560" y="4800600"/>
              <a:ext cx="53352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42"/>
            <p:cNvSpPr/>
            <p:nvPr/>
          </p:nvSpPr>
          <p:spPr>
            <a:xfrm>
              <a:off x="2590560" y="5181480"/>
              <a:ext cx="53352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43"/>
            <p:cNvSpPr/>
            <p:nvPr/>
          </p:nvSpPr>
          <p:spPr>
            <a:xfrm>
              <a:off x="3124080" y="4419720"/>
              <a:ext cx="53352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44"/>
            <p:cNvSpPr/>
            <p:nvPr/>
          </p:nvSpPr>
          <p:spPr>
            <a:xfrm>
              <a:off x="3124080" y="4800600"/>
              <a:ext cx="53352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45"/>
            <p:cNvSpPr/>
            <p:nvPr/>
          </p:nvSpPr>
          <p:spPr>
            <a:xfrm>
              <a:off x="3124080" y="5181480"/>
              <a:ext cx="53352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46"/>
            <p:cNvSpPr/>
            <p:nvPr/>
          </p:nvSpPr>
          <p:spPr>
            <a:xfrm>
              <a:off x="1600200" y="4800600"/>
              <a:ext cx="9903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me[ 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47"/>
          <p:cNvGrpSpPr/>
          <p:nvPr/>
        </p:nvGrpSpPr>
        <p:grpSpPr>
          <a:xfrm>
            <a:off x="3390840" y="3886200"/>
            <a:ext cx="2637720" cy="2447640"/>
            <a:chOff x="3390840" y="3886200"/>
            <a:chExt cx="2637720" cy="2447640"/>
          </a:xfrm>
        </p:grpSpPr>
        <p:grpSp>
          <p:nvGrpSpPr>
            <p:cNvPr id="129" name="Group 48"/>
            <p:cNvGrpSpPr/>
            <p:nvPr/>
          </p:nvGrpSpPr>
          <p:grpSpPr>
            <a:xfrm>
              <a:off x="4190760" y="3886200"/>
              <a:ext cx="1122120" cy="744120"/>
              <a:chOff x="4190760" y="3886200"/>
              <a:chExt cx="1122120" cy="744120"/>
            </a:xfrm>
          </p:grpSpPr>
          <p:sp>
            <p:nvSpPr>
              <p:cNvPr id="130" name="Oval 49"/>
              <p:cNvSpPr/>
              <p:nvPr/>
            </p:nvSpPr>
            <p:spPr>
              <a:xfrm>
                <a:off x="4618080" y="3886200"/>
                <a:ext cx="267120" cy="26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50"/>
              <p:cNvSpPr/>
              <p:nvPr/>
            </p:nvSpPr>
            <p:spPr>
              <a:xfrm>
                <a:off x="4190760" y="4311360"/>
                <a:ext cx="267120" cy="26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Oval 51"/>
              <p:cNvSpPr/>
              <p:nvPr/>
            </p:nvSpPr>
            <p:spPr>
              <a:xfrm>
                <a:off x="5045760" y="4311360"/>
                <a:ext cx="267120" cy="26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52"/>
              <p:cNvSpPr/>
              <p:nvPr/>
            </p:nvSpPr>
            <p:spPr>
              <a:xfrm flipH="1">
                <a:off x="4618080" y="4364640"/>
                <a:ext cx="267120" cy="26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53"/>
              <p:cNvSpPr/>
              <p:nvPr/>
            </p:nvSpPr>
            <p:spPr>
              <a:xfrm flipH="1">
                <a:off x="4353840" y="4124160"/>
                <a:ext cx="292680" cy="212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54"/>
              <p:cNvSpPr/>
              <p:nvPr/>
            </p:nvSpPr>
            <p:spPr>
              <a:xfrm>
                <a:off x="4857480" y="4098600"/>
                <a:ext cx="242640" cy="24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55"/>
              <p:cNvSpPr/>
              <p:nvPr/>
            </p:nvSpPr>
            <p:spPr>
              <a:xfrm>
                <a:off x="4750560" y="4151880"/>
                <a:ext cx="0" cy="21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56"/>
            <p:cNvGrpSpPr/>
            <p:nvPr/>
          </p:nvGrpSpPr>
          <p:grpSpPr>
            <a:xfrm>
              <a:off x="5333760" y="4876920"/>
              <a:ext cx="694800" cy="694800"/>
              <a:chOff x="5333760" y="4876920"/>
              <a:chExt cx="694800" cy="694800"/>
            </a:xfrm>
          </p:grpSpPr>
          <p:sp>
            <p:nvSpPr>
              <p:cNvPr id="138" name="Oval 57"/>
              <p:cNvSpPr/>
              <p:nvPr/>
            </p:nvSpPr>
            <p:spPr>
              <a:xfrm>
                <a:off x="5547240" y="4876920"/>
                <a:ext cx="267480" cy="267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Oval 58"/>
              <p:cNvSpPr/>
              <p:nvPr/>
            </p:nvSpPr>
            <p:spPr>
              <a:xfrm>
                <a:off x="5333760" y="5304600"/>
                <a:ext cx="267120" cy="26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59"/>
              <p:cNvSpPr/>
              <p:nvPr/>
            </p:nvSpPr>
            <p:spPr>
              <a:xfrm flipH="1">
                <a:off x="5493960" y="5117400"/>
                <a:ext cx="10656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Oval 60"/>
              <p:cNvSpPr/>
              <p:nvPr/>
            </p:nvSpPr>
            <p:spPr>
              <a:xfrm flipH="1">
                <a:off x="5761440" y="5304600"/>
                <a:ext cx="267120" cy="26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61"/>
              <p:cNvSpPr/>
              <p:nvPr/>
            </p:nvSpPr>
            <p:spPr>
              <a:xfrm>
                <a:off x="5761440" y="5117400"/>
                <a:ext cx="10656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62"/>
            <p:cNvGrpSpPr/>
            <p:nvPr/>
          </p:nvGrpSpPr>
          <p:grpSpPr>
            <a:xfrm>
              <a:off x="4419360" y="5638680"/>
              <a:ext cx="694800" cy="695160"/>
              <a:chOff x="4419360" y="5638680"/>
              <a:chExt cx="694800" cy="695160"/>
            </a:xfrm>
          </p:grpSpPr>
          <p:sp>
            <p:nvSpPr>
              <p:cNvPr id="144" name="Oval 63"/>
              <p:cNvSpPr/>
              <p:nvPr/>
            </p:nvSpPr>
            <p:spPr>
              <a:xfrm>
                <a:off x="4633200" y="5638680"/>
                <a:ext cx="267120" cy="267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3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Oval 64"/>
              <p:cNvSpPr/>
              <p:nvPr/>
            </p:nvSpPr>
            <p:spPr>
              <a:xfrm>
                <a:off x="4419360" y="6066720"/>
                <a:ext cx="267120" cy="26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3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65"/>
              <p:cNvSpPr/>
              <p:nvPr/>
            </p:nvSpPr>
            <p:spPr>
              <a:xfrm flipH="1">
                <a:off x="4579560" y="5879520"/>
                <a:ext cx="10656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Oval 66"/>
              <p:cNvSpPr/>
              <p:nvPr/>
            </p:nvSpPr>
            <p:spPr>
              <a:xfrm flipH="1">
                <a:off x="4846320" y="6066720"/>
                <a:ext cx="267480" cy="26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7"/>
              <p:cNvSpPr/>
              <p:nvPr/>
            </p:nvSpPr>
            <p:spPr>
              <a:xfrm>
                <a:off x="4847040" y="5879520"/>
                <a:ext cx="10692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68"/>
            <p:cNvGrpSpPr/>
            <p:nvPr/>
          </p:nvGrpSpPr>
          <p:grpSpPr>
            <a:xfrm>
              <a:off x="3390840" y="3962520"/>
              <a:ext cx="1180800" cy="685800"/>
              <a:chOff x="3390840" y="3962520"/>
              <a:chExt cx="1180800" cy="685800"/>
            </a:xfrm>
          </p:grpSpPr>
          <p:sp>
            <p:nvSpPr>
              <p:cNvPr id="150" name="Freeform 69"/>
              <p:cNvSpPr/>
              <p:nvPr/>
            </p:nvSpPr>
            <p:spPr>
              <a:xfrm>
                <a:off x="3390840" y="3962520"/>
                <a:ext cx="1180800" cy="685800"/>
              </a:xfrm>
              <a:custGeom>
                <a:avLst/>
                <a:gdLst>
                  <a:gd name="textAreaLeft" fmla="*/ 0 w 1180800"/>
                  <a:gd name="textAreaRight" fmla="*/ 1181160 w 118080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744" h="432">
                    <a:moveTo>
                      <a:pt x="24" y="432"/>
                    </a:moveTo>
                    <a:cubicBezTo>
                      <a:pt x="12" y="300"/>
                      <a:pt x="0" y="168"/>
                      <a:pt x="120" y="96"/>
                    </a:cubicBezTo>
                    <a:cubicBezTo>
                      <a:pt x="240" y="24"/>
                      <a:pt x="492" y="12"/>
                      <a:pt x="744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70"/>
              <p:cNvSpPr/>
              <p:nvPr/>
            </p:nvSpPr>
            <p:spPr>
              <a:xfrm flipH="1">
                <a:off x="3657240" y="4038480"/>
                <a:ext cx="91440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Line 71"/>
            <p:cNvSpPr/>
            <p:nvPr/>
          </p:nvSpPr>
          <p:spPr>
            <a:xfrm>
              <a:off x="3428640" y="502452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72"/>
            <p:cNvSpPr/>
            <p:nvPr/>
          </p:nvSpPr>
          <p:spPr>
            <a:xfrm>
              <a:off x="3657240" y="5029200"/>
              <a:ext cx="1905120" cy="16524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200" h="104">
                  <a:moveTo>
                    <a:pt x="1200" y="0"/>
                  </a:moveTo>
                  <a:cubicBezTo>
                    <a:pt x="1084" y="44"/>
                    <a:pt x="968" y="88"/>
                    <a:pt x="768" y="96"/>
                  </a:cubicBezTo>
                  <a:cubicBezTo>
                    <a:pt x="568" y="104"/>
                    <a:pt x="284" y="76"/>
                    <a:pt x="0" y="4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73"/>
            <p:cNvSpPr/>
            <p:nvPr/>
          </p:nvSpPr>
          <p:spPr>
            <a:xfrm>
              <a:off x="3428640" y="5370480"/>
              <a:ext cx="1295640" cy="27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74"/>
            <p:cNvSpPr/>
            <p:nvPr/>
          </p:nvSpPr>
          <p:spPr>
            <a:xfrm>
              <a:off x="3504960" y="5562720"/>
              <a:ext cx="1143000" cy="3427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720" h="216">
                  <a:moveTo>
                    <a:pt x="720" y="144"/>
                  </a:moveTo>
                  <a:cubicBezTo>
                    <a:pt x="612" y="180"/>
                    <a:pt x="504" y="216"/>
                    <a:pt x="384" y="192"/>
                  </a:cubicBezTo>
                  <a:cubicBezTo>
                    <a:pt x="264" y="168"/>
                    <a:pt x="132" y="84"/>
                    <a:pt x="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75"/>
          <p:cNvGrpSpPr/>
          <p:nvPr/>
        </p:nvGrpSpPr>
        <p:grpSpPr>
          <a:xfrm>
            <a:off x="3390840" y="3962520"/>
            <a:ext cx="1180800" cy="685800"/>
            <a:chOff x="3390840" y="3962520"/>
            <a:chExt cx="1180800" cy="685800"/>
          </a:xfrm>
        </p:grpSpPr>
        <p:sp>
          <p:nvSpPr>
            <p:cNvPr id="157" name="Freeform 76"/>
            <p:cNvSpPr/>
            <p:nvPr/>
          </p:nvSpPr>
          <p:spPr>
            <a:xfrm>
              <a:off x="3390840" y="3962520"/>
              <a:ext cx="1180800" cy="685800"/>
            </a:xfrm>
            <a:custGeom>
              <a:avLst/>
              <a:gdLst>
                <a:gd name="textAreaLeft" fmla="*/ 0 w 1180800"/>
                <a:gd name="textAreaRight" fmla="*/ 1181160 w 1180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744" h="432">
                  <a:moveTo>
                    <a:pt x="24" y="432"/>
                  </a:moveTo>
                  <a:cubicBezTo>
                    <a:pt x="12" y="300"/>
                    <a:pt x="0" y="168"/>
                    <a:pt x="120" y="96"/>
                  </a:cubicBezTo>
                  <a:cubicBezTo>
                    <a:pt x="240" y="24"/>
                    <a:pt x="492" y="12"/>
                    <a:pt x="744" y="0"/>
                  </a:cubicBezTo>
                </a:path>
              </a:pathLst>
            </a:custGeom>
            <a:noFill/>
            <a:ln w="3816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7"/>
            <p:cNvSpPr/>
            <p:nvPr/>
          </p:nvSpPr>
          <p:spPr>
            <a:xfrm flipH="1">
              <a:off x="3657240" y="4038480"/>
              <a:ext cx="914400" cy="53352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Rectangle 78"/>
          <p:cNvSpPr/>
          <p:nvPr/>
        </p:nvSpPr>
        <p:spPr>
          <a:xfrm>
            <a:off x="6553080" y="44956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79"/>
          <p:cNvSpPr/>
          <p:nvPr/>
        </p:nvSpPr>
        <p:spPr>
          <a:xfrm>
            <a:off x="3860640" y="4038480"/>
            <a:ext cx="1702080" cy="914400"/>
          </a:xfrm>
          <a:custGeom>
            <a:avLst/>
            <a:gdLst>
              <a:gd name="textAreaLeft" fmla="*/ 0 w 1702080"/>
              <a:gd name="textAreaRight" fmla="*/ 1702440 w 17020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72" h="576">
                <a:moveTo>
                  <a:pt x="448" y="0"/>
                </a:moveTo>
                <a:cubicBezTo>
                  <a:pt x="304" y="56"/>
                  <a:pt x="160" y="112"/>
                  <a:pt x="112" y="192"/>
                </a:cubicBezTo>
                <a:cubicBezTo>
                  <a:pt x="64" y="272"/>
                  <a:pt x="0" y="416"/>
                  <a:pt x="160" y="480"/>
                </a:cubicBezTo>
                <a:cubicBezTo>
                  <a:pt x="320" y="544"/>
                  <a:pt x="696" y="560"/>
                  <a:pt x="1072" y="576"/>
                </a:cubicBezTo>
              </a:path>
            </a:pathLst>
          </a:custGeom>
          <a:noFill/>
          <a:ln w="25560">
            <a:solidFill>
              <a:srgbClr val="0033cc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0"/>
          <p:cNvSpPr/>
          <p:nvPr/>
        </p:nvSpPr>
        <p:spPr>
          <a:xfrm>
            <a:off x="6553080" y="50292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81"/>
          <p:cNvSpPr/>
          <p:nvPr/>
        </p:nvSpPr>
        <p:spPr>
          <a:xfrm>
            <a:off x="0" y="6477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90"/>
          <p:cNvSpPr/>
          <p:nvPr/>
        </p:nvSpPr>
        <p:spPr>
          <a:xfrm flipH="1" flipV="1">
            <a:off x="761760" y="1523160"/>
            <a:ext cx="6324480" cy="1752840"/>
          </a:xfrm>
          <a:prstGeom prst="wedgeEllipseCallout">
            <a:avLst>
              <a:gd name="adj1" fmla="val 97"/>
              <a:gd name="adj2" fmla="val 103347"/>
            </a:avLst>
          </a:prstGeom>
          <a:gradFill rotWithShape="0">
            <a:gsLst>
              <a:gs pos="0">
                <a:srgbClr val="cfcfc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re we use the fact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elements are numbered from 1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nce they can be used 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ices of an arr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5791320" y="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asic Data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533520" y="3049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Implementation 2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[ element ] = the element’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38080" y="6858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 [ root ]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 set name = root ind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752400" y="1752480"/>
            <a:ext cx="2676240" cy="744120"/>
            <a:chOff x="752400" y="1752480"/>
            <a:chExt cx="2676240" cy="744120"/>
          </a:xfrm>
        </p:grpSpPr>
        <p:grpSp>
          <p:nvGrpSpPr>
            <p:cNvPr id="168" name="Group 6"/>
            <p:cNvGrpSpPr/>
            <p:nvPr/>
          </p:nvGrpSpPr>
          <p:grpSpPr>
            <a:xfrm>
              <a:off x="752400" y="1752480"/>
              <a:ext cx="1122120" cy="744120"/>
              <a:chOff x="752400" y="1752480"/>
              <a:chExt cx="1122120" cy="744120"/>
            </a:xfrm>
          </p:grpSpPr>
          <p:sp>
            <p:nvSpPr>
              <p:cNvPr id="169" name="Oval 7"/>
              <p:cNvSpPr/>
              <p:nvPr/>
            </p:nvSpPr>
            <p:spPr>
              <a:xfrm>
                <a:off x="1179720" y="1752480"/>
                <a:ext cx="267120" cy="26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Times New Roman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8"/>
              <p:cNvSpPr/>
              <p:nvPr/>
            </p:nvSpPr>
            <p:spPr>
              <a:xfrm>
                <a:off x="752400" y="2177640"/>
                <a:ext cx="267120" cy="26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Oval 9"/>
              <p:cNvSpPr/>
              <p:nvPr/>
            </p:nvSpPr>
            <p:spPr>
              <a:xfrm>
                <a:off x="1607400" y="2177640"/>
                <a:ext cx="267120" cy="26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10"/>
              <p:cNvSpPr/>
              <p:nvPr/>
            </p:nvSpPr>
            <p:spPr>
              <a:xfrm flipH="1">
                <a:off x="1179720" y="2230920"/>
                <a:ext cx="267120" cy="265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11"/>
              <p:cNvSpPr/>
              <p:nvPr/>
            </p:nvSpPr>
            <p:spPr>
              <a:xfrm flipH="1">
                <a:off x="915480" y="1990440"/>
                <a:ext cx="292680" cy="212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2"/>
              <p:cNvSpPr/>
              <p:nvPr/>
            </p:nvSpPr>
            <p:spPr>
              <a:xfrm>
                <a:off x="1419120" y="1964880"/>
                <a:ext cx="242640" cy="241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3"/>
              <p:cNvSpPr/>
              <p:nvPr/>
            </p:nvSpPr>
            <p:spPr>
              <a:xfrm>
                <a:off x="1312200" y="2018160"/>
                <a:ext cx="0" cy="212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Group 14"/>
            <p:cNvGrpSpPr/>
            <p:nvPr/>
          </p:nvGrpSpPr>
          <p:grpSpPr>
            <a:xfrm>
              <a:off x="1971720" y="1752480"/>
              <a:ext cx="694800" cy="694800"/>
              <a:chOff x="1971720" y="1752480"/>
              <a:chExt cx="694800" cy="694800"/>
            </a:xfrm>
          </p:grpSpPr>
          <p:sp>
            <p:nvSpPr>
              <p:cNvPr id="177" name="Oval 15"/>
              <p:cNvSpPr/>
              <p:nvPr/>
            </p:nvSpPr>
            <p:spPr>
              <a:xfrm>
                <a:off x="2185200" y="1752480"/>
                <a:ext cx="267480" cy="267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Oval 16"/>
              <p:cNvSpPr/>
              <p:nvPr/>
            </p:nvSpPr>
            <p:spPr>
              <a:xfrm>
                <a:off x="1971720" y="2180160"/>
                <a:ext cx="267120" cy="26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17"/>
              <p:cNvSpPr/>
              <p:nvPr/>
            </p:nvSpPr>
            <p:spPr>
              <a:xfrm flipH="1">
                <a:off x="2131920" y="1992960"/>
                <a:ext cx="10656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Oval 18"/>
              <p:cNvSpPr/>
              <p:nvPr/>
            </p:nvSpPr>
            <p:spPr>
              <a:xfrm flipH="1">
                <a:off x="2399400" y="2180160"/>
                <a:ext cx="267120" cy="26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19"/>
              <p:cNvSpPr/>
              <p:nvPr/>
            </p:nvSpPr>
            <p:spPr>
              <a:xfrm>
                <a:off x="2399400" y="1992960"/>
                <a:ext cx="10656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Group 20"/>
            <p:cNvGrpSpPr/>
            <p:nvPr/>
          </p:nvGrpSpPr>
          <p:grpSpPr>
            <a:xfrm>
              <a:off x="2733840" y="1752480"/>
              <a:ext cx="694800" cy="694800"/>
              <a:chOff x="2733840" y="1752480"/>
              <a:chExt cx="694800" cy="694800"/>
            </a:xfrm>
          </p:grpSpPr>
          <p:sp>
            <p:nvSpPr>
              <p:cNvPr id="183" name="Oval 21"/>
              <p:cNvSpPr/>
              <p:nvPr/>
            </p:nvSpPr>
            <p:spPr>
              <a:xfrm>
                <a:off x="2947680" y="1752480"/>
                <a:ext cx="267120" cy="2674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3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Oval 22"/>
              <p:cNvSpPr/>
              <p:nvPr/>
            </p:nvSpPr>
            <p:spPr>
              <a:xfrm>
                <a:off x="2733840" y="2180160"/>
                <a:ext cx="267120" cy="26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3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23"/>
              <p:cNvSpPr/>
              <p:nvPr/>
            </p:nvSpPr>
            <p:spPr>
              <a:xfrm flipH="1">
                <a:off x="2894040" y="1992960"/>
                <a:ext cx="10656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24"/>
              <p:cNvSpPr/>
              <p:nvPr/>
            </p:nvSpPr>
            <p:spPr>
              <a:xfrm flipH="1">
                <a:off x="3160800" y="2180160"/>
                <a:ext cx="267480" cy="267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3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25"/>
              <p:cNvSpPr/>
              <p:nvPr/>
            </p:nvSpPr>
            <p:spPr>
              <a:xfrm>
                <a:off x="3161520" y="1992960"/>
                <a:ext cx="106920" cy="18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Text Box 26"/>
          <p:cNvSpPr/>
          <p:nvPr/>
        </p:nvSpPr>
        <p:spPr>
          <a:xfrm>
            <a:off x="533520" y="11430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he array representation of the three set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9"/>
          <p:cNvSpPr/>
          <p:nvPr/>
        </p:nvSpPr>
        <p:spPr>
          <a:xfrm>
            <a:off x="609480" y="2819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[ 4 ] =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60"/>
          <p:cNvSpPr/>
          <p:nvPr/>
        </p:nvSpPr>
        <p:spPr>
          <a:xfrm>
            <a:off x="1438200" y="1905120"/>
            <a:ext cx="762120" cy="0"/>
          </a:xfrm>
          <a:prstGeom prst="line">
            <a:avLst/>
          </a:prstGeom>
          <a:ln w="255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2"/>
          <p:cNvSpPr/>
          <p:nvPr/>
        </p:nvSpPr>
        <p:spPr>
          <a:xfrm>
            <a:off x="533520" y="3581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ind (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3"/>
          <p:cNvSpPr/>
          <p:nvPr/>
        </p:nvSpPr>
        <p:spPr>
          <a:xfrm>
            <a:off x="609480" y="40384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Implementation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64"/>
          <p:cNvGrpSpPr/>
          <p:nvPr/>
        </p:nvGrpSpPr>
        <p:grpSpPr>
          <a:xfrm>
            <a:off x="609480" y="4495680"/>
            <a:ext cx="3200400" cy="1143000"/>
            <a:chOff x="609480" y="4495680"/>
            <a:chExt cx="3200400" cy="1143000"/>
          </a:xfrm>
        </p:grpSpPr>
        <p:sp>
          <p:nvSpPr>
            <p:cNvPr id="194" name="Rectangle 65"/>
            <p:cNvSpPr/>
            <p:nvPr/>
          </p:nvSpPr>
          <p:spPr>
            <a:xfrm>
              <a:off x="609480" y="4800240"/>
              <a:ext cx="1143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ame[k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66"/>
            <p:cNvSpPr/>
            <p:nvPr/>
          </p:nvSpPr>
          <p:spPr>
            <a:xfrm>
              <a:off x="1752480" y="4800240"/>
              <a:ext cx="45720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67"/>
            <p:cNvSpPr/>
            <p:nvPr/>
          </p:nvSpPr>
          <p:spPr>
            <a:xfrm>
              <a:off x="2209680" y="4800240"/>
              <a:ext cx="30492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68"/>
            <p:cNvSpPr/>
            <p:nvPr/>
          </p:nvSpPr>
          <p:spPr>
            <a:xfrm>
              <a:off x="1752480" y="4495680"/>
              <a:ext cx="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69"/>
            <p:cNvSpPr/>
            <p:nvPr/>
          </p:nvSpPr>
          <p:spPr>
            <a:xfrm>
              <a:off x="2209680" y="4495680"/>
              <a:ext cx="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70"/>
            <p:cNvSpPr/>
            <p:nvPr/>
          </p:nvSpPr>
          <p:spPr>
            <a:xfrm>
              <a:off x="2514600" y="4495680"/>
              <a:ext cx="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71"/>
            <p:cNvSpPr/>
            <p:nvPr/>
          </p:nvSpPr>
          <p:spPr>
            <a:xfrm>
              <a:off x="3124080" y="4647960"/>
              <a:ext cx="38124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72"/>
            <p:cNvSpPr/>
            <p:nvPr/>
          </p:nvSpPr>
          <p:spPr>
            <a:xfrm>
              <a:off x="2819520" y="5257440"/>
              <a:ext cx="38088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73"/>
            <p:cNvSpPr/>
            <p:nvPr/>
          </p:nvSpPr>
          <p:spPr>
            <a:xfrm flipH="1">
              <a:off x="3047760" y="4991040"/>
              <a:ext cx="15228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74"/>
            <p:cNvSpPr/>
            <p:nvPr/>
          </p:nvSpPr>
          <p:spPr>
            <a:xfrm flipH="1">
              <a:off x="3429000" y="5181480"/>
              <a:ext cx="38088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75"/>
            <p:cNvSpPr/>
            <p:nvPr/>
          </p:nvSpPr>
          <p:spPr>
            <a:xfrm>
              <a:off x="3429000" y="4991040"/>
              <a:ext cx="15228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76"/>
            <p:cNvSpPr/>
            <p:nvPr/>
          </p:nvSpPr>
          <p:spPr>
            <a:xfrm>
              <a:off x="2362320" y="4876560"/>
              <a:ext cx="761760" cy="177840"/>
            </a:xfrm>
            <a:custGeom>
              <a:avLst/>
              <a:gdLst>
                <a:gd name="textAreaLeft" fmla="*/ 0 w 761760"/>
                <a:gd name="textAreaRight" fmla="*/ 762120 w 7617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80" h="112">
                  <a:moveTo>
                    <a:pt x="0" y="96"/>
                  </a:moveTo>
                  <a:cubicBezTo>
                    <a:pt x="56" y="104"/>
                    <a:pt x="112" y="112"/>
                    <a:pt x="192" y="96"/>
                  </a:cubicBezTo>
                  <a:cubicBezTo>
                    <a:pt x="272" y="80"/>
                    <a:pt x="376" y="40"/>
                    <a:pt x="480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77"/>
            <p:cNvSpPr/>
            <p:nvPr/>
          </p:nvSpPr>
          <p:spPr>
            <a:xfrm>
              <a:off x="2514600" y="4686120"/>
              <a:ext cx="685800" cy="26676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432" h="168">
                  <a:moveTo>
                    <a:pt x="432" y="24"/>
                  </a:moveTo>
                  <a:cubicBezTo>
                    <a:pt x="396" y="12"/>
                    <a:pt x="360" y="0"/>
                    <a:pt x="288" y="24"/>
                  </a:cubicBezTo>
                  <a:cubicBezTo>
                    <a:pt x="216" y="48"/>
                    <a:pt x="108" y="108"/>
                    <a:pt x="0" y="16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Rectangle 78"/>
          <p:cNvSpPr/>
          <p:nvPr/>
        </p:nvSpPr>
        <p:spPr>
          <a:xfrm>
            <a:off x="1066680" y="5715000"/>
            <a:ext cx="1295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( i )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79"/>
          <p:cNvSpPr/>
          <p:nvPr/>
        </p:nvSpPr>
        <p:spPr>
          <a:xfrm flipV="1">
            <a:off x="3048120" y="5028840"/>
            <a:ext cx="152280" cy="228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80"/>
          <p:cNvSpPr/>
          <p:nvPr/>
        </p:nvSpPr>
        <p:spPr>
          <a:xfrm flipH="1">
            <a:off x="1523520" y="4724280"/>
            <a:ext cx="1600200" cy="152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81"/>
          <p:cNvSpPr/>
          <p:nvPr/>
        </p:nvSpPr>
        <p:spPr>
          <a:xfrm>
            <a:off x="1828800" y="4800600"/>
            <a:ext cx="30492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2"/>
          <p:cNvSpPr/>
          <p:nvPr/>
        </p:nvSpPr>
        <p:spPr>
          <a:xfrm>
            <a:off x="2362320" y="57150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83"/>
          <p:cNvSpPr/>
          <p:nvPr/>
        </p:nvSpPr>
        <p:spPr>
          <a:xfrm>
            <a:off x="4267080" y="40384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Implementation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84"/>
          <p:cNvGrpSpPr/>
          <p:nvPr/>
        </p:nvGrpSpPr>
        <p:grpSpPr>
          <a:xfrm>
            <a:off x="4648320" y="4572000"/>
            <a:ext cx="3962160" cy="1600200"/>
            <a:chOff x="4648320" y="4572000"/>
            <a:chExt cx="3962160" cy="1600200"/>
          </a:xfrm>
        </p:grpSpPr>
        <p:sp>
          <p:nvSpPr>
            <p:cNvPr id="214" name="AutoShape 85"/>
            <p:cNvSpPr/>
            <p:nvPr/>
          </p:nvSpPr>
          <p:spPr>
            <a:xfrm>
              <a:off x="4648320" y="4572000"/>
              <a:ext cx="3962160" cy="16002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0" rIns="90000" tIns="82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86"/>
            <p:cNvSpPr/>
            <p:nvPr/>
          </p:nvSpPr>
          <p:spPr>
            <a:xfrm>
              <a:off x="4648320" y="4572000"/>
              <a:ext cx="3888360" cy="15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0" rIns="90000" tIns="82800" bIns="46800" anchor="t">
              <a:spAutoFit/>
            </a:bodyPr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Type  Find ( ElementType X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jSet S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{   </a:t>
              </a: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fo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( ; S[X] &gt; 0; X = S[X] )   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retur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X 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87"/>
          <p:cNvGrpSpPr/>
          <p:nvPr/>
        </p:nvGrpSpPr>
        <p:grpSpPr>
          <a:xfrm>
            <a:off x="4648320" y="2590920"/>
            <a:ext cx="3962160" cy="1295280"/>
            <a:chOff x="4648320" y="2590920"/>
            <a:chExt cx="3962160" cy="1295280"/>
          </a:xfrm>
        </p:grpSpPr>
        <p:sp>
          <p:nvSpPr>
            <p:cNvPr id="217" name="AutoShape 88"/>
            <p:cNvSpPr/>
            <p:nvPr/>
          </p:nvSpPr>
          <p:spPr>
            <a:xfrm>
              <a:off x="4648320" y="2590920"/>
              <a:ext cx="3962160" cy="12952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89"/>
            <p:cNvSpPr/>
            <p:nvPr/>
          </p:nvSpPr>
          <p:spPr>
            <a:xfrm>
              <a:off x="4648320" y="2590920"/>
              <a:ext cx="3888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voi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SetUnion ( DisjSet S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Type Rt1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tType Rt2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{    S [ Rt2 ] = Rt1 ;    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91"/>
          <p:cNvGrpSpPr/>
          <p:nvPr/>
        </p:nvGrpSpPr>
        <p:grpSpPr>
          <a:xfrm>
            <a:off x="3124080" y="1676520"/>
            <a:ext cx="5486400" cy="761760"/>
            <a:chOff x="3124080" y="1676520"/>
            <a:chExt cx="5486400" cy="761760"/>
          </a:xfrm>
        </p:grpSpPr>
        <p:grpSp>
          <p:nvGrpSpPr>
            <p:cNvPr id="220" name="Group 92"/>
            <p:cNvGrpSpPr/>
            <p:nvPr/>
          </p:nvGrpSpPr>
          <p:grpSpPr>
            <a:xfrm>
              <a:off x="4035600" y="1676520"/>
              <a:ext cx="457200" cy="761760"/>
              <a:chOff x="4035600" y="1676520"/>
              <a:chExt cx="457200" cy="761760"/>
            </a:xfrm>
          </p:grpSpPr>
          <p:sp>
            <p:nvSpPr>
              <p:cNvPr id="221" name="Rectangle 93"/>
              <p:cNvSpPr/>
              <p:nvPr/>
            </p:nvSpPr>
            <p:spPr>
              <a:xfrm>
                <a:off x="4035600" y="167652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94"/>
              <p:cNvSpPr/>
              <p:nvPr/>
            </p:nvSpPr>
            <p:spPr>
              <a:xfrm>
                <a:off x="4035600" y="205740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95"/>
            <p:cNvGrpSpPr/>
            <p:nvPr/>
          </p:nvGrpSpPr>
          <p:grpSpPr>
            <a:xfrm>
              <a:off x="4492800" y="1676520"/>
              <a:ext cx="457200" cy="761760"/>
              <a:chOff x="4492800" y="1676520"/>
              <a:chExt cx="457200" cy="761760"/>
            </a:xfrm>
          </p:grpSpPr>
          <p:sp>
            <p:nvSpPr>
              <p:cNvPr id="224" name="Rectangle 96"/>
              <p:cNvSpPr/>
              <p:nvPr/>
            </p:nvSpPr>
            <p:spPr>
              <a:xfrm>
                <a:off x="4492800" y="167652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33"/>
                    </a:solidFill>
                    <a:latin typeface="Times New Roman"/>
                  </a:rPr>
                  <a:t>[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97"/>
              <p:cNvSpPr/>
              <p:nvPr/>
            </p:nvSpPr>
            <p:spPr>
              <a:xfrm>
                <a:off x="4492800" y="205740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33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98"/>
            <p:cNvGrpSpPr/>
            <p:nvPr/>
          </p:nvGrpSpPr>
          <p:grpSpPr>
            <a:xfrm>
              <a:off x="8153280" y="1676520"/>
              <a:ext cx="457200" cy="761760"/>
              <a:chOff x="8153280" y="1676520"/>
              <a:chExt cx="457200" cy="761760"/>
            </a:xfrm>
          </p:grpSpPr>
          <p:sp>
            <p:nvSpPr>
              <p:cNvPr id="227" name="Rectangle 99"/>
              <p:cNvSpPr/>
              <p:nvPr/>
            </p:nvSpPr>
            <p:spPr>
              <a:xfrm>
                <a:off x="8153280" y="167652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[1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100"/>
              <p:cNvSpPr/>
              <p:nvPr/>
            </p:nvSpPr>
            <p:spPr>
              <a:xfrm>
                <a:off x="8153280" y="205740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101"/>
            <p:cNvGrpSpPr/>
            <p:nvPr/>
          </p:nvGrpSpPr>
          <p:grpSpPr>
            <a:xfrm>
              <a:off x="7693200" y="1676520"/>
              <a:ext cx="457200" cy="761760"/>
              <a:chOff x="7693200" y="1676520"/>
              <a:chExt cx="457200" cy="761760"/>
            </a:xfrm>
          </p:grpSpPr>
          <p:sp>
            <p:nvSpPr>
              <p:cNvPr id="230" name="Rectangle 102"/>
              <p:cNvSpPr/>
              <p:nvPr/>
            </p:nvSpPr>
            <p:spPr>
              <a:xfrm>
                <a:off x="7693200" y="167652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[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103"/>
              <p:cNvSpPr/>
              <p:nvPr/>
            </p:nvSpPr>
            <p:spPr>
              <a:xfrm>
                <a:off x="7693200" y="205740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104"/>
            <p:cNvGrpSpPr/>
            <p:nvPr/>
          </p:nvGrpSpPr>
          <p:grpSpPr>
            <a:xfrm>
              <a:off x="7236000" y="1676520"/>
              <a:ext cx="457200" cy="761760"/>
              <a:chOff x="7236000" y="1676520"/>
              <a:chExt cx="457200" cy="761760"/>
            </a:xfrm>
          </p:grpSpPr>
          <p:sp>
            <p:nvSpPr>
              <p:cNvPr id="233" name="Rectangle 105"/>
              <p:cNvSpPr/>
              <p:nvPr/>
            </p:nvSpPr>
            <p:spPr>
              <a:xfrm>
                <a:off x="7236000" y="167652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[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106"/>
              <p:cNvSpPr/>
              <p:nvPr/>
            </p:nvSpPr>
            <p:spPr>
              <a:xfrm>
                <a:off x="7236000" y="205740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107"/>
            <p:cNvGrpSpPr/>
            <p:nvPr/>
          </p:nvGrpSpPr>
          <p:grpSpPr>
            <a:xfrm>
              <a:off x="6778800" y="1676520"/>
              <a:ext cx="457200" cy="761760"/>
              <a:chOff x="6778800" y="1676520"/>
              <a:chExt cx="457200" cy="761760"/>
            </a:xfrm>
          </p:grpSpPr>
          <p:sp>
            <p:nvSpPr>
              <p:cNvPr id="236" name="Rectangle 108"/>
              <p:cNvSpPr/>
              <p:nvPr/>
            </p:nvSpPr>
            <p:spPr>
              <a:xfrm>
                <a:off x="6778800" y="167652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[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109"/>
              <p:cNvSpPr/>
              <p:nvPr/>
            </p:nvSpPr>
            <p:spPr>
              <a:xfrm>
                <a:off x="6778800" y="205740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110"/>
            <p:cNvGrpSpPr/>
            <p:nvPr/>
          </p:nvGrpSpPr>
          <p:grpSpPr>
            <a:xfrm>
              <a:off x="6321600" y="1676520"/>
              <a:ext cx="457200" cy="761760"/>
              <a:chOff x="6321600" y="1676520"/>
              <a:chExt cx="457200" cy="761760"/>
            </a:xfrm>
          </p:grpSpPr>
          <p:sp>
            <p:nvSpPr>
              <p:cNvPr id="239" name="Rectangle 111"/>
              <p:cNvSpPr/>
              <p:nvPr/>
            </p:nvSpPr>
            <p:spPr>
              <a:xfrm>
                <a:off x="6321600" y="167652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[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112"/>
              <p:cNvSpPr/>
              <p:nvPr/>
            </p:nvSpPr>
            <p:spPr>
              <a:xfrm>
                <a:off x="6321600" y="205740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113"/>
            <p:cNvGrpSpPr/>
            <p:nvPr/>
          </p:nvGrpSpPr>
          <p:grpSpPr>
            <a:xfrm>
              <a:off x="5864400" y="1676520"/>
              <a:ext cx="457200" cy="761760"/>
              <a:chOff x="5864400" y="1676520"/>
              <a:chExt cx="457200" cy="761760"/>
            </a:xfrm>
          </p:grpSpPr>
          <p:sp>
            <p:nvSpPr>
              <p:cNvPr id="242" name="Rectangle 114"/>
              <p:cNvSpPr/>
              <p:nvPr/>
            </p:nvSpPr>
            <p:spPr>
              <a:xfrm>
                <a:off x="5864400" y="167652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115"/>
              <p:cNvSpPr/>
              <p:nvPr/>
            </p:nvSpPr>
            <p:spPr>
              <a:xfrm>
                <a:off x="5864400" y="205740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3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116"/>
            <p:cNvGrpSpPr/>
            <p:nvPr/>
          </p:nvGrpSpPr>
          <p:grpSpPr>
            <a:xfrm>
              <a:off x="5407200" y="1676520"/>
              <a:ext cx="457200" cy="761760"/>
              <a:chOff x="5407200" y="1676520"/>
              <a:chExt cx="457200" cy="761760"/>
            </a:xfrm>
          </p:grpSpPr>
          <p:sp>
            <p:nvSpPr>
              <p:cNvPr id="245" name="Rectangle 117"/>
              <p:cNvSpPr/>
              <p:nvPr/>
            </p:nvSpPr>
            <p:spPr>
              <a:xfrm>
                <a:off x="5407200" y="167652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[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118"/>
              <p:cNvSpPr/>
              <p:nvPr/>
            </p:nvSpPr>
            <p:spPr>
              <a:xfrm>
                <a:off x="5407200" y="205740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119"/>
            <p:cNvGrpSpPr/>
            <p:nvPr/>
          </p:nvGrpSpPr>
          <p:grpSpPr>
            <a:xfrm>
              <a:off x="4950000" y="1676520"/>
              <a:ext cx="457200" cy="761760"/>
              <a:chOff x="4950000" y="1676520"/>
              <a:chExt cx="457200" cy="761760"/>
            </a:xfrm>
          </p:grpSpPr>
          <p:sp>
            <p:nvSpPr>
              <p:cNvPr id="248" name="Rectangle 120"/>
              <p:cNvSpPr/>
              <p:nvPr/>
            </p:nvSpPr>
            <p:spPr>
              <a:xfrm>
                <a:off x="4950000" y="167652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121"/>
              <p:cNvSpPr/>
              <p:nvPr/>
            </p:nvSpPr>
            <p:spPr>
              <a:xfrm>
                <a:off x="4950000" y="2057400"/>
                <a:ext cx="4572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3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Rectangle 122"/>
            <p:cNvSpPr/>
            <p:nvPr/>
          </p:nvSpPr>
          <p:spPr>
            <a:xfrm>
              <a:off x="31240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Rectangle 123"/>
          <p:cNvSpPr/>
          <p:nvPr/>
        </p:nvSpPr>
        <p:spPr>
          <a:xfrm>
            <a:off x="5410080" y="2057400"/>
            <a:ext cx="457200" cy="3808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24"/>
          <p:cNvSpPr/>
          <p:nvPr/>
        </p:nvSpPr>
        <p:spPr>
          <a:xfrm>
            <a:off x="0" y="6477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36"/>
          <p:cNvSpPr/>
          <p:nvPr/>
        </p:nvSpPr>
        <p:spPr>
          <a:xfrm>
            <a:off x="5791320" y="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asic Data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533520" y="152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609480" y="609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cally speaking, union and find are always paired. Thus we consider the performance of a sequence of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ion-find oper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380880" y="17524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{ 1, 2, 3, 4, 5, 6, 7, 8, 9, 10, 11, 12 } and 9 relations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We have 3 equivalence classes {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, 4, 7, 11, 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, {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, 3, 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, and {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6, 8, 9, 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Group 40"/>
          <p:cNvGrpSpPr/>
          <p:nvPr/>
        </p:nvGrpSpPr>
        <p:grpSpPr>
          <a:xfrm>
            <a:off x="609480" y="3429000"/>
            <a:ext cx="8076960" cy="2743200"/>
            <a:chOff x="609480" y="3429000"/>
            <a:chExt cx="8076960" cy="2743200"/>
          </a:xfrm>
        </p:grpSpPr>
        <p:sp>
          <p:nvSpPr>
            <p:cNvPr id="258" name="AutoShape 41"/>
            <p:cNvSpPr/>
            <p:nvPr/>
          </p:nvSpPr>
          <p:spPr>
            <a:xfrm>
              <a:off x="609480" y="3429000"/>
              <a:ext cx="8076960" cy="274320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42"/>
            <p:cNvSpPr/>
            <p:nvPr/>
          </p:nvSpPr>
          <p:spPr>
            <a:xfrm>
              <a:off x="609480" y="3429000"/>
              <a:ext cx="7926840" cy="24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85640" indent="-485640"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Algorithm using union-find oper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{  Initialize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{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}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1, ..., 12 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fo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( k = 1; k &lt;= 9; k++ )  { 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</a:rPr>
                <a:t>/* for each pair  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i </a:t>
              </a:r>
              <a:r>
                <a:rPr b="1" lang="en-US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</a:t>
              </a:r>
              <a:r>
                <a:rPr b="1" i="1" lang="en-US" sz="2400" spc="-1" strike="noStrike">
                  <a:solidFill>
                    <a:srgbClr val="339933"/>
                  </a:solidFill>
                  <a:latin typeface="Times New Roman"/>
                </a:rPr>
                <a:t> j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</a:rPr>
                <a:t>*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f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( Find( i ) != Find( j )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tUnion( Find( i ), Find( j ) 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85640" indent="-4856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Line 43"/>
          <p:cNvSpPr/>
          <p:nvPr/>
        </p:nvSpPr>
        <p:spPr>
          <a:xfrm>
            <a:off x="1371600" y="5181480"/>
            <a:ext cx="3581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4"/>
          <p:cNvSpPr/>
          <p:nvPr/>
        </p:nvSpPr>
        <p:spPr>
          <a:xfrm>
            <a:off x="5638680" y="1371600"/>
            <a:ext cx="2743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5"/>
          <p:cNvSpPr/>
          <p:nvPr/>
        </p:nvSpPr>
        <p:spPr>
          <a:xfrm>
            <a:off x="685800" y="1752480"/>
            <a:ext cx="198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46"/>
          <p:cNvGrpSpPr/>
          <p:nvPr/>
        </p:nvGrpSpPr>
        <p:grpSpPr>
          <a:xfrm>
            <a:off x="2133720" y="2971800"/>
            <a:ext cx="4114800" cy="3200400"/>
            <a:chOff x="2133720" y="2971800"/>
            <a:chExt cx="4114800" cy="3200400"/>
          </a:xfrm>
        </p:grpSpPr>
        <p:sp>
          <p:nvSpPr>
            <p:cNvPr id="264" name="Oval 47"/>
            <p:cNvSpPr/>
            <p:nvPr/>
          </p:nvSpPr>
          <p:spPr>
            <a:xfrm>
              <a:off x="2133720" y="2971800"/>
              <a:ext cx="4114800" cy="320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Group 48"/>
            <p:cNvGrpSpPr/>
            <p:nvPr/>
          </p:nvGrpSpPr>
          <p:grpSpPr>
            <a:xfrm>
              <a:off x="2895480" y="3058920"/>
              <a:ext cx="2819160" cy="2660760"/>
              <a:chOff x="2895480" y="3058920"/>
              <a:chExt cx="2819160" cy="2660760"/>
            </a:xfrm>
          </p:grpSpPr>
          <p:grpSp>
            <p:nvGrpSpPr>
              <p:cNvPr id="266" name="Group 49"/>
              <p:cNvGrpSpPr/>
              <p:nvPr/>
            </p:nvGrpSpPr>
            <p:grpSpPr>
              <a:xfrm>
                <a:off x="3970440" y="3896280"/>
                <a:ext cx="1076760" cy="573120"/>
                <a:chOff x="3970440" y="3896280"/>
                <a:chExt cx="1076760" cy="573120"/>
              </a:xfrm>
            </p:grpSpPr>
            <p:grpSp>
              <p:nvGrpSpPr>
                <p:cNvPr id="267" name="Group 50"/>
                <p:cNvGrpSpPr/>
                <p:nvPr/>
              </p:nvGrpSpPr>
              <p:grpSpPr>
                <a:xfrm>
                  <a:off x="3970440" y="4080600"/>
                  <a:ext cx="352080" cy="388800"/>
                  <a:chOff x="3970440" y="4080600"/>
                  <a:chExt cx="352080" cy="388800"/>
                </a:xfrm>
              </p:grpSpPr>
              <p:sp>
                <p:nvSpPr>
                  <p:cNvPr id="268" name="Freeform 51"/>
                  <p:cNvSpPr/>
                  <p:nvPr/>
                </p:nvSpPr>
                <p:spPr>
                  <a:xfrm flipH="1" rot="4723800">
                    <a:off x="3977280" y="4129200"/>
                    <a:ext cx="338400" cy="291600"/>
                  </a:xfrm>
                  <a:custGeom>
                    <a:avLst/>
                    <a:gdLst>
                      <a:gd name="textAreaLeft" fmla="*/ 360 w 338400"/>
                      <a:gd name="textAreaRight" fmla="*/ 339120 w 338400"/>
                      <a:gd name="textAreaTop" fmla="*/ 0 h 291600"/>
                      <a:gd name="textAreaBottom" fmla="*/ 291960 h 291600"/>
                    </a:gdLst>
                    <a:ahLst/>
                    <a:rect l="textAreaLeft" t="textAreaTop" r="textAreaRight" b="textAreaBottom"/>
                    <a:pathLst>
                      <a:path w="571" h="510">
                        <a:moveTo>
                          <a:pt x="88" y="64"/>
                        </a:moveTo>
                        <a:lnTo>
                          <a:pt x="50" y="130"/>
                        </a:lnTo>
                        <a:lnTo>
                          <a:pt x="38" y="156"/>
                        </a:lnTo>
                        <a:lnTo>
                          <a:pt x="31" y="184"/>
                        </a:lnTo>
                        <a:lnTo>
                          <a:pt x="24" y="225"/>
                        </a:lnTo>
                        <a:lnTo>
                          <a:pt x="24" y="264"/>
                        </a:lnTo>
                        <a:lnTo>
                          <a:pt x="29" y="302"/>
                        </a:lnTo>
                        <a:lnTo>
                          <a:pt x="45" y="337"/>
                        </a:lnTo>
                        <a:lnTo>
                          <a:pt x="78" y="361"/>
                        </a:lnTo>
                        <a:lnTo>
                          <a:pt x="43" y="340"/>
                        </a:lnTo>
                        <a:lnTo>
                          <a:pt x="29" y="338"/>
                        </a:lnTo>
                        <a:lnTo>
                          <a:pt x="10" y="345"/>
                        </a:lnTo>
                        <a:lnTo>
                          <a:pt x="3" y="357"/>
                        </a:lnTo>
                        <a:lnTo>
                          <a:pt x="0" y="373"/>
                        </a:lnTo>
                        <a:lnTo>
                          <a:pt x="5" y="387"/>
                        </a:lnTo>
                        <a:lnTo>
                          <a:pt x="15" y="404"/>
                        </a:lnTo>
                        <a:lnTo>
                          <a:pt x="60" y="437"/>
                        </a:lnTo>
                        <a:lnTo>
                          <a:pt x="128" y="463"/>
                        </a:lnTo>
                        <a:lnTo>
                          <a:pt x="158" y="474"/>
                        </a:lnTo>
                        <a:lnTo>
                          <a:pt x="191" y="479"/>
                        </a:lnTo>
                        <a:lnTo>
                          <a:pt x="218" y="479"/>
                        </a:lnTo>
                        <a:lnTo>
                          <a:pt x="248" y="488"/>
                        </a:lnTo>
                        <a:lnTo>
                          <a:pt x="284" y="500"/>
                        </a:lnTo>
                        <a:lnTo>
                          <a:pt x="366" y="510"/>
                        </a:lnTo>
                        <a:lnTo>
                          <a:pt x="463" y="489"/>
                        </a:lnTo>
                        <a:lnTo>
                          <a:pt x="527" y="489"/>
                        </a:lnTo>
                        <a:lnTo>
                          <a:pt x="543" y="484"/>
                        </a:lnTo>
                        <a:lnTo>
                          <a:pt x="559" y="469"/>
                        </a:lnTo>
                        <a:lnTo>
                          <a:pt x="564" y="448"/>
                        </a:lnTo>
                        <a:lnTo>
                          <a:pt x="571" y="364"/>
                        </a:lnTo>
                        <a:lnTo>
                          <a:pt x="571" y="297"/>
                        </a:lnTo>
                        <a:lnTo>
                          <a:pt x="567" y="262"/>
                        </a:lnTo>
                        <a:lnTo>
                          <a:pt x="564" y="239"/>
                        </a:lnTo>
                        <a:lnTo>
                          <a:pt x="559" y="215"/>
                        </a:lnTo>
                        <a:lnTo>
                          <a:pt x="553" y="191"/>
                        </a:lnTo>
                        <a:lnTo>
                          <a:pt x="522" y="99"/>
                        </a:lnTo>
                        <a:lnTo>
                          <a:pt x="489" y="0"/>
                        </a:lnTo>
                        <a:lnTo>
                          <a:pt x="88" y="6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Arc 52"/>
                  <p:cNvSpPr/>
                  <p:nvPr/>
                </p:nvSpPr>
                <p:spPr>
                  <a:xfrm flipH="1" rot="4723800">
                    <a:off x="4103640" y="4388760"/>
                    <a:ext cx="8280" cy="19080"/>
                  </a:xfrm>
                  <a:custGeom>
                    <a:avLst/>
                    <a:gdLst>
                      <a:gd name="textAreaLeft" fmla="*/ -360 w 8280"/>
                      <a:gd name="textAreaRight" fmla="*/ 8280 w 82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fill="none" w="21584" h="21468">
                        <a:moveTo>
                          <a:pt x="0" y="20627"/>
                        </a:moveTo>
                        <a:cubicBezTo>
                          <a:pt x="416" y="9948"/>
                          <a:pt x="8578" y="1180"/>
                          <a:pt x="19199" y="0"/>
                        </a:cubicBezTo>
                      </a:path>
                      <a:path stroke="0" w="21584" h="21468">
                        <a:moveTo>
                          <a:pt x="0" y="20627"/>
                        </a:moveTo>
                        <a:cubicBezTo>
                          <a:pt x="416" y="9948"/>
                          <a:pt x="8578" y="1180"/>
                          <a:pt x="19199" y="0"/>
                        </a:cubicBezTo>
                        <a:lnTo>
                          <a:pt x="21584" y="21468"/>
                        </a:lnTo>
                        <a:lnTo>
                          <a:pt x="0" y="20627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Rectangle 53"/>
                <p:cNvSpPr/>
                <p:nvPr/>
              </p:nvSpPr>
              <p:spPr>
                <a:xfrm flipH="1" rot="4723800">
                  <a:off x="4084200" y="4193640"/>
                  <a:ext cx="283680" cy="5112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Freeform 54"/>
                <p:cNvSpPr/>
                <p:nvPr/>
              </p:nvSpPr>
              <p:spPr>
                <a:xfrm flipH="1" rot="4723800">
                  <a:off x="4453200" y="3738240"/>
                  <a:ext cx="335880" cy="801720"/>
                </a:xfrm>
                <a:custGeom>
                  <a:avLst/>
                  <a:gdLst>
                    <a:gd name="textAreaLeft" fmla="*/ -360 w 335880"/>
                    <a:gd name="textAreaRight" fmla="*/ 335880 w 335880"/>
                    <a:gd name="textAreaTop" fmla="*/ 0 h 801720"/>
                    <a:gd name="textAreaBottom" fmla="*/ 802080 h 801720"/>
                  </a:gdLst>
                  <a:ahLst/>
                  <a:rect l="textAreaLeft" t="textAreaTop" r="textAreaRight" b="textAreaBottom"/>
                  <a:pathLst>
                    <a:path w="566" h="1408">
                      <a:moveTo>
                        <a:pt x="26" y="484"/>
                      </a:moveTo>
                      <a:lnTo>
                        <a:pt x="15" y="903"/>
                      </a:lnTo>
                      <a:lnTo>
                        <a:pt x="0" y="1408"/>
                      </a:lnTo>
                      <a:lnTo>
                        <a:pt x="543" y="1403"/>
                      </a:lnTo>
                      <a:lnTo>
                        <a:pt x="548" y="873"/>
                      </a:lnTo>
                      <a:lnTo>
                        <a:pt x="547" y="599"/>
                      </a:lnTo>
                      <a:lnTo>
                        <a:pt x="566" y="314"/>
                      </a:lnTo>
                      <a:lnTo>
                        <a:pt x="560" y="247"/>
                      </a:lnTo>
                      <a:lnTo>
                        <a:pt x="555" y="200"/>
                      </a:lnTo>
                      <a:lnTo>
                        <a:pt x="545" y="151"/>
                      </a:lnTo>
                      <a:lnTo>
                        <a:pt x="534" y="120"/>
                      </a:lnTo>
                      <a:lnTo>
                        <a:pt x="515" y="85"/>
                      </a:lnTo>
                      <a:lnTo>
                        <a:pt x="496" y="62"/>
                      </a:lnTo>
                      <a:lnTo>
                        <a:pt x="463" y="40"/>
                      </a:lnTo>
                      <a:lnTo>
                        <a:pt x="423" y="19"/>
                      </a:lnTo>
                      <a:lnTo>
                        <a:pt x="380" y="7"/>
                      </a:lnTo>
                      <a:lnTo>
                        <a:pt x="331" y="2"/>
                      </a:lnTo>
                      <a:lnTo>
                        <a:pt x="291" y="0"/>
                      </a:lnTo>
                      <a:lnTo>
                        <a:pt x="243" y="9"/>
                      </a:lnTo>
                      <a:lnTo>
                        <a:pt x="196" y="24"/>
                      </a:lnTo>
                      <a:lnTo>
                        <a:pt x="168" y="42"/>
                      </a:lnTo>
                      <a:lnTo>
                        <a:pt x="135" y="66"/>
                      </a:lnTo>
                      <a:lnTo>
                        <a:pt x="111" y="95"/>
                      </a:lnTo>
                      <a:lnTo>
                        <a:pt x="85" y="139"/>
                      </a:lnTo>
                      <a:lnTo>
                        <a:pt x="66" y="187"/>
                      </a:lnTo>
                      <a:lnTo>
                        <a:pt x="48" y="267"/>
                      </a:lnTo>
                      <a:lnTo>
                        <a:pt x="26" y="484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Group 55"/>
              <p:cNvGrpSpPr/>
              <p:nvPr/>
            </p:nvGrpSpPr>
            <p:grpSpPr>
              <a:xfrm>
                <a:off x="4705200" y="5498280"/>
                <a:ext cx="819720" cy="163800"/>
                <a:chOff x="4705200" y="5498280"/>
                <a:chExt cx="819720" cy="163800"/>
              </a:xfrm>
            </p:grpSpPr>
            <p:sp>
              <p:nvSpPr>
                <p:cNvPr id="273" name="Freeform 56"/>
                <p:cNvSpPr/>
                <p:nvPr/>
              </p:nvSpPr>
              <p:spPr>
                <a:xfrm flipH="1">
                  <a:off x="4705200" y="5498280"/>
                  <a:ext cx="519840" cy="136440"/>
                </a:xfrm>
                <a:custGeom>
                  <a:avLst/>
                  <a:gdLst>
                    <a:gd name="textAreaLeft" fmla="*/ 360 w 519840"/>
                    <a:gd name="textAreaRight" fmla="*/ 520560 w 51984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913" h="229">
                      <a:moveTo>
                        <a:pt x="0" y="42"/>
                      </a:moveTo>
                      <a:lnTo>
                        <a:pt x="0" y="179"/>
                      </a:lnTo>
                      <a:lnTo>
                        <a:pt x="245" y="179"/>
                      </a:lnTo>
                      <a:lnTo>
                        <a:pt x="252" y="151"/>
                      </a:lnTo>
                      <a:lnTo>
                        <a:pt x="300" y="179"/>
                      </a:lnTo>
                      <a:lnTo>
                        <a:pt x="391" y="203"/>
                      </a:lnTo>
                      <a:lnTo>
                        <a:pt x="503" y="224"/>
                      </a:lnTo>
                      <a:lnTo>
                        <a:pt x="597" y="229"/>
                      </a:lnTo>
                      <a:lnTo>
                        <a:pt x="686" y="224"/>
                      </a:lnTo>
                      <a:lnTo>
                        <a:pt x="816" y="214"/>
                      </a:lnTo>
                      <a:lnTo>
                        <a:pt x="863" y="208"/>
                      </a:lnTo>
                      <a:lnTo>
                        <a:pt x="913" y="194"/>
                      </a:lnTo>
                      <a:lnTo>
                        <a:pt x="913" y="158"/>
                      </a:lnTo>
                      <a:lnTo>
                        <a:pt x="908" y="141"/>
                      </a:lnTo>
                      <a:lnTo>
                        <a:pt x="892" y="120"/>
                      </a:lnTo>
                      <a:lnTo>
                        <a:pt x="873" y="106"/>
                      </a:lnTo>
                      <a:lnTo>
                        <a:pt x="847" y="92"/>
                      </a:lnTo>
                      <a:lnTo>
                        <a:pt x="802" y="71"/>
                      </a:lnTo>
                      <a:lnTo>
                        <a:pt x="755" y="54"/>
                      </a:lnTo>
                      <a:lnTo>
                        <a:pt x="705" y="38"/>
                      </a:lnTo>
                      <a:lnTo>
                        <a:pt x="651" y="26"/>
                      </a:lnTo>
                      <a:lnTo>
                        <a:pt x="469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201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Freeform 57"/>
                <p:cNvSpPr/>
                <p:nvPr/>
              </p:nvSpPr>
              <p:spPr>
                <a:xfrm flipH="1">
                  <a:off x="5004360" y="5530320"/>
                  <a:ext cx="520200" cy="131760"/>
                </a:xfrm>
                <a:custGeom>
                  <a:avLst/>
                  <a:gdLst>
                    <a:gd name="textAreaLeft" fmla="*/ -360 w 520200"/>
                    <a:gd name="textAreaRight" fmla="*/ 520200 w 52020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913" h="222">
                      <a:moveTo>
                        <a:pt x="0" y="43"/>
                      </a:moveTo>
                      <a:lnTo>
                        <a:pt x="0" y="179"/>
                      </a:lnTo>
                      <a:lnTo>
                        <a:pt x="243" y="179"/>
                      </a:lnTo>
                      <a:lnTo>
                        <a:pt x="248" y="151"/>
                      </a:lnTo>
                      <a:lnTo>
                        <a:pt x="299" y="179"/>
                      </a:lnTo>
                      <a:lnTo>
                        <a:pt x="406" y="196"/>
                      </a:lnTo>
                      <a:lnTo>
                        <a:pt x="537" y="212"/>
                      </a:lnTo>
                      <a:lnTo>
                        <a:pt x="677" y="222"/>
                      </a:lnTo>
                      <a:lnTo>
                        <a:pt x="802" y="222"/>
                      </a:lnTo>
                      <a:lnTo>
                        <a:pt x="865" y="206"/>
                      </a:lnTo>
                      <a:lnTo>
                        <a:pt x="913" y="194"/>
                      </a:lnTo>
                      <a:lnTo>
                        <a:pt x="913" y="160"/>
                      </a:lnTo>
                      <a:lnTo>
                        <a:pt x="908" y="140"/>
                      </a:lnTo>
                      <a:lnTo>
                        <a:pt x="892" y="121"/>
                      </a:lnTo>
                      <a:lnTo>
                        <a:pt x="873" y="106"/>
                      </a:lnTo>
                      <a:lnTo>
                        <a:pt x="847" y="92"/>
                      </a:lnTo>
                      <a:lnTo>
                        <a:pt x="802" y="71"/>
                      </a:lnTo>
                      <a:lnTo>
                        <a:pt x="755" y="54"/>
                      </a:lnTo>
                      <a:lnTo>
                        <a:pt x="705" y="40"/>
                      </a:lnTo>
                      <a:lnTo>
                        <a:pt x="651" y="26"/>
                      </a:lnTo>
                      <a:lnTo>
                        <a:pt x="467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201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" name="Freeform 58"/>
              <p:cNvSpPr/>
              <p:nvPr/>
            </p:nvSpPr>
            <p:spPr>
              <a:xfrm flipH="1">
                <a:off x="4835160" y="4680360"/>
                <a:ext cx="486720" cy="838440"/>
              </a:xfrm>
              <a:custGeom>
                <a:avLst/>
                <a:gdLst>
                  <a:gd name="textAreaLeft" fmla="*/ 360 w 486720"/>
                  <a:gd name="textAreaRight" fmla="*/ 487440 w 48672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w="852" h="1411">
                    <a:moveTo>
                      <a:pt x="583" y="0"/>
                    </a:moveTo>
                    <a:lnTo>
                      <a:pt x="809" y="555"/>
                    </a:lnTo>
                    <a:lnTo>
                      <a:pt x="826" y="597"/>
                    </a:lnTo>
                    <a:lnTo>
                      <a:pt x="842" y="646"/>
                    </a:lnTo>
                    <a:lnTo>
                      <a:pt x="852" y="717"/>
                    </a:lnTo>
                    <a:lnTo>
                      <a:pt x="842" y="781"/>
                    </a:lnTo>
                    <a:lnTo>
                      <a:pt x="765" y="1010"/>
                    </a:lnTo>
                    <a:lnTo>
                      <a:pt x="737" y="1081"/>
                    </a:lnTo>
                    <a:lnTo>
                      <a:pt x="722" y="1153"/>
                    </a:lnTo>
                    <a:lnTo>
                      <a:pt x="755" y="1196"/>
                    </a:lnTo>
                    <a:lnTo>
                      <a:pt x="760" y="1229"/>
                    </a:lnTo>
                    <a:lnTo>
                      <a:pt x="727" y="1260"/>
                    </a:lnTo>
                    <a:lnTo>
                      <a:pt x="689" y="1304"/>
                    </a:lnTo>
                    <a:lnTo>
                      <a:pt x="727" y="1342"/>
                    </a:lnTo>
                    <a:lnTo>
                      <a:pt x="765" y="1411"/>
                    </a:lnTo>
                    <a:lnTo>
                      <a:pt x="158" y="1401"/>
                    </a:lnTo>
                    <a:lnTo>
                      <a:pt x="130" y="1250"/>
                    </a:lnTo>
                    <a:lnTo>
                      <a:pt x="152" y="1120"/>
                    </a:lnTo>
                    <a:lnTo>
                      <a:pt x="206" y="1000"/>
                    </a:lnTo>
                    <a:lnTo>
                      <a:pt x="239" y="934"/>
                    </a:lnTo>
                    <a:lnTo>
                      <a:pt x="387" y="738"/>
                    </a:lnTo>
                    <a:lnTo>
                      <a:pt x="343" y="640"/>
                    </a:lnTo>
                    <a:lnTo>
                      <a:pt x="0" y="15"/>
                    </a:lnTo>
                    <a:lnTo>
                      <a:pt x="583" y="0"/>
                    </a:lnTo>
                    <a:close/>
                  </a:path>
                </a:pathLst>
              </a:custGeom>
              <a:solidFill>
                <a:srgbClr val="603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59"/>
              <p:cNvSpPr/>
              <p:nvPr/>
            </p:nvSpPr>
            <p:spPr>
              <a:xfrm flipH="1">
                <a:off x="5023080" y="4636080"/>
                <a:ext cx="561600" cy="928440"/>
              </a:xfrm>
              <a:custGeom>
                <a:avLst/>
                <a:gdLst>
                  <a:gd name="textAreaLeft" fmla="*/ 360 w 561600"/>
                  <a:gd name="textAreaRight" fmla="*/ 562320 w 561600"/>
                  <a:gd name="textAreaTop" fmla="*/ 0 h 928440"/>
                  <a:gd name="textAreaBottom" fmla="*/ 928800 h 928440"/>
                </a:gdLst>
                <a:ahLst/>
                <a:rect l="textAreaLeft" t="textAreaTop" r="textAreaRight" b="textAreaBottom"/>
                <a:pathLst>
                  <a:path w="982" h="1565">
                    <a:moveTo>
                      <a:pt x="0" y="54"/>
                    </a:moveTo>
                    <a:lnTo>
                      <a:pt x="78" y="322"/>
                    </a:lnTo>
                    <a:lnTo>
                      <a:pt x="99" y="388"/>
                    </a:lnTo>
                    <a:lnTo>
                      <a:pt x="123" y="445"/>
                    </a:lnTo>
                    <a:lnTo>
                      <a:pt x="147" y="497"/>
                    </a:lnTo>
                    <a:lnTo>
                      <a:pt x="182" y="561"/>
                    </a:lnTo>
                    <a:lnTo>
                      <a:pt x="210" y="601"/>
                    </a:lnTo>
                    <a:lnTo>
                      <a:pt x="238" y="638"/>
                    </a:lnTo>
                    <a:lnTo>
                      <a:pt x="291" y="695"/>
                    </a:lnTo>
                    <a:lnTo>
                      <a:pt x="345" y="756"/>
                    </a:lnTo>
                    <a:lnTo>
                      <a:pt x="389" y="782"/>
                    </a:lnTo>
                    <a:lnTo>
                      <a:pt x="335" y="815"/>
                    </a:lnTo>
                    <a:lnTo>
                      <a:pt x="378" y="891"/>
                    </a:lnTo>
                    <a:lnTo>
                      <a:pt x="291" y="1011"/>
                    </a:lnTo>
                    <a:lnTo>
                      <a:pt x="225" y="1072"/>
                    </a:lnTo>
                    <a:lnTo>
                      <a:pt x="199" y="1099"/>
                    </a:lnTo>
                    <a:lnTo>
                      <a:pt x="177" y="1136"/>
                    </a:lnTo>
                    <a:lnTo>
                      <a:pt x="156" y="1174"/>
                    </a:lnTo>
                    <a:lnTo>
                      <a:pt x="140" y="1207"/>
                    </a:lnTo>
                    <a:lnTo>
                      <a:pt x="126" y="1237"/>
                    </a:lnTo>
                    <a:lnTo>
                      <a:pt x="113" y="1275"/>
                    </a:lnTo>
                    <a:lnTo>
                      <a:pt x="102" y="1325"/>
                    </a:lnTo>
                    <a:lnTo>
                      <a:pt x="97" y="1389"/>
                    </a:lnTo>
                    <a:lnTo>
                      <a:pt x="97" y="1455"/>
                    </a:lnTo>
                    <a:lnTo>
                      <a:pt x="100" y="1565"/>
                    </a:lnTo>
                    <a:lnTo>
                      <a:pt x="750" y="1535"/>
                    </a:lnTo>
                    <a:lnTo>
                      <a:pt x="713" y="1495"/>
                    </a:lnTo>
                    <a:lnTo>
                      <a:pt x="706" y="1464"/>
                    </a:lnTo>
                    <a:lnTo>
                      <a:pt x="703" y="1442"/>
                    </a:lnTo>
                    <a:lnTo>
                      <a:pt x="727" y="1349"/>
                    </a:lnTo>
                    <a:lnTo>
                      <a:pt x="661" y="1343"/>
                    </a:lnTo>
                    <a:lnTo>
                      <a:pt x="737" y="1284"/>
                    </a:lnTo>
                    <a:lnTo>
                      <a:pt x="954" y="967"/>
                    </a:lnTo>
                    <a:lnTo>
                      <a:pt x="968" y="936"/>
                    </a:lnTo>
                    <a:lnTo>
                      <a:pt x="977" y="901"/>
                    </a:lnTo>
                    <a:lnTo>
                      <a:pt x="982" y="865"/>
                    </a:lnTo>
                    <a:lnTo>
                      <a:pt x="982" y="825"/>
                    </a:lnTo>
                    <a:lnTo>
                      <a:pt x="975" y="790"/>
                    </a:lnTo>
                    <a:lnTo>
                      <a:pt x="967" y="756"/>
                    </a:lnTo>
                    <a:lnTo>
                      <a:pt x="944" y="705"/>
                    </a:lnTo>
                    <a:lnTo>
                      <a:pt x="835" y="467"/>
                    </a:lnTo>
                    <a:lnTo>
                      <a:pt x="633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03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Freeform 60"/>
              <p:cNvSpPr/>
              <p:nvPr/>
            </p:nvSpPr>
            <p:spPr>
              <a:xfrm flipH="1">
                <a:off x="4721400" y="3929040"/>
                <a:ext cx="203040" cy="726120"/>
              </a:xfrm>
              <a:custGeom>
                <a:avLst/>
                <a:gdLst>
                  <a:gd name="textAreaLeft" fmla="*/ 360 w 203040"/>
                  <a:gd name="textAreaRight" fmla="*/ 203760 w 203040"/>
                  <a:gd name="textAreaTop" fmla="*/ 0 h 726120"/>
                  <a:gd name="textAreaBottom" fmla="*/ 726480 h 726120"/>
                </a:gdLst>
                <a:ahLst/>
                <a:rect l="textAreaLeft" t="textAreaTop" r="textAreaRight" b="textAreaBottom"/>
                <a:pathLst>
                  <a:path w="357" h="1222">
                    <a:moveTo>
                      <a:pt x="255" y="81"/>
                    </a:moveTo>
                    <a:lnTo>
                      <a:pt x="276" y="113"/>
                    </a:lnTo>
                    <a:lnTo>
                      <a:pt x="300" y="151"/>
                    </a:lnTo>
                    <a:lnTo>
                      <a:pt x="321" y="196"/>
                    </a:lnTo>
                    <a:lnTo>
                      <a:pt x="338" y="246"/>
                    </a:lnTo>
                    <a:lnTo>
                      <a:pt x="349" y="295"/>
                    </a:lnTo>
                    <a:lnTo>
                      <a:pt x="354" y="349"/>
                    </a:lnTo>
                    <a:lnTo>
                      <a:pt x="357" y="403"/>
                    </a:lnTo>
                    <a:lnTo>
                      <a:pt x="354" y="491"/>
                    </a:lnTo>
                    <a:lnTo>
                      <a:pt x="347" y="557"/>
                    </a:lnTo>
                    <a:lnTo>
                      <a:pt x="333" y="635"/>
                    </a:lnTo>
                    <a:lnTo>
                      <a:pt x="321" y="684"/>
                    </a:lnTo>
                    <a:lnTo>
                      <a:pt x="305" y="755"/>
                    </a:lnTo>
                    <a:lnTo>
                      <a:pt x="288" y="816"/>
                    </a:lnTo>
                    <a:lnTo>
                      <a:pt x="271" y="865"/>
                    </a:lnTo>
                    <a:lnTo>
                      <a:pt x="253" y="910"/>
                    </a:lnTo>
                    <a:lnTo>
                      <a:pt x="232" y="955"/>
                    </a:lnTo>
                    <a:lnTo>
                      <a:pt x="210" y="997"/>
                    </a:lnTo>
                    <a:lnTo>
                      <a:pt x="184" y="1040"/>
                    </a:lnTo>
                    <a:lnTo>
                      <a:pt x="158" y="1075"/>
                    </a:lnTo>
                    <a:lnTo>
                      <a:pt x="132" y="1109"/>
                    </a:lnTo>
                    <a:lnTo>
                      <a:pt x="97" y="1148"/>
                    </a:lnTo>
                    <a:lnTo>
                      <a:pt x="64" y="1174"/>
                    </a:lnTo>
                    <a:lnTo>
                      <a:pt x="0" y="1222"/>
                    </a:lnTo>
                    <a:lnTo>
                      <a:pt x="0" y="0"/>
                    </a:lnTo>
                    <a:lnTo>
                      <a:pt x="208" y="15"/>
                    </a:lnTo>
                    <a:lnTo>
                      <a:pt x="255" y="81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8" name="Group 61"/>
              <p:cNvGrpSpPr/>
              <p:nvPr/>
            </p:nvGrpSpPr>
            <p:grpSpPr>
              <a:xfrm>
                <a:off x="4708080" y="3921840"/>
                <a:ext cx="100440" cy="758520"/>
                <a:chOff x="4708080" y="3921840"/>
                <a:chExt cx="100440" cy="758520"/>
              </a:xfrm>
            </p:grpSpPr>
            <p:sp>
              <p:nvSpPr>
                <p:cNvPr id="279" name="Freeform 62"/>
                <p:cNvSpPr/>
                <p:nvPr/>
              </p:nvSpPr>
              <p:spPr>
                <a:xfrm flipH="1">
                  <a:off x="4707720" y="3975120"/>
                  <a:ext cx="91800" cy="705240"/>
                </a:xfrm>
                <a:custGeom>
                  <a:avLst/>
                  <a:gdLst>
                    <a:gd name="textAreaLeft" fmla="*/ -360 w 91800"/>
                    <a:gd name="textAreaRight" fmla="*/ 91800 w 91800"/>
                    <a:gd name="textAreaTop" fmla="*/ 0 h 705240"/>
                    <a:gd name="textAreaBottom" fmla="*/ 705600 h 705240"/>
                  </a:gdLst>
                  <a:ahLst/>
                  <a:rect l="textAreaLeft" t="textAreaTop" r="textAreaRight" b="textAreaBottom"/>
                  <a:pathLst>
                    <a:path w="163" h="1188">
                      <a:moveTo>
                        <a:pt x="0" y="0"/>
                      </a:moveTo>
                      <a:lnTo>
                        <a:pt x="38" y="19"/>
                      </a:lnTo>
                      <a:lnTo>
                        <a:pt x="65" y="57"/>
                      </a:lnTo>
                      <a:lnTo>
                        <a:pt x="81" y="82"/>
                      </a:lnTo>
                      <a:lnTo>
                        <a:pt x="93" y="102"/>
                      </a:lnTo>
                      <a:lnTo>
                        <a:pt x="109" y="132"/>
                      </a:lnTo>
                      <a:lnTo>
                        <a:pt x="123" y="170"/>
                      </a:lnTo>
                      <a:lnTo>
                        <a:pt x="137" y="214"/>
                      </a:lnTo>
                      <a:lnTo>
                        <a:pt x="151" y="271"/>
                      </a:lnTo>
                      <a:lnTo>
                        <a:pt x="156" y="316"/>
                      </a:lnTo>
                      <a:lnTo>
                        <a:pt x="163" y="370"/>
                      </a:lnTo>
                      <a:lnTo>
                        <a:pt x="161" y="438"/>
                      </a:lnTo>
                      <a:lnTo>
                        <a:pt x="154" y="540"/>
                      </a:lnTo>
                      <a:lnTo>
                        <a:pt x="142" y="629"/>
                      </a:lnTo>
                      <a:lnTo>
                        <a:pt x="93" y="1068"/>
                      </a:lnTo>
                      <a:lnTo>
                        <a:pt x="45" y="1188"/>
                      </a:lnTo>
                      <a:lnTo>
                        <a:pt x="12" y="1024"/>
                      </a:lnTo>
                      <a:lnTo>
                        <a:pt x="32" y="851"/>
                      </a:lnTo>
                      <a:lnTo>
                        <a:pt x="48" y="736"/>
                      </a:lnTo>
                      <a:lnTo>
                        <a:pt x="57" y="646"/>
                      </a:lnTo>
                      <a:lnTo>
                        <a:pt x="64" y="554"/>
                      </a:lnTo>
                      <a:lnTo>
                        <a:pt x="71" y="460"/>
                      </a:lnTo>
                      <a:lnTo>
                        <a:pt x="72" y="406"/>
                      </a:lnTo>
                      <a:lnTo>
                        <a:pt x="71" y="358"/>
                      </a:lnTo>
                      <a:lnTo>
                        <a:pt x="65" y="309"/>
                      </a:lnTo>
                      <a:lnTo>
                        <a:pt x="53" y="215"/>
                      </a:lnTo>
                      <a:lnTo>
                        <a:pt x="48" y="182"/>
                      </a:lnTo>
                      <a:lnTo>
                        <a:pt x="41" y="144"/>
                      </a:lnTo>
                      <a:lnTo>
                        <a:pt x="34" y="10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Arc 63"/>
                <p:cNvSpPr/>
                <p:nvPr/>
              </p:nvSpPr>
              <p:spPr>
                <a:xfrm flipH="1">
                  <a:off x="4775400" y="3921840"/>
                  <a:ext cx="32760" cy="68760"/>
                </a:xfrm>
                <a:custGeom>
                  <a:avLst/>
                  <a:gdLst>
                    <a:gd name="textAreaLeft" fmla="*/ -360 w 32760"/>
                    <a:gd name="textAreaRight" fmla="*/ 32760 w 3276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fill="none" w="22307" h="29828">
                      <a:moveTo>
                        <a:pt x="-1" y="11"/>
                      </a:moveTo>
                      <a:cubicBezTo>
                        <a:pt x="235" y="3"/>
                        <a:pt x="471" y="-1"/>
                        <a:pt x="707" y="0"/>
                      </a:cubicBezTo>
                      <a:cubicBezTo>
                        <a:pt x="12636" y="0"/>
                        <a:pt x="22307" y="9670"/>
                        <a:pt x="22307" y="21600"/>
                      </a:cubicBezTo>
                      <a:cubicBezTo>
                        <a:pt x="22307" y="24422"/>
                        <a:pt x="21753" y="27218"/>
                        <a:pt x="20678" y="29828"/>
                      </a:cubicBezTo>
                    </a:path>
                    <a:path stroke="0" w="22307" h="29828">
                      <a:moveTo>
                        <a:pt x="-1" y="11"/>
                      </a:moveTo>
                      <a:cubicBezTo>
                        <a:pt x="235" y="3"/>
                        <a:pt x="471" y="-1"/>
                        <a:pt x="707" y="0"/>
                      </a:cubicBezTo>
                      <a:cubicBezTo>
                        <a:pt x="12636" y="0"/>
                        <a:pt x="22307" y="9670"/>
                        <a:pt x="22307" y="21600"/>
                      </a:cubicBezTo>
                      <a:cubicBezTo>
                        <a:pt x="22307" y="24422"/>
                        <a:pt x="21753" y="27218"/>
                        <a:pt x="20678" y="29828"/>
                      </a:cubicBezTo>
                      <a:lnTo>
                        <a:pt x="707" y="21600"/>
                      </a:lnTo>
                      <a:lnTo>
                        <a:pt x="-1" y="11"/>
                      </a:lnTo>
                      <a:close/>
                    </a:path>
                  </a:pathLst>
                </a:custGeom>
                <a:solidFill>
                  <a:srgbClr val="0000e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" name="Freeform 64"/>
              <p:cNvSpPr/>
              <p:nvPr/>
            </p:nvSpPr>
            <p:spPr>
              <a:xfrm flipH="1">
                <a:off x="4754880" y="3731400"/>
                <a:ext cx="959760" cy="1092240"/>
              </a:xfrm>
              <a:custGeom>
                <a:avLst/>
                <a:gdLst>
                  <a:gd name="textAreaLeft" fmla="*/ 360 w 959760"/>
                  <a:gd name="textAreaRight" fmla="*/ 960480 w 959760"/>
                  <a:gd name="textAreaTop" fmla="*/ 0 h 1092240"/>
                  <a:gd name="textAreaBottom" fmla="*/ 1092600 h 1092240"/>
                </a:gdLst>
                <a:ahLst/>
                <a:rect l="textAreaLeft" t="textAreaTop" r="textAreaRight" b="textAreaBottom"/>
                <a:pathLst>
                  <a:path w="1684" h="1839">
                    <a:moveTo>
                      <a:pt x="1344" y="10"/>
                    </a:moveTo>
                    <a:lnTo>
                      <a:pt x="1307" y="0"/>
                    </a:lnTo>
                    <a:lnTo>
                      <a:pt x="1271" y="3"/>
                    </a:lnTo>
                    <a:lnTo>
                      <a:pt x="1228" y="12"/>
                    </a:lnTo>
                    <a:lnTo>
                      <a:pt x="1189" y="28"/>
                    </a:lnTo>
                    <a:lnTo>
                      <a:pt x="1151" y="45"/>
                    </a:lnTo>
                    <a:lnTo>
                      <a:pt x="1122" y="64"/>
                    </a:lnTo>
                    <a:lnTo>
                      <a:pt x="1071" y="101"/>
                    </a:lnTo>
                    <a:lnTo>
                      <a:pt x="1035" y="132"/>
                    </a:lnTo>
                    <a:lnTo>
                      <a:pt x="988" y="186"/>
                    </a:lnTo>
                    <a:lnTo>
                      <a:pt x="809" y="401"/>
                    </a:lnTo>
                    <a:lnTo>
                      <a:pt x="705" y="512"/>
                    </a:lnTo>
                    <a:lnTo>
                      <a:pt x="585" y="618"/>
                    </a:lnTo>
                    <a:lnTo>
                      <a:pt x="446" y="738"/>
                    </a:lnTo>
                    <a:lnTo>
                      <a:pt x="327" y="825"/>
                    </a:lnTo>
                    <a:lnTo>
                      <a:pt x="146" y="952"/>
                    </a:lnTo>
                    <a:lnTo>
                      <a:pt x="11" y="1044"/>
                    </a:lnTo>
                    <a:lnTo>
                      <a:pt x="0" y="1151"/>
                    </a:lnTo>
                    <a:lnTo>
                      <a:pt x="0" y="1249"/>
                    </a:lnTo>
                    <a:lnTo>
                      <a:pt x="9" y="1321"/>
                    </a:lnTo>
                    <a:lnTo>
                      <a:pt x="21" y="1400"/>
                    </a:lnTo>
                    <a:lnTo>
                      <a:pt x="33" y="1452"/>
                    </a:lnTo>
                    <a:lnTo>
                      <a:pt x="54" y="1504"/>
                    </a:lnTo>
                    <a:lnTo>
                      <a:pt x="75" y="1554"/>
                    </a:lnTo>
                    <a:lnTo>
                      <a:pt x="103" y="1601"/>
                    </a:lnTo>
                    <a:lnTo>
                      <a:pt x="144" y="1653"/>
                    </a:lnTo>
                    <a:lnTo>
                      <a:pt x="184" y="1688"/>
                    </a:lnTo>
                    <a:lnTo>
                      <a:pt x="236" y="1723"/>
                    </a:lnTo>
                    <a:lnTo>
                      <a:pt x="289" y="1754"/>
                    </a:lnTo>
                    <a:lnTo>
                      <a:pt x="358" y="1782"/>
                    </a:lnTo>
                    <a:lnTo>
                      <a:pt x="440" y="1808"/>
                    </a:lnTo>
                    <a:lnTo>
                      <a:pt x="507" y="1823"/>
                    </a:lnTo>
                    <a:lnTo>
                      <a:pt x="577" y="1834"/>
                    </a:lnTo>
                    <a:lnTo>
                      <a:pt x="650" y="1839"/>
                    </a:lnTo>
                    <a:lnTo>
                      <a:pt x="728" y="1835"/>
                    </a:lnTo>
                    <a:lnTo>
                      <a:pt x="783" y="1827"/>
                    </a:lnTo>
                    <a:lnTo>
                      <a:pt x="835" y="1816"/>
                    </a:lnTo>
                    <a:lnTo>
                      <a:pt x="903" y="1799"/>
                    </a:lnTo>
                    <a:lnTo>
                      <a:pt x="972" y="1771"/>
                    </a:lnTo>
                    <a:lnTo>
                      <a:pt x="1141" y="1700"/>
                    </a:lnTo>
                    <a:lnTo>
                      <a:pt x="1288" y="1631"/>
                    </a:lnTo>
                    <a:lnTo>
                      <a:pt x="1432" y="1532"/>
                    </a:lnTo>
                    <a:lnTo>
                      <a:pt x="1478" y="1481"/>
                    </a:lnTo>
                    <a:lnTo>
                      <a:pt x="1521" y="1429"/>
                    </a:lnTo>
                    <a:lnTo>
                      <a:pt x="1566" y="1365"/>
                    </a:lnTo>
                    <a:lnTo>
                      <a:pt x="1609" y="1276"/>
                    </a:lnTo>
                    <a:lnTo>
                      <a:pt x="1641" y="1198"/>
                    </a:lnTo>
                    <a:lnTo>
                      <a:pt x="1660" y="1136"/>
                    </a:lnTo>
                    <a:lnTo>
                      <a:pt x="1674" y="1068"/>
                    </a:lnTo>
                    <a:lnTo>
                      <a:pt x="1682" y="995"/>
                    </a:lnTo>
                    <a:lnTo>
                      <a:pt x="1682" y="926"/>
                    </a:lnTo>
                    <a:lnTo>
                      <a:pt x="1684" y="860"/>
                    </a:lnTo>
                    <a:lnTo>
                      <a:pt x="1681" y="785"/>
                    </a:lnTo>
                    <a:lnTo>
                      <a:pt x="1679" y="703"/>
                    </a:lnTo>
                    <a:lnTo>
                      <a:pt x="1674" y="648"/>
                    </a:lnTo>
                    <a:lnTo>
                      <a:pt x="1665" y="570"/>
                    </a:lnTo>
                    <a:lnTo>
                      <a:pt x="1660" y="512"/>
                    </a:lnTo>
                    <a:lnTo>
                      <a:pt x="1648" y="469"/>
                    </a:lnTo>
                    <a:lnTo>
                      <a:pt x="1636" y="427"/>
                    </a:lnTo>
                    <a:lnTo>
                      <a:pt x="1620" y="389"/>
                    </a:lnTo>
                    <a:lnTo>
                      <a:pt x="1597" y="349"/>
                    </a:lnTo>
                    <a:lnTo>
                      <a:pt x="1571" y="309"/>
                    </a:lnTo>
                    <a:lnTo>
                      <a:pt x="1545" y="269"/>
                    </a:lnTo>
                    <a:lnTo>
                      <a:pt x="1516" y="229"/>
                    </a:lnTo>
                    <a:lnTo>
                      <a:pt x="1344" y="10"/>
                    </a:lnTo>
                    <a:close/>
                  </a:path>
                </a:pathLst>
              </a:cu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65"/>
              <p:cNvSpPr/>
              <p:nvPr/>
            </p:nvSpPr>
            <p:spPr>
              <a:xfrm flipH="1">
                <a:off x="4784400" y="3747240"/>
                <a:ext cx="204840" cy="898920"/>
              </a:xfrm>
              <a:custGeom>
                <a:avLst/>
                <a:gdLst>
                  <a:gd name="textAreaLeft" fmla="*/ -360 w 204840"/>
                  <a:gd name="textAreaRight" fmla="*/ 204840 w 204840"/>
                  <a:gd name="textAreaTop" fmla="*/ 0 h 898920"/>
                  <a:gd name="textAreaBottom" fmla="*/ 899280 h 898920"/>
                </a:gdLst>
                <a:ahLst/>
                <a:rect l="textAreaLeft" t="textAreaTop" r="textAreaRight" b="textAreaBottom"/>
                <a:pathLst>
                  <a:path w="360" h="1515">
                    <a:moveTo>
                      <a:pt x="0" y="0"/>
                    </a:moveTo>
                    <a:lnTo>
                      <a:pt x="68" y="179"/>
                    </a:lnTo>
                    <a:lnTo>
                      <a:pt x="117" y="330"/>
                    </a:lnTo>
                    <a:lnTo>
                      <a:pt x="134" y="429"/>
                    </a:lnTo>
                    <a:lnTo>
                      <a:pt x="243" y="407"/>
                    </a:lnTo>
                    <a:lnTo>
                      <a:pt x="177" y="570"/>
                    </a:lnTo>
                    <a:lnTo>
                      <a:pt x="214" y="596"/>
                    </a:lnTo>
                    <a:lnTo>
                      <a:pt x="242" y="636"/>
                    </a:lnTo>
                    <a:lnTo>
                      <a:pt x="257" y="692"/>
                    </a:lnTo>
                    <a:lnTo>
                      <a:pt x="268" y="785"/>
                    </a:lnTo>
                    <a:lnTo>
                      <a:pt x="274" y="902"/>
                    </a:lnTo>
                    <a:lnTo>
                      <a:pt x="276" y="956"/>
                    </a:lnTo>
                    <a:lnTo>
                      <a:pt x="274" y="1016"/>
                    </a:lnTo>
                    <a:lnTo>
                      <a:pt x="269" y="1070"/>
                    </a:lnTo>
                    <a:lnTo>
                      <a:pt x="259" y="1159"/>
                    </a:lnTo>
                    <a:lnTo>
                      <a:pt x="252" y="1204"/>
                    </a:lnTo>
                    <a:lnTo>
                      <a:pt x="242" y="1252"/>
                    </a:lnTo>
                    <a:lnTo>
                      <a:pt x="231" y="1287"/>
                    </a:lnTo>
                    <a:lnTo>
                      <a:pt x="215" y="1334"/>
                    </a:lnTo>
                    <a:lnTo>
                      <a:pt x="203" y="1364"/>
                    </a:lnTo>
                    <a:lnTo>
                      <a:pt x="186" y="1397"/>
                    </a:lnTo>
                    <a:lnTo>
                      <a:pt x="165" y="1433"/>
                    </a:lnTo>
                    <a:lnTo>
                      <a:pt x="143" y="1463"/>
                    </a:lnTo>
                    <a:lnTo>
                      <a:pt x="103" y="1515"/>
                    </a:lnTo>
                    <a:lnTo>
                      <a:pt x="150" y="1480"/>
                    </a:lnTo>
                    <a:lnTo>
                      <a:pt x="186" y="1437"/>
                    </a:lnTo>
                    <a:lnTo>
                      <a:pt x="214" y="1400"/>
                    </a:lnTo>
                    <a:lnTo>
                      <a:pt x="238" y="1364"/>
                    </a:lnTo>
                    <a:lnTo>
                      <a:pt x="261" y="1324"/>
                    </a:lnTo>
                    <a:lnTo>
                      <a:pt x="283" y="1277"/>
                    </a:lnTo>
                    <a:lnTo>
                      <a:pt x="304" y="1225"/>
                    </a:lnTo>
                    <a:lnTo>
                      <a:pt x="318" y="1183"/>
                    </a:lnTo>
                    <a:lnTo>
                      <a:pt x="334" y="1131"/>
                    </a:lnTo>
                    <a:lnTo>
                      <a:pt x="344" y="1084"/>
                    </a:lnTo>
                    <a:lnTo>
                      <a:pt x="353" y="1018"/>
                    </a:lnTo>
                    <a:lnTo>
                      <a:pt x="358" y="943"/>
                    </a:lnTo>
                    <a:lnTo>
                      <a:pt x="360" y="857"/>
                    </a:lnTo>
                    <a:lnTo>
                      <a:pt x="356" y="778"/>
                    </a:lnTo>
                    <a:lnTo>
                      <a:pt x="354" y="733"/>
                    </a:lnTo>
                    <a:lnTo>
                      <a:pt x="349" y="652"/>
                    </a:lnTo>
                    <a:lnTo>
                      <a:pt x="346" y="603"/>
                    </a:lnTo>
                    <a:lnTo>
                      <a:pt x="339" y="551"/>
                    </a:lnTo>
                    <a:lnTo>
                      <a:pt x="334" y="513"/>
                    </a:lnTo>
                    <a:lnTo>
                      <a:pt x="325" y="469"/>
                    </a:lnTo>
                    <a:lnTo>
                      <a:pt x="307" y="417"/>
                    </a:lnTo>
                    <a:lnTo>
                      <a:pt x="288" y="377"/>
                    </a:lnTo>
                    <a:lnTo>
                      <a:pt x="266" y="343"/>
                    </a:lnTo>
                    <a:lnTo>
                      <a:pt x="235" y="301"/>
                    </a:lnTo>
                    <a:lnTo>
                      <a:pt x="186" y="233"/>
                    </a:lnTo>
                    <a:lnTo>
                      <a:pt x="146" y="1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Group 66"/>
              <p:cNvGrpSpPr/>
              <p:nvPr/>
            </p:nvGrpSpPr>
            <p:grpSpPr>
              <a:xfrm>
                <a:off x="4260960" y="3058920"/>
                <a:ext cx="822240" cy="1017720"/>
                <a:chOff x="4260960" y="3058920"/>
                <a:chExt cx="822240" cy="1017720"/>
              </a:xfrm>
            </p:grpSpPr>
            <p:grpSp>
              <p:nvGrpSpPr>
                <p:cNvPr id="284" name="Group 67"/>
                <p:cNvGrpSpPr/>
                <p:nvPr/>
              </p:nvGrpSpPr>
              <p:grpSpPr>
                <a:xfrm>
                  <a:off x="4260960" y="3058920"/>
                  <a:ext cx="822240" cy="1017720"/>
                  <a:chOff x="4260960" y="3058920"/>
                  <a:chExt cx="822240" cy="1017720"/>
                </a:xfrm>
              </p:grpSpPr>
              <p:grpSp>
                <p:nvGrpSpPr>
                  <p:cNvPr id="285" name="Group 68"/>
                  <p:cNvGrpSpPr/>
                  <p:nvPr/>
                </p:nvGrpSpPr>
                <p:grpSpPr>
                  <a:xfrm>
                    <a:off x="4260960" y="3058920"/>
                    <a:ext cx="822240" cy="1017720"/>
                    <a:chOff x="4260960" y="3058920"/>
                    <a:chExt cx="822240" cy="1017720"/>
                  </a:xfrm>
                </p:grpSpPr>
                <p:sp>
                  <p:nvSpPr>
                    <p:cNvPr id="286" name="Freeform 69"/>
                    <p:cNvSpPr/>
                    <p:nvPr/>
                  </p:nvSpPr>
                  <p:spPr>
                    <a:xfrm flipH="1" rot="20579400">
                      <a:off x="4377600" y="3125520"/>
                      <a:ext cx="589320" cy="883800"/>
                    </a:xfrm>
                    <a:custGeom>
                      <a:avLst/>
                      <a:gdLst>
                        <a:gd name="textAreaLeft" fmla="*/ -360 w 589320"/>
                        <a:gd name="textAreaRight" fmla="*/ 589320 w 589320"/>
                        <a:gd name="textAreaTop" fmla="*/ 0 h 883800"/>
                        <a:gd name="textAreaBottom" fmla="*/ 884160 h 883800"/>
                      </a:gdLst>
                      <a:ahLst/>
                      <a:rect l="textAreaLeft" t="textAreaTop" r="textAreaRight" b="textAreaBottom"/>
                      <a:pathLst>
                        <a:path w="1032" h="1488">
                          <a:moveTo>
                            <a:pt x="743" y="54"/>
                          </a:moveTo>
                          <a:lnTo>
                            <a:pt x="686" y="28"/>
                          </a:lnTo>
                          <a:lnTo>
                            <a:pt x="620" y="16"/>
                          </a:lnTo>
                          <a:lnTo>
                            <a:pt x="570" y="11"/>
                          </a:lnTo>
                          <a:lnTo>
                            <a:pt x="495" y="0"/>
                          </a:lnTo>
                          <a:lnTo>
                            <a:pt x="419" y="0"/>
                          </a:lnTo>
                          <a:lnTo>
                            <a:pt x="334" y="11"/>
                          </a:lnTo>
                          <a:lnTo>
                            <a:pt x="282" y="25"/>
                          </a:lnTo>
                          <a:lnTo>
                            <a:pt x="186" y="58"/>
                          </a:lnTo>
                          <a:lnTo>
                            <a:pt x="115" y="85"/>
                          </a:lnTo>
                          <a:lnTo>
                            <a:pt x="141" y="101"/>
                          </a:lnTo>
                          <a:lnTo>
                            <a:pt x="87" y="160"/>
                          </a:lnTo>
                          <a:lnTo>
                            <a:pt x="49" y="205"/>
                          </a:lnTo>
                          <a:lnTo>
                            <a:pt x="98" y="219"/>
                          </a:lnTo>
                          <a:lnTo>
                            <a:pt x="33" y="285"/>
                          </a:lnTo>
                          <a:lnTo>
                            <a:pt x="77" y="280"/>
                          </a:lnTo>
                          <a:lnTo>
                            <a:pt x="11" y="367"/>
                          </a:lnTo>
                          <a:lnTo>
                            <a:pt x="54" y="382"/>
                          </a:lnTo>
                          <a:lnTo>
                            <a:pt x="37" y="403"/>
                          </a:lnTo>
                          <a:lnTo>
                            <a:pt x="21" y="427"/>
                          </a:lnTo>
                          <a:lnTo>
                            <a:pt x="0" y="474"/>
                          </a:lnTo>
                          <a:lnTo>
                            <a:pt x="49" y="459"/>
                          </a:lnTo>
                          <a:lnTo>
                            <a:pt x="87" y="502"/>
                          </a:lnTo>
                          <a:lnTo>
                            <a:pt x="73" y="511"/>
                          </a:lnTo>
                          <a:lnTo>
                            <a:pt x="51" y="528"/>
                          </a:lnTo>
                          <a:lnTo>
                            <a:pt x="33" y="551"/>
                          </a:lnTo>
                          <a:lnTo>
                            <a:pt x="21" y="573"/>
                          </a:lnTo>
                          <a:lnTo>
                            <a:pt x="16" y="594"/>
                          </a:lnTo>
                          <a:lnTo>
                            <a:pt x="14" y="618"/>
                          </a:lnTo>
                          <a:lnTo>
                            <a:pt x="16" y="645"/>
                          </a:lnTo>
                          <a:lnTo>
                            <a:pt x="21" y="672"/>
                          </a:lnTo>
                          <a:lnTo>
                            <a:pt x="35" y="698"/>
                          </a:lnTo>
                          <a:lnTo>
                            <a:pt x="59" y="724"/>
                          </a:lnTo>
                          <a:lnTo>
                            <a:pt x="82" y="742"/>
                          </a:lnTo>
                          <a:lnTo>
                            <a:pt x="106" y="759"/>
                          </a:lnTo>
                          <a:lnTo>
                            <a:pt x="125" y="775"/>
                          </a:lnTo>
                          <a:lnTo>
                            <a:pt x="164" y="808"/>
                          </a:lnTo>
                          <a:lnTo>
                            <a:pt x="202" y="872"/>
                          </a:lnTo>
                          <a:lnTo>
                            <a:pt x="207" y="947"/>
                          </a:lnTo>
                          <a:lnTo>
                            <a:pt x="200" y="992"/>
                          </a:lnTo>
                          <a:lnTo>
                            <a:pt x="167" y="1068"/>
                          </a:lnTo>
                          <a:lnTo>
                            <a:pt x="125" y="1143"/>
                          </a:lnTo>
                          <a:lnTo>
                            <a:pt x="460" y="1488"/>
                          </a:lnTo>
                          <a:lnTo>
                            <a:pt x="516" y="1367"/>
                          </a:lnTo>
                          <a:lnTo>
                            <a:pt x="561" y="1322"/>
                          </a:lnTo>
                          <a:lnTo>
                            <a:pt x="603" y="1292"/>
                          </a:lnTo>
                          <a:lnTo>
                            <a:pt x="653" y="1266"/>
                          </a:lnTo>
                          <a:lnTo>
                            <a:pt x="710" y="1249"/>
                          </a:lnTo>
                          <a:lnTo>
                            <a:pt x="768" y="1223"/>
                          </a:lnTo>
                          <a:lnTo>
                            <a:pt x="811" y="1204"/>
                          </a:lnTo>
                          <a:lnTo>
                            <a:pt x="842" y="1174"/>
                          </a:lnTo>
                          <a:lnTo>
                            <a:pt x="860" y="1145"/>
                          </a:lnTo>
                          <a:lnTo>
                            <a:pt x="877" y="1106"/>
                          </a:lnTo>
                          <a:lnTo>
                            <a:pt x="887" y="1072"/>
                          </a:lnTo>
                          <a:lnTo>
                            <a:pt x="896" y="1037"/>
                          </a:lnTo>
                          <a:lnTo>
                            <a:pt x="901" y="990"/>
                          </a:lnTo>
                          <a:lnTo>
                            <a:pt x="907" y="921"/>
                          </a:lnTo>
                          <a:lnTo>
                            <a:pt x="907" y="846"/>
                          </a:lnTo>
                          <a:lnTo>
                            <a:pt x="926" y="842"/>
                          </a:lnTo>
                          <a:lnTo>
                            <a:pt x="946" y="837"/>
                          </a:lnTo>
                          <a:lnTo>
                            <a:pt x="972" y="823"/>
                          </a:lnTo>
                          <a:lnTo>
                            <a:pt x="995" y="808"/>
                          </a:lnTo>
                          <a:lnTo>
                            <a:pt x="1012" y="783"/>
                          </a:lnTo>
                          <a:lnTo>
                            <a:pt x="1026" y="759"/>
                          </a:lnTo>
                          <a:lnTo>
                            <a:pt x="1032" y="728"/>
                          </a:lnTo>
                          <a:lnTo>
                            <a:pt x="1028" y="691"/>
                          </a:lnTo>
                          <a:lnTo>
                            <a:pt x="1012" y="655"/>
                          </a:lnTo>
                          <a:lnTo>
                            <a:pt x="999" y="625"/>
                          </a:lnTo>
                          <a:lnTo>
                            <a:pt x="978" y="594"/>
                          </a:lnTo>
                          <a:lnTo>
                            <a:pt x="929" y="520"/>
                          </a:lnTo>
                          <a:lnTo>
                            <a:pt x="919" y="490"/>
                          </a:lnTo>
                          <a:lnTo>
                            <a:pt x="919" y="448"/>
                          </a:lnTo>
                          <a:lnTo>
                            <a:pt x="913" y="339"/>
                          </a:lnTo>
                          <a:lnTo>
                            <a:pt x="903" y="283"/>
                          </a:lnTo>
                          <a:lnTo>
                            <a:pt x="889" y="224"/>
                          </a:lnTo>
                          <a:lnTo>
                            <a:pt x="863" y="176"/>
                          </a:lnTo>
                          <a:lnTo>
                            <a:pt x="839" y="136"/>
                          </a:lnTo>
                          <a:lnTo>
                            <a:pt x="809" y="101"/>
                          </a:lnTo>
                          <a:lnTo>
                            <a:pt x="778" y="75"/>
                          </a:lnTo>
                          <a:lnTo>
                            <a:pt x="743" y="54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11160">
                      <a:solidFill>
                        <a:srgbClr val="8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Freeform 70"/>
                    <p:cNvSpPr/>
                    <p:nvPr/>
                  </p:nvSpPr>
                  <p:spPr>
                    <a:xfrm flipH="1" rot="20579400">
                      <a:off x="4511520" y="3763440"/>
                      <a:ext cx="91440" cy="16200"/>
                    </a:xfrm>
                    <a:custGeom>
                      <a:avLst/>
                      <a:gdLst>
                        <a:gd name="textAreaLeft" fmla="*/ 360 w 91440"/>
                        <a:gd name="textAreaRight" fmla="*/ 92160 w 91440"/>
                        <a:gd name="textAreaTop" fmla="*/ 0 h 16200"/>
                        <a:gd name="textAreaBottom" fmla="*/ 16560 h 16200"/>
                      </a:gdLst>
                      <a:ahLst/>
                      <a:rect l="textAreaLeft" t="textAreaTop" r="textAreaRight" b="textAreaBottom"/>
                      <a:pathLst>
                        <a:path w="162" h="28">
                          <a:moveTo>
                            <a:pt x="162" y="7"/>
                          </a:moveTo>
                          <a:lnTo>
                            <a:pt x="113" y="0"/>
                          </a:lnTo>
                          <a:lnTo>
                            <a:pt x="71" y="0"/>
                          </a:lnTo>
                          <a:lnTo>
                            <a:pt x="42" y="5"/>
                          </a:lnTo>
                          <a:lnTo>
                            <a:pt x="14" y="18"/>
                          </a:lnTo>
                          <a:lnTo>
                            <a:pt x="0" y="28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8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Arc 71"/>
                    <p:cNvSpPr/>
                    <p:nvPr/>
                  </p:nvSpPr>
                  <p:spPr>
                    <a:xfrm flipH="1" rot="20579400">
                      <a:off x="4856400" y="3372840"/>
                      <a:ext cx="43200" cy="65160"/>
                    </a:xfrm>
                    <a:custGeom>
                      <a:avLst/>
                      <a:gdLst>
                        <a:gd name="textAreaLeft" fmla="*/ 360 w 43200"/>
                        <a:gd name="textAreaRight" fmla="*/ 43920 w 43200"/>
                        <a:gd name="textAreaTop" fmla="*/ 0 h 65160"/>
                        <a:gd name="textAreaBottom" fmla="*/ 65160 h 65160"/>
                      </a:gdLst>
                      <a:ahLst/>
                      <a:rect l="textAreaLeft" t="textAreaTop" r="textAreaRight" b="textAreaBottom"/>
                      <a:pathLst>
                        <a:path fill="none" w="21600" h="21966">
                          <a:moveTo>
                            <a:pt x="3" y="21965"/>
                          </a:moveTo>
                          <a:cubicBezTo>
                            <a:pt x="1" y="21844"/>
                            <a:pt x="0" y="21722"/>
                            <a:pt x="0" y="21600"/>
                          </a:cubicBezTo>
                          <a:cubicBezTo>
                            <a:pt x="-1" y="9670"/>
                            <a:pt x="9670" y="0"/>
                            <a:pt x="21599" y="0"/>
                          </a:cubicBezTo>
                        </a:path>
                        <a:path stroke="0" w="21600" h="21966">
                          <a:moveTo>
                            <a:pt x="3" y="21965"/>
                          </a:moveTo>
                          <a:cubicBezTo>
                            <a:pt x="1" y="21844"/>
                            <a:pt x="0" y="21722"/>
                            <a:pt x="0" y="21600"/>
                          </a:cubicBezTo>
                          <a:cubicBezTo>
                            <a:pt x="-1" y="9670"/>
                            <a:pt x="9670" y="0"/>
                            <a:pt x="21599" y="0"/>
                          </a:cubicBezTo>
                          <a:lnTo>
                            <a:pt x="21600" y="21600"/>
                          </a:lnTo>
                          <a:lnTo>
                            <a:pt x="3" y="21965"/>
                          </a:lnTo>
                          <a:close/>
                        </a:path>
                      </a:pathLst>
                    </a:custGeom>
                    <a:noFill/>
                    <a:ln w="11160">
                      <a:solidFill>
                        <a:srgbClr val="8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9" name="Freeform 72"/>
                  <p:cNvSpPr/>
                  <p:nvPr/>
                </p:nvSpPr>
                <p:spPr>
                  <a:xfrm flipH="1" rot="20579400">
                    <a:off x="4448160" y="3115440"/>
                    <a:ext cx="442080" cy="383760"/>
                  </a:xfrm>
                  <a:custGeom>
                    <a:avLst/>
                    <a:gdLst>
                      <a:gd name="textAreaLeft" fmla="*/ 360 w 442080"/>
                      <a:gd name="textAreaRight" fmla="*/ 442800 w 442080"/>
                      <a:gd name="textAreaTop" fmla="*/ 0 h 383760"/>
                      <a:gd name="textAreaBottom" fmla="*/ 384120 h 383760"/>
                    </a:gdLst>
                    <a:ahLst/>
                    <a:rect l="textAreaLeft" t="textAreaTop" r="textAreaRight" b="textAreaBottom"/>
                    <a:pathLst>
                      <a:path w="775" h="646">
                        <a:moveTo>
                          <a:pt x="740" y="54"/>
                        </a:moveTo>
                        <a:lnTo>
                          <a:pt x="683" y="28"/>
                        </a:lnTo>
                        <a:lnTo>
                          <a:pt x="617" y="16"/>
                        </a:lnTo>
                        <a:lnTo>
                          <a:pt x="568" y="11"/>
                        </a:lnTo>
                        <a:lnTo>
                          <a:pt x="493" y="0"/>
                        </a:lnTo>
                        <a:lnTo>
                          <a:pt x="417" y="0"/>
                        </a:lnTo>
                        <a:lnTo>
                          <a:pt x="332" y="11"/>
                        </a:lnTo>
                        <a:lnTo>
                          <a:pt x="280" y="25"/>
                        </a:lnTo>
                        <a:lnTo>
                          <a:pt x="186" y="58"/>
                        </a:lnTo>
                        <a:lnTo>
                          <a:pt x="115" y="85"/>
                        </a:lnTo>
                        <a:lnTo>
                          <a:pt x="141" y="101"/>
                        </a:lnTo>
                        <a:lnTo>
                          <a:pt x="87" y="160"/>
                        </a:lnTo>
                        <a:lnTo>
                          <a:pt x="49" y="203"/>
                        </a:lnTo>
                        <a:lnTo>
                          <a:pt x="98" y="217"/>
                        </a:lnTo>
                        <a:lnTo>
                          <a:pt x="33" y="283"/>
                        </a:lnTo>
                        <a:lnTo>
                          <a:pt x="77" y="278"/>
                        </a:lnTo>
                        <a:lnTo>
                          <a:pt x="11" y="365"/>
                        </a:lnTo>
                        <a:lnTo>
                          <a:pt x="54" y="381"/>
                        </a:lnTo>
                        <a:lnTo>
                          <a:pt x="37" y="401"/>
                        </a:lnTo>
                        <a:lnTo>
                          <a:pt x="21" y="426"/>
                        </a:lnTo>
                        <a:lnTo>
                          <a:pt x="0" y="473"/>
                        </a:lnTo>
                        <a:lnTo>
                          <a:pt x="49" y="457"/>
                        </a:lnTo>
                        <a:lnTo>
                          <a:pt x="87" y="506"/>
                        </a:lnTo>
                        <a:lnTo>
                          <a:pt x="110" y="497"/>
                        </a:lnTo>
                        <a:lnTo>
                          <a:pt x="134" y="493"/>
                        </a:lnTo>
                        <a:lnTo>
                          <a:pt x="164" y="499"/>
                        </a:lnTo>
                        <a:lnTo>
                          <a:pt x="186" y="509"/>
                        </a:lnTo>
                        <a:lnTo>
                          <a:pt x="200" y="535"/>
                        </a:lnTo>
                        <a:lnTo>
                          <a:pt x="209" y="559"/>
                        </a:lnTo>
                        <a:lnTo>
                          <a:pt x="217" y="577"/>
                        </a:lnTo>
                        <a:lnTo>
                          <a:pt x="235" y="598"/>
                        </a:lnTo>
                        <a:lnTo>
                          <a:pt x="249" y="612"/>
                        </a:lnTo>
                        <a:lnTo>
                          <a:pt x="273" y="646"/>
                        </a:lnTo>
                        <a:lnTo>
                          <a:pt x="268" y="598"/>
                        </a:lnTo>
                        <a:lnTo>
                          <a:pt x="273" y="575"/>
                        </a:lnTo>
                        <a:lnTo>
                          <a:pt x="290" y="546"/>
                        </a:lnTo>
                        <a:lnTo>
                          <a:pt x="316" y="516"/>
                        </a:lnTo>
                        <a:lnTo>
                          <a:pt x="346" y="480"/>
                        </a:lnTo>
                        <a:lnTo>
                          <a:pt x="360" y="455"/>
                        </a:lnTo>
                        <a:lnTo>
                          <a:pt x="372" y="433"/>
                        </a:lnTo>
                        <a:lnTo>
                          <a:pt x="396" y="419"/>
                        </a:lnTo>
                        <a:lnTo>
                          <a:pt x="431" y="403"/>
                        </a:lnTo>
                        <a:lnTo>
                          <a:pt x="443" y="388"/>
                        </a:lnTo>
                        <a:lnTo>
                          <a:pt x="453" y="368"/>
                        </a:lnTo>
                        <a:lnTo>
                          <a:pt x="462" y="348"/>
                        </a:lnTo>
                        <a:lnTo>
                          <a:pt x="457" y="299"/>
                        </a:lnTo>
                        <a:lnTo>
                          <a:pt x="447" y="266"/>
                        </a:lnTo>
                        <a:lnTo>
                          <a:pt x="427" y="245"/>
                        </a:lnTo>
                        <a:lnTo>
                          <a:pt x="419" y="228"/>
                        </a:lnTo>
                        <a:lnTo>
                          <a:pt x="408" y="216"/>
                        </a:lnTo>
                        <a:lnTo>
                          <a:pt x="400" y="198"/>
                        </a:lnTo>
                        <a:lnTo>
                          <a:pt x="401" y="170"/>
                        </a:lnTo>
                        <a:lnTo>
                          <a:pt x="412" y="148"/>
                        </a:lnTo>
                        <a:lnTo>
                          <a:pt x="433" y="132"/>
                        </a:lnTo>
                        <a:lnTo>
                          <a:pt x="455" y="122"/>
                        </a:lnTo>
                        <a:lnTo>
                          <a:pt x="481" y="113"/>
                        </a:lnTo>
                        <a:lnTo>
                          <a:pt x="512" y="115"/>
                        </a:lnTo>
                        <a:lnTo>
                          <a:pt x="493" y="98"/>
                        </a:lnTo>
                        <a:lnTo>
                          <a:pt x="495" y="85"/>
                        </a:lnTo>
                        <a:lnTo>
                          <a:pt x="504" y="77"/>
                        </a:lnTo>
                        <a:lnTo>
                          <a:pt x="521" y="72"/>
                        </a:lnTo>
                        <a:lnTo>
                          <a:pt x="551" y="73"/>
                        </a:lnTo>
                        <a:lnTo>
                          <a:pt x="578" y="77"/>
                        </a:lnTo>
                        <a:lnTo>
                          <a:pt x="599" y="75"/>
                        </a:lnTo>
                        <a:lnTo>
                          <a:pt x="627" y="65"/>
                        </a:lnTo>
                        <a:lnTo>
                          <a:pt x="653" y="56"/>
                        </a:lnTo>
                        <a:lnTo>
                          <a:pt x="684" y="58"/>
                        </a:lnTo>
                        <a:lnTo>
                          <a:pt x="717" y="61"/>
                        </a:lnTo>
                        <a:lnTo>
                          <a:pt x="775" y="75"/>
                        </a:lnTo>
                        <a:lnTo>
                          <a:pt x="740" y="54"/>
                        </a:lnTo>
                        <a:close/>
                      </a:path>
                    </a:pathLst>
                  </a:cu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0" name="Freeform 73"/>
                <p:cNvSpPr/>
                <p:nvPr/>
              </p:nvSpPr>
              <p:spPr>
                <a:xfrm flipH="1" rot="20579400">
                  <a:off x="4734000" y="3740400"/>
                  <a:ext cx="248760" cy="291960"/>
                </a:xfrm>
                <a:custGeom>
                  <a:avLst/>
                  <a:gdLst>
                    <a:gd name="textAreaLeft" fmla="*/ -360 w 248760"/>
                    <a:gd name="textAreaRight" fmla="*/ 248760 w 248760"/>
                    <a:gd name="textAreaTop" fmla="*/ 0 h 291960"/>
                    <a:gd name="textAreaBottom" fmla="*/ 292320 h 291960"/>
                  </a:gdLst>
                  <a:ahLst/>
                  <a:rect l="textAreaLeft" t="textAreaTop" r="textAreaRight" b="textAreaBottom"/>
                  <a:pathLst>
                    <a:path w="438" h="491">
                      <a:moveTo>
                        <a:pt x="0" y="0"/>
                      </a:moveTo>
                      <a:lnTo>
                        <a:pt x="363" y="300"/>
                      </a:lnTo>
                      <a:lnTo>
                        <a:pt x="438" y="4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Freeform 74"/>
                <p:cNvSpPr/>
                <p:nvPr/>
              </p:nvSpPr>
              <p:spPr>
                <a:xfrm flipH="1" rot="20579400">
                  <a:off x="4774320" y="3732120"/>
                  <a:ext cx="207360" cy="291960"/>
                </a:xfrm>
                <a:custGeom>
                  <a:avLst/>
                  <a:gdLst>
                    <a:gd name="textAreaLeft" fmla="*/ 360 w 207360"/>
                    <a:gd name="textAreaRight" fmla="*/ 208080 w 207360"/>
                    <a:gd name="textAreaTop" fmla="*/ 0 h 291960"/>
                    <a:gd name="textAreaBottom" fmla="*/ 292320 h 291960"/>
                  </a:gdLst>
                  <a:ahLst/>
                  <a:rect l="textAreaLeft" t="textAreaTop" r="textAreaRight" b="textAreaBottom"/>
                  <a:pathLst>
                    <a:path w="363" h="495">
                      <a:moveTo>
                        <a:pt x="0" y="0"/>
                      </a:moveTo>
                      <a:lnTo>
                        <a:pt x="363" y="311"/>
                      </a:lnTo>
                      <a:lnTo>
                        <a:pt x="278" y="49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Group 75"/>
                <p:cNvGrpSpPr/>
                <p:nvPr/>
              </p:nvGrpSpPr>
              <p:grpSpPr>
                <a:xfrm>
                  <a:off x="4415040" y="3417480"/>
                  <a:ext cx="385920" cy="193680"/>
                  <a:chOff x="4415040" y="3417480"/>
                  <a:chExt cx="385920" cy="193680"/>
                </a:xfrm>
              </p:grpSpPr>
              <p:sp>
                <p:nvSpPr>
                  <p:cNvPr id="293" name="Freeform 76"/>
                  <p:cNvSpPr/>
                  <p:nvPr/>
                </p:nvSpPr>
                <p:spPr>
                  <a:xfrm flipH="1" rot="20579400">
                    <a:off x="4443120" y="3440880"/>
                    <a:ext cx="106920" cy="14040"/>
                  </a:xfrm>
                  <a:custGeom>
                    <a:avLst/>
                    <a:gdLst>
                      <a:gd name="textAreaLeft" fmla="*/ -360 w 106920"/>
                      <a:gd name="textAreaRight" fmla="*/ 106920 w 10692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187" h="24">
                        <a:moveTo>
                          <a:pt x="187" y="24"/>
                        </a:moveTo>
                        <a:lnTo>
                          <a:pt x="163" y="10"/>
                        </a:lnTo>
                        <a:lnTo>
                          <a:pt x="139" y="5"/>
                        </a:lnTo>
                        <a:lnTo>
                          <a:pt x="90" y="0"/>
                        </a:lnTo>
                        <a:lnTo>
                          <a:pt x="43" y="0"/>
                        </a:lnTo>
                        <a:lnTo>
                          <a:pt x="0" y="6"/>
                        </a:lnTo>
                        <a:lnTo>
                          <a:pt x="101" y="15"/>
                        </a:lnTo>
                        <a:lnTo>
                          <a:pt x="187" y="24"/>
                        </a:lnTo>
                        <a:close/>
                      </a:path>
                    </a:pathLst>
                  </a:cu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Oval 77"/>
                  <p:cNvSpPr/>
                  <p:nvPr/>
                </p:nvSpPr>
                <p:spPr>
                  <a:xfrm flipH="1" rot="20579400">
                    <a:off x="4437720" y="3427920"/>
                    <a:ext cx="98640" cy="172440"/>
                  </a:xfrm>
                  <a:prstGeom prst="ellipse">
                    <a:avLst/>
                  </a:prstGeom>
                  <a:noFill/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Line 78"/>
                  <p:cNvSpPr/>
                  <p:nvPr/>
                </p:nvSpPr>
                <p:spPr>
                  <a:xfrm flipH="1">
                    <a:off x="4531680" y="3422880"/>
                    <a:ext cx="269280" cy="835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6" name="Group 79"/>
                  <p:cNvGrpSpPr/>
                  <p:nvPr/>
                </p:nvGrpSpPr>
                <p:grpSpPr>
                  <a:xfrm>
                    <a:off x="4455360" y="3498480"/>
                    <a:ext cx="46800" cy="66960"/>
                    <a:chOff x="4455360" y="3498480"/>
                    <a:chExt cx="46800" cy="66960"/>
                  </a:xfrm>
                </p:grpSpPr>
                <p:sp>
                  <p:nvSpPr>
                    <p:cNvPr id="297" name="Oval 80"/>
                    <p:cNvSpPr/>
                    <p:nvPr/>
                  </p:nvSpPr>
                  <p:spPr>
                    <a:xfrm flipH="1" rot="20579400">
                      <a:off x="4463280" y="3501360"/>
                      <a:ext cx="30600" cy="60480"/>
                    </a:xfrm>
                    <a:prstGeom prst="ellipse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Oval 81"/>
                    <p:cNvSpPr/>
                    <p:nvPr/>
                  </p:nvSpPr>
                  <p:spPr>
                    <a:xfrm flipH="1" rot="20579400">
                      <a:off x="4466160" y="3508920"/>
                      <a:ext cx="17280" cy="34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9" name="Group 82"/>
              <p:cNvGrpSpPr/>
              <p:nvPr/>
            </p:nvGrpSpPr>
            <p:grpSpPr>
              <a:xfrm>
                <a:off x="4025160" y="3814200"/>
                <a:ext cx="1146600" cy="483120"/>
                <a:chOff x="4025160" y="3814200"/>
                <a:chExt cx="1146600" cy="483120"/>
              </a:xfrm>
            </p:grpSpPr>
            <p:grpSp>
              <p:nvGrpSpPr>
                <p:cNvPr id="300" name="Group 83"/>
                <p:cNvGrpSpPr/>
                <p:nvPr/>
              </p:nvGrpSpPr>
              <p:grpSpPr>
                <a:xfrm>
                  <a:off x="4025160" y="3814200"/>
                  <a:ext cx="337680" cy="377640"/>
                  <a:chOff x="4025160" y="3814200"/>
                  <a:chExt cx="337680" cy="377640"/>
                </a:xfrm>
              </p:grpSpPr>
              <p:sp>
                <p:nvSpPr>
                  <p:cNvPr id="301" name="Freeform 84"/>
                  <p:cNvSpPr/>
                  <p:nvPr/>
                </p:nvSpPr>
                <p:spPr>
                  <a:xfrm flipH="1" rot="5914800">
                    <a:off x="4024800" y="3857760"/>
                    <a:ext cx="338040" cy="290520"/>
                  </a:xfrm>
                  <a:custGeom>
                    <a:avLst/>
                    <a:gdLst>
                      <a:gd name="textAreaLeft" fmla="*/ -360 w 338040"/>
                      <a:gd name="textAreaRight" fmla="*/ 338040 w 338040"/>
                      <a:gd name="textAreaTop" fmla="*/ 0 h 290520"/>
                      <a:gd name="textAreaBottom" fmla="*/ 290880 h 290520"/>
                    </a:gdLst>
                    <a:ahLst/>
                    <a:rect l="textAreaLeft" t="textAreaTop" r="textAreaRight" b="textAreaBottom"/>
                    <a:pathLst>
                      <a:path w="571" h="510">
                        <a:moveTo>
                          <a:pt x="88" y="66"/>
                        </a:moveTo>
                        <a:lnTo>
                          <a:pt x="52" y="132"/>
                        </a:lnTo>
                        <a:lnTo>
                          <a:pt x="38" y="156"/>
                        </a:lnTo>
                        <a:lnTo>
                          <a:pt x="31" y="186"/>
                        </a:lnTo>
                        <a:lnTo>
                          <a:pt x="24" y="227"/>
                        </a:lnTo>
                        <a:lnTo>
                          <a:pt x="24" y="265"/>
                        </a:lnTo>
                        <a:lnTo>
                          <a:pt x="29" y="304"/>
                        </a:lnTo>
                        <a:lnTo>
                          <a:pt x="45" y="338"/>
                        </a:lnTo>
                        <a:lnTo>
                          <a:pt x="78" y="363"/>
                        </a:lnTo>
                        <a:lnTo>
                          <a:pt x="43" y="342"/>
                        </a:lnTo>
                        <a:lnTo>
                          <a:pt x="29" y="340"/>
                        </a:lnTo>
                        <a:lnTo>
                          <a:pt x="12" y="347"/>
                        </a:lnTo>
                        <a:lnTo>
                          <a:pt x="3" y="357"/>
                        </a:lnTo>
                        <a:lnTo>
                          <a:pt x="0" y="375"/>
                        </a:lnTo>
                        <a:lnTo>
                          <a:pt x="5" y="389"/>
                        </a:lnTo>
                        <a:lnTo>
                          <a:pt x="17" y="406"/>
                        </a:lnTo>
                        <a:lnTo>
                          <a:pt x="60" y="437"/>
                        </a:lnTo>
                        <a:lnTo>
                          <a:pt x="128" y="463"/>
                        </a:lnTo>
                        <a:lnTo>
                          <a:pt x="158" y="472"/>
                        </a:lnTo>
                        <a:lnTo>
                          <a:pt x="191" y="477"/>
                        </a:lnTo>
                        <a:lnTo>
                          <a:pt x="220" y="477"/>
                        </a:lnTo>
                        <a:lnTo>
                          <a:pt x="250" y="488"/>
                        </a:lnTo>
                        <a:lnTo>
                          <a:pt x="286" y="500"/>
                        </a:lnTo>
                        <a:lnTo>
                          <a:pt x="368" y="510"/>
                        </a:lnTo>
                        <a:lnTo>
                          <a:pt x="465" y="489"/>
                        </a:lnTo>
                        <a:lnTo>
                          <a:pt x="527" y="489"/>
                        </a:lnTo>
                        <a:lnTo>
                          <a:pt x="543" y="484"/>
                        </a:lnTo>
                        <a:lnTo>
                          <a:pt x="559" y="469"/>
                        </a:lnTo>
                        <a:lnTo>
                          <a:pt x="564" y="448"/>
                        </a:lnTo>
                        <a:lnTo>
                          <a:pt x="571" y="366"/>
                        </a:lnTo>
                        <a:lnTo>
                          <a:pt x="571" y="298"/>
                        </a:lnTo>
                        <a:lnTo>
                          <a:pt x="567" y="264"/>
                        </a:lnTo>
                        <a:lnTo>
                          <a:pt x="564" y="239"/>
                        </a:lnTo>
                        <a:lnTo>
                          <a:pt x="559" y="217"/>
                        </a:lnTo>
                        <a:lnTo>
                          <a:pt x="553" y="193"/>
                        </a:lnTo>
                        <a:lnTo>
                          <a:pt x="522" y="100"/>
                        </a:lnTo>
                        <a:lnTo>
                          <a:pt x="491" y="0"/>
                        </a:lnTo>
                        <a:lnTo>
                          <a:pt x="88" y="66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Arc 85"/>
                  <p:cNvSpPr/>
                  <p:nvPr/>
                </p:nvSpPr>
                <p:spPr>
                  <a:xfrm flipH="1" rot="5914800">
                    <a:off x="4110480" y="4096440"/>
                    <a:ext cx="9360" cy="20160"/>
                  </a:xfrm>
                  <a:custGeom>
                    <a:avLst/>
                    <a:gdLst>
                      <a:gd name="textAreaLeft" fmla="*/ 360 w 9360"/>
                      <a:gd name="textAreaRight" fmla="*/ 10080 w 936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fill="none" w="21600" h="21460">
                        <a:moveTo>
                          <a:pt x="0" y="21460"/>
                        </a:moveTo>
                        <a:cubicBezTo>
                          <a:pt x="0" y="10479"/>
                          <a:pt x="8237" y="1246"/>
                          <a:pt x="19146" y="-1"/>
                        </a:cubicBezTo>
                      </a:path>
                      <a:path stroke="0" w="21600" h="21460">
                        <a:moveTo>
                          <a:pt x="0" y="21460"/>
                        </a:moveTo>
                        <a:cubicBezTo>
                          <a:pt x="0" y="10479"/>
                          <a:pt x="8237" y="1246"/>
                          <a:pt x="19146" y="-1"/>
                        </a:cubicBezTo>
                        <a:lnTo>
                          <a:pt x="21600" y="21460"/>
                        </a:lnTo>
                        <a:lnTo>
                          <a:pt x="0" y="21460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" name="Group 86"/>
                <p:cNvGrpSpPr/>
                <p:nvPr/>
              </p:nvGrpSpPr>
              <p:grpSpPr>
                <a:xfrm>
                  <a:off x="4273560" y="3841200"/>
                  <a:ext cx="898200" cy="456120"/>
                  <a:chOff x="4273560" y="3841200"/>
                  <a:chExt cx="898200" cy="456120"/>
                </a:xfrm>
              </p:grpSpPr>
              <p:sp>
                <p:nvSpPr>
                  <p:cNvPr id="304" name="Rectangle 87"/>
                  <p:cNvSpPr/>
                  <p:nvPr/>
                </p:nvSpPr>
                <p:spPr>
                  <a:xfrm flipH="1" rot="5914800">
                    <a:off x="4178880" y="3987000"/>
                    <a:ext cx="282960" cy="52200"/>
                  </a:xfrm>
                  <a:prstGeom prst="rect">
                    <a:avLst/>
                  </a:prstGeom>
                  <a:solidFill>
                    <a:srgbClr val="ffffff"/>
                  </a:solidFill>
                  <a:ln w="11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Freeform 88"/>
                  <p:cNvSpPr/>
                  <p:nvPr/>
                </p:nvSpPr>
                <p:spPr>
                  <a:xfrm flipH="1" rot="5914800">
                    <a:off x="4568040" y="3654000"/>
                    <a:ext cx="336240" cy="830520"/>
                  </a:xfrm>
                  <a:custGeom>
                    <a:avLst/>
                    <a:gdLst>
                      <a:gd name="textAreaLeft" fmla="*/ 360 w 336240"/>
                      <a:gd name="textAreaRight" fmla="*/ 336960 w 336240"/>
                      <a:gd name="textAreaTop" fmla="*/ 0 h 830520"/>
                      <a:gd name="textAreaBottom" fmla="*/ 830880 h 830520"/>
                    </a:gdLst>
                    <a:ahLst/>
                    <a:rect l="textAreaLeft" t="textAreaTop" r="textAreaRight" b="textAreaBottom"/>
                    <a:pathLst>
                      <a:path w="566" h="1459">
                        <a:moveTo>
                          <a:pt x="28" y="486"/>
                        </a:moveTo>
                        <a:lnTo>
                          <a:pt x="16" y="905"/>
                        </a:lnTo>
                        <a:lnTo>
                          <a:pt x="0" y="1454"/>
                        </a:lnTo>
                        <a:lnTo>
                          <a:pt x="544" y="1459"/>
                        </a:lnTo>
                        <a:lnTo>
                          <a:pt x="551" y="874"/>
                        </a:lnTo>
                        <a:lnTo>
                          <a:pt x="549" y="601"/>
                        </a:lnTo>
                        <a:lnTo>
                          <a:pt x="566" y="313"/>
                        </a:lnTo>
                        <a:lnTo>
                          <a:pt x="561" y="249"/>
                        </a:lnTo>
                        <a:lnTo>
                          <a:pt x="556" y="200"/>
                        </a:lnTo>
                        <a:lnTo>
                          <a:pt x="546" y="153"/>
                        </a:lnTo>
                        <a:lnTo>
                          <a:pt x="535" y="120"/>
                        </a:lnTo>
                        <a:lnTo>
                          <a:pt x="516" y="87"/>
                        </a:lnTo>
                        <a:lnTo>
                          <a:pt x="497" y="64"/>
                        </a:lnTo>
                        <a:lnTo>
                          <a:pt x="466" y="40"/>
                        </a:lnTo>
                        <a:lnTo>
                          <a:pt x="426" y="21"/>
                        </a:lnTo>
                        <a:lnTo>
                          <a:pt x="382" y="9"/>
                        </a:lnTo>
                        <a:lnTo>
                          <a:pt x="334" y="4"/>
                        </a:lnTo>
                        <a:lnTo>
                          <a:pt x="294" y="0"/>
                        </a:lnTo>
                        <a:lnTo>
                          <a:pt x="245" y="11"/>
                        </a:lnTo>
                        <a:lnTo>
                          <a:pt x="198" y="26"/>
                        </a:lnTo>
                        <a:lnTo>
                          <a:pt x="171" y="44"/>
                        </a:lnTo>
                        <a:lnTo>
                          <a:pt x="136" y="68"/>
                        </a:lnTo>
                        <a:lnTo>
                          <a:pt x="112" y="97"/>
                        </a:lnTo>
                        <a:lnTo>
                          <a:pt x="86" y="141"/>
                        </a:lnTo>
                        <a:lnTo>
                          <a:pt x="68" y="189"/>
                        </a:lnTo>
                        <a:lnTo>
                          <a:pt x="49" y="269"/>
                        </a:lnTo>
                        <a:lnTo>
                          <a:pt x="28" y="486"/>
                        </a:lnTo>
                        <a:close/>
                      </a:path>
                    </a:pathLst>
                  </a:custGeom>
                  <a:solidFill>
                    <a:srgbClr val="80400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306" name="Object 89" descr=""/>
              <p:cNvPicPr/>
              <p:nvPr/>
            </p:nvPicPr>
            <p:blipFill>
              <a:blip r:embed="rId1"/>
              <a:stretch/>
            </p:blipFill>
            <p:spPr>
              <a:xfrm>
                <a:off x="2895480" y="3891960"/>
                <a:ext cx="1860480" cy="1827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7" name="AutoShape 90"/>
          <p:cNvSpPr/>
          <p:nvPr/>
        </p:nvSpPr>
        <p:spPr>
          <a:xfrm>
            <a:off x="4648320" y="1066680"/>
            <a:ext cx="3733560" cy="1676520"/>
          </a:xfrm>
          <a:prstGeom prst="cloudCallout">
            <a:avLst>
              <a:gd name="adj1" fmla="val -52000"/>
              <a:gd name="adj2" fmla="val 72157"/>
            </a:avLst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lin ang="189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thin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worst case examp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91"/>
          <p:cNvSpPr/>
          <p:nvPr/>
        </p:nvSpPr>
        <p:spPr>
          <a:xfrm flipH="1">
            <a:off x="228600" y="762120"/>
            <a:ext cx="4572000" cy="2666880"/>
          </a:xfrm>
          <a:prstGeom prst="cloudCallout">
            <a:avLst>
              <a:gd name="adj1" fmla="val -22259"/>
              <a:gd name="adj2" fmla="val 64578"/>
            </a:avLst>
          </a:prstGeom>
          <a:gradFill rotWithShape="0">
            <a:gsLst>
              <a:gs pos="0">
                <a:srgbClr val="ccffcc"/>
              </a:gs>
              <a:gs pos="100000">
                <a:srgbClr val="b5e2b5"/>
              </a:gs>
            </a:gsLst>
            <a:lin ang="54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e.  Try this 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on(2, 1), find(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on(3, 2), find(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, ...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on(N, 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, find(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104"/>
          <p:cNvGrpSpPr/>
          <p:nvPr/>
        </p:nvGrpSpPr>
        <p:grpSpPr>
          <a:xfrm>
            <a:off x="4724280" y="457200"/>
            <a:ext cx="4191120" cy="2590920"/>
            <a:chOff x="4724280" y="457200"/>
            <a:chExt cx="4191120" cy="2590920"/>
          </a:xfrm>
        </p:grpSpPr>
        <p:sp>
          <p:nvSpPr>
            <p:cNvPr id="310" name="AutoShape 93"/>
            <p:cNvSpPr/>
            <p:nvPr/>
          </p:nvSpPr>
          <p:spPr>
            <a:xfrm>
              <a:off x="4724280" y="457200"/>
              <a:ext cx="4191120" cy="2590920"/>
            </a:xfrm>
            <a:prstGeom prst="cloudCallout">
              <a:avLst>
                <a:gd name="adj1" fmla="val -49319"/>
                <a:gd name="adj2" fmla="val 53615"/>
              </a:avLst>
            </a:prstGeom>
            <a:gradFill rotWithShape="0">
              <a:gsLst>
                <a:gs pos="0">
                  <a:srgbClr val="ccffff"/>
                </a:gs>
                <a:gs pos="100000">
                  <a:srgbClr val="bae8e8"/>
                </a:gs>
              </a:gsLst>
              <a:lin ang="18900000"/>
            </a:gradFill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Group 94"/>
            <p:cNvGrpSpPr/>
            <p:nvPr/>
          </p:nvGrpSpPr>
          <p:grpSpPr>
            <a:xfrm>
              <a:off x="5562720" y="609480"/>
              <a:ext cx="1809360" cy="2058840"/>
              <a:chOff x="5562720" y="609480"/>
              <a:chExt cx="1809360" cy="2058840"/>
            </a:xfrm>
          </p:grpSpPr>
          <p:sp>
            <p:nvSpPr>
              <p:cNvPr id="312" name="Oval 95"/>
              <p:cNvSpPr/>
              <p:nvPr/>
            </p:nvSpPr>
            <p:spPr>
              <a:xfrm>
                <a:off x="7043760" y="609480"/>
                <a:ext cx="328320" cy="328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Oval 96"/>
              <p:cNvSpPr/>
              <p:nvPr/>
            </p:nvSpPr>
            <p:spPr>
              <a:xfrm>
                <a:off x="6549480" y="1185480"/>
                <a:ext cx="328320" cy="330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97"/>
              <p:cNvSpPr/>
              <p:nvPr/>
            </p:nvSpPr>
            <p:spPr>
              <a:xfrm flipH="1">
                <a:off x="6758280" y="893880"/>
                <a:ext cx="329760" cy="330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Oval 98"/>
              <p:cNvSpPr/>
              <p:nvPr/>
            </p:nvSpPr>
            <p:spPr>
              <a:xfrm>
                <a:off x="6057000" y="1761840"/>
                <a:ext cx="328320" cy="3301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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99"/>
              <p:cNvSpPr/>
              <p:nvPr/>
            </p:nvSpPr>
            <p:spPr>
              <a:xfrm flipH="1">
                <a:off x="6384960" y="1469880"/>
                <a:ext cx="208440" cy="237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Oval 100"/>
              <p:cNvSpPr/>
              <p:nvPr/>
            </p:nvSpPr>
            <p:spPr>
              <a:xfrm>
                <a:off x="5562720" y="2339280"/>
                <a:ext cx="328320" cy="329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101"/>
              <p:cNvSpPr/>
              <p:nvPr/>
            </p:nvSpPr>
            <p:spPr>
              <a:xfrm flipH="1">
                <a:off x="5770800" y="2047680"/>
                <a:ext cx="329400" cy="328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Text Box 102"/>
            <p:cNvSpPr/>
            <p:nvPr/>
          </p:nvSpPr>
          <p:spPr>
            <a:xfrm>
              <a:off x="6400800" y="1274760"/>
              <a:ext cx="2362320" cy="13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) 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at’s no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Aft>
                  <a:spcPts val="1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oo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Text Box 105"/>
          <p:cNvSpPr/>
          <p:nvPr/>
        </p:nvSpPr>
        <p:spPr>
          <a:xfrm>
            <a:off x="0" y="6477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7" dur="1" fill="hold"/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380880" y="1522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4  Smart Un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533520" y="685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ion-by-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2971800" y="685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 Always change the smaller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990720" y="12193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[ Root ] = – size;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initialized to be –1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6706080" y="4876920"/>
            <a:ext cx="1590120" cy="1461600"/>
            <a:chOff x="6706080" y="4876920"/>
            <a:chExt cx="1590120" cy="1461600"/>
          </a:xfrm>
        </p:grpSpPr>
        <p:grpSp>
          <p:nvGrpSpPr>
            <p:cNvPr id="326" name="Group 7"/>
            <p:cNvGrpSpPr/>
            <p:nvPr/>
          </p:nvGrpSpPr>
          <p:grpSpPr>
            <a:xfrm>
              <a:off x="6912000" y="5666400"/>
              <a:ext cx="822960" cy="672120"/>
              <a:chOff x="6912000" y="5666400"/>
              <a:chExt cx="822960" cy="672120"/>
            </a:xfrm>
          </p:grpSpPr>
          <p:sp>
            <p:nvSpPr>
              <p:cNvPr id="327" name="Freeform 8"/>
              <p:cNvSpPr/>
              <p:nvPr/>
            </p:nvSpPr>
            <p:spPr>
              <a:xfrm flipH="1">
                <a:off x="6912000" y="5671800"/>
                <a:ext cx="822960" cy="666720"/>
              </a:xfrm>
              <a:custGeom>
                <a:avLst/>
                <a:gdLst>
                  <a:gd name="textAreaLeft" fmla="*/ 360 w 822960"/>
                  <a:gd name="textAreaRight" fmla="*/ 823680 w 822960"/>
                  <a:gd name="textAreaTop" fmla="*/ 0 h 666720"/>
                  <a:gd name="textAreaBottom" fmla="*/ 666720 h 666720"/>
                </a:gdLst>
                <a:ahLst/>
                <a:rect l="textAreaLeft" t="textAreaTop" r="textAreaRight" b="textAreaBottom"/>
                <a:pathLst>
                  <a:path w="1476" h="1228">
                    <a:moveTo>
                      <a:pt x="1476" y="1225"/>
                    </a:moveTo>
                    <a:lnTo>
                      <a:pt x="1476" y="591"/>
                    </a:lnTo>
                    <a:lnTo>
                      <a:pt x="1455" y="83"/>
                    </a:lnTo>
                    <a:lnTo>
                      <a:pt x="706" y="0"/>
                    </a:lnTo>
                    <a:lnTo>
                      <a:pt x="24" y="75"/>
                    </a:lnTo>
                    <a:lnTo>
                      <a:pt x="20" y="254"/>
                    </a:lnTo>
                    <a:lnTo>
                      <a:pt x="0" y="1220"/>
                    </a:lnTo>
                    <a:lnTo>
                      <a:pt x="152" y="1220"/>
                    </a:lnTo>
                    <a:lnTo>
                      <a:pt x="152" y="345"/>
                    </a:lnTo>
                    <a:lnTo>
                      <a:pt x="444" y="324"/>
                    </a:lnTo>
                    <a:lnTo>
                      <a:pt x="1339" y="324"/>
                    </a:lnTo>
                    <a:lnTo>
                      <a:pt x="1352" y="1228"/>
                    </a:lnTo>
                    <a:lnTo>
                      <a:pt x="1476" y="1225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9"/>
              <p:cNvSpPr/>
              <p:nvPr/>
            </p:nvSpPr>
            <p:spPr>
              <a:xfrm flipH="1">
                <a:off x="7350840" y="5666400"/>
                <a:ext cx="321480" cy="169200"/>
              </a:xfrm>
              <a:custGeom>
                <a:avLst/>
                <a:gdLst>
                  <a:gd name="textAreaLeft" fmla="*/ -360 w 321480"/>
                  <a:gd name="textAreaRight" fmla="*/ 321480 w 321480"/>
                  <a:gd name="textAreaTop" fmla="*/ 0 h 169200"/>
                  <a:gd name="textAreaBottom" fmla="*/ 169200 h 169200"/>
                </a:gdLst>
                <a:ahLst/>
                <a:rect l="textAreaLeft" t="textAreaTop" r="textAreaRight" b="textAreaBottom"/>
                <a:pathLst>
                  <a:path w="577" h="313">
                    <a:moveTo>
                      <a:pt x="108" y="61"/>
                    </a:moveTo>
                    <a:lnTo>
                      <a:pt x="185" y="50"/>
                    </a:lnTo>
                    <a:lnTo>
                      <a:pt x="256" y="0"/>
                    </a:lnTo>
                    <a:lnTo>
                      <a:pt x="330" y="74"/>
                    </a:lnTo>
                    <a:lnTo>
                      <a:pt x="562" y="217"/>
                    </a:lnTo>
                    <a:lnTo>
                      <a:pt x="577" y="270"/>
                    </a:lnTo>
                    <a:lnTo>
                      <a:pt x="444" y="313"/>
                    </a:lnTo>
                    <a:lnTo>
                      <a:pt x="0" y="97"/>
                    </a:lnTo>
                    <a:lnTo>
                      <a:pt x="108" y="61"/>
                    </a:lnTo>
                    <a:close/>
                  </a:path>
                </a:pathLst>
              </a:custGeom>
              <a:solidFill>
                <a:srgbClr val="c0c0c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10"/>
            <p:cNvGrpSpPr/>
            <p:nvPr/>
          </p:nvGrpSpPr>
          <p:grpSpPr>
            <a:xfrm>
              <a:off x="6706080" y="5065560"/>
              <a:ext cx="768240" cy="998280"/>
              <a:chOff x="6706080" y="5065560"/>
              <a:chExt cx="768240" cy="998280"/>
            </a:xfrm>
          </p:grpSpPr>
          <p:grpSp>
            <p:nvGrpSpPr>
              <p:cNvPr id="330" name="Group 11"/>
              <p:cNvGrpSpPr/>
              <p:nvPr/>
            </p:nvGrpSpPr>
            <p:grpSpPr>
              <a:xfrm>
                <a:off x="6706080" y="5065560"/>
                <a:ext cx="768240" cy="762120"/>
                <a:chOff x="6706080" y="5065560"/>
                <a:chExt cx="768240" cy="762120"/>
              </a:xfrm>
            </p:grpSpPr>
            <p:sp>
              <p:nvSpPr>
                <p:cNvPr id="331" name="Freeform 12"/>
                <p:cNvSpPr/>
                <p:nvPr/>
              </p:nvSpPr>
              <p:spPr>
                <a:xfrm flipH="1">
                  <a:off x="6706080" y="5065560"/>
                  <a:ext cx="768240" cy="762120"/>
                </a:xfrm>
                <a:custGeom>
                  <a:avLst/>
                  <a:gdLst>
                    <a:gd name="textAreaLeft" fmla="*/ 360 w 768240"/>
                    <a:gd name="textAreaRight" fmla="*/ 768960 w 768240"/>
                    <a:gd name="textAreaTop" fmla="*/ 0 h 762120"/>
                    <a:gd name="textAreaBottom" fmla="*/ 762480 h 762120"/>
                  </a:gdLst>
                  <a:ahLst/>
                  <a:rect l="textAreaLeft" t="textAreaTop" r="textAreaRight" b="textAreaBottom"/>
                  <a:pathLst>
                    <a:path w="1379" h="1405">
                      <a:moveTo>
                        <a:pt x="258" y="285"/>
                      </a:moveTo>
                      <a:lnTo>
                        <a:pt x="291" y="188"/>
                      </a:lnTo>
                      <a:lnTo>
                        <a:pt x="313" y="126"/>
                      </a:lnTo>
                      <a:lnTo>
                        <a:pt x="321" y="108"/>
                      </a:lnTo>
                      <a:lnTo>
                        <a:pt x="333" y="93"/>
                      </a:lnTo>
                      <a:lnTo>
                        <a:pt x="341" y="85"/>
                      </a:lnTo>
                      <a:lnTo>
                        <a:pt x="355" y="80"/>
                      </a:lnTo>
                      <a:lnTo>
                        <a:pt x="529" y="46"/>
                      </a:lnTo>
                      <a:lnTo>
                        <a:pt x="717" y="13"/>
                      </a:lnTo>
                      <a:lnTo>
                        <a:pt x="886" y="0"/>
                      </a:lnTo>
                      <a:lnTo>
                        <a:pt x="983" y="0"/>
                      </a:lnTo>
                      <a:lnTo>
                        <a:pt x="1184" y="12"/>
                      </a:lnTo>
                      <a:lnTo>
                        <a:pt x="1328" y="18"/>
                      </a:lnTo>
                      <a:lnTo>
                        <a:pt x="1350" y="20"/>
                      </a:lnTo>
                      <a:lnTo>
                        <a:pt x="1364" y="27"/>
                      </a:lnTo>
                      <a:lnTo>
                        <a:pt x="1373" y="33"/>
                      </a:lnTo>
                      <a:lnTo>
                        <a:pt x="1379" y="43"/>
                      </a:lnTo>
                      <a:lnTo>
                        <a:pt x="1379" y="56"/>
                      </a:lnTo>
                      <a:lnTo>
                        <a:pt x="1372" y="94"/>
                      </a:lnTo>
                      <a:lnTo>
                        <a:pt x="1344" y="221"/>
                      </a:lnTo>
                      <a:lnTo>
                        <a:pt x="1322" y="315"/>
                      </a:lnTo>
                      <a:lnTo>
                        <a:pt x="1276" y="528"/>
                      </a:lnTo>
                      <a:lnTo>
                        <a:pt x="1246" y="659"/>
                      </a:lnTo>
                      <a:lnTo>
                        <a:pt x="1163" y="965"/>
                      </a:lnTo>
                      <a:lnTo>
                        <a:pt x="1084" y="1211"/>
                      </a:lnTo>
                      <a:lnTo>
                        <a:pt x="1069" y="1258"/>
                      </a:lnTo>
                      <a:lnTo>
                        <a:pt x="1060" y="1284"/>
                      </a:lnTo>
                      <a:lnTo>
                        <a:pt x="1053" y="1310"/>
                      </a:lnTo>
                      <a:lnTo>
                        <a:pt x="1044" y="1325"/>
                      </a:lnTo>
                      <a:lnTo>
                        <a:pt x="1030" y="1342"/>
                      </a:lnTo>
                      <a:lnTo>
                        <a:pt x="1016" y="1348"/>
                      </a:lnTo>
                      <a:lnTo>
                        <a:pt x="990" y="1354"/>
                      </a:lnTo>
                      <a:lnTo>
                        <a:pt x="943" y="1358"/>
                      </a:lnTo>
                      <a:lnTo>
                        <a:pt x="865" y="1358"/>
                      </a:lnTo>
                      <a:lnTo>
                        <a:pt x="798" y="1366"/>
                      </a:lnTo>
                      <a:lnTo>
                        <a:pt x="711" y="1380"/>
                      </a:lnTo>
                      <a:lnTo>
                        <a:pt x="621" y="1395"/>
                      </a:lnTo>
                      <a:lnTo>
                        <a:pt x="560" y="1405"/>
                      </a:lnTo>
                      <a:lnTo>
                        <a:pt x="483" y="1405"/>
                      </a:lnTo>
                      <a:lnTo>
                        <a:pt x="468" y="1395"/>
                      </a:lnTo>
                      <a:lnTo>
                        <a:pt x="42" y="1115"/>
                      </a:lnTo>
                      <a:lnTo>
                        <a:pt x="22" y="1097"/>
                      </a:lnTo>
                      <a:lnTo>
                        <a:pt x="7" y="1078"/>
                      </a:lnTo>
                      <a:lnTo>
                        <a:pt x="0" y="1057"/>
                      </a:lnTo>
                      <a:lnTo>
                        <a:pt x="0" y="1031"/>
                      </a:lnTo>
                      <a:lnTo>
                        <a:pt x="7" y="1008"/>
                      </a:lnTo>
                      <a:lnTo>
                        <a:pt x="127" y="663"/>
                      </a:lnTo>
                      <a:lnTo>
                        <a:pt x="205" y="444"/>
                      </a:lnTo>
                      <a:lnTo>
                        <a:pt x="258" y="28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13"/>
                <p:cNvSpPr/>
                <p:nvPr/>
              </p:nvSpPr>
              <p:spPr>
                <a:xfrm flipH="1">
                  <a:off x="6977880" y="5140440"/>
                  <a:ext cx="456480" cy="579600"/>
                </a:xfrm>
                <a:custGeom>
                  <a:avLst/>
                  <a:gdLst>
                    <a:gd name="textAreaLeft" fmla="*/ 360 w 456480"/>
                    <a:gd name="textAreaRight" fmla="*/ 457200 w 456480"/>
                    <a:gd name="textAreaTop" fmla="*/ 0 h 579600"/>
                    <a:gd name="textAreaBottom" fmla="*/ 579960 h 579600"/>
                  </a:gdLst>
                  <a:ahLst/>
                  <a:rect l="textAreaLeft" t="textAreaTop" r="textAreaRight" b="textAreaBottom"/>
                  <a:pathLst>
                    <a:path w="820" h="1067">
                      <a:moveTo>
                        <a:pt x="187" y="319"/>
                      </a:moveTo>
                      <a:lnTo>
                        <a:pt x="246" y="164"/>
                      </a:lnTo>
                      <a:lnTo>
                        <a:pt x="298" y="28"/>
                      </a:lnTo>
                      <a:lnTo>
                        <a:pt x="306" y="22"/>
                      </a:lnTo>
                      <a:lnTo>
                        <a:pt x="315" y="19"/>
                      </a:lnTo>
                      <a:lnTo>
                        <a:pt x="333" y="18"/>
                      </a:lnTo>
                      <a:lnTo>
                        <a:pt x="568" y="1"/>
                      </a:lnTo>
                      <a:lnTo>
                        <a:pt x="795" y="0"/>
                      </a:lnTo>
                      <a:lnTo>
                        <a:pt x="809" y="3"/>
                      </a:lnTo>
                      <a:lnTo>
                        <a:pt x="814" y="6"/>
                      </a:lnTo>
                      <a:lnTo>
                        <a:pt x="820" y="19"/>
                      </a:lnTo>
                      <a:lnTo>
                        <a:pt x="802" y="116"/>
                      </a:lnTo>
                      <a:lnTo>
                        <a:pt x="766" y="200"/>
                      </a:lnTo>
                      <a:lnTo>
                        <a:pt x="705" y="353"/>
                      </a:lnTo>
                      <a:lnTo>
                        <a:pt x="588" y="617"/>
                      </a:lnTo>
                      <a:lnTo>
                        <a:pt x="488" y="846"/>
                      </a:lnTo>
                      <a:lnTo>
                        <a:pt x="461" y="932"/>
                      </a:lnTo>
                      <a:lnTo>
                        <a:pt x="446" y="991"/>
                      </a:lnTo>
                      <a:lnTo>
                        <a:pt x="429" y="1024"/>
                      </a:lnTo>
                      <a:lnTo>
                        <a:pt x="414" y="1048"/>
                      </a:lnTo>
                      <a:lnTo>
                        <a:pt x="404" y="1059"/>
                      </a:lnTo>
                      <a:lnTo>
                        <a:pt x="395" y="1066"/>
                      </a:lnTo>
                      <a:lnTo>
                        <a:pt x="381" y="1067"/>
                      </a:lnTo>
                      <a:lnTo>
                        <a:pt x="367" y="1063"/>
                      </a:lnTo>
                      <a:lnTo>
                        <a:pt x="344" y="1050"/>
                      </a:lnTo>
                      <a:lnTo>
                        <a:pt x="319" y="1032"/>
                      </a:lnTo>
                      <a:lnTo>
                        <a:pt x="296" y="1011"/>
                      </a:lnTo>
                      <a:lnTo>
                        <a:pt x="268" y="991"/>
                      </a:lnTo>
                      <a:lnTo>
                        <a:pt x="242" y="971"/>
                      </a:lnTo>
                      <a:lnTo>
                        <a:pt x="11" y="877"/>
                      </a:lnTo>
                      <a:lnTo>
                        <a:pt x="4" y="871"/>
                      </a:lnTo>
                      <a:lnTo>
                        <a:pt x="0" y="862"/>
                      </a:lnTo>
                      <a:lnTo>
                        <a:pt x="2" y="849"/>
                      </a:lnTo>
                      <a:lnTo>
                        <a:pt x="6" y="838"/>
                      </a:lnTo>
                      <a:lnTo>
                        <a:pt x="187" y="319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14"/>
              <p:cNvGrpSpPr/>
              <p:nvPr/>
            </p:nvGrpSpPr>
            <p:grpSpPr>
              <a:xfrm>
                <a:off x="6801120" y="5736600"/>
                <a:ext cx="121320" cy="327240"/>
                <a:chOff x="6801120" y="5736600"/>
                <a:chExt cx="121320" cy="327240"/>
              </a:xfrm>
            </p:grpSpPr>
            <p:sp>
              <p:nvSpPr>
                <p:cNvPr id="334" name="Freeform 15"/>
                <p:cNvSpPr/>
                <p:nvPr/>
              </p:nvSpPr>
              <p:spPr>
                <a:xfrm flipH="1">
                  <a:off x="6800760" y="5748120"/>
                  <a:ext cx="111240" cy="315720"/>
                </a:xfrm>
                <a:custGeom>
                  <a:avLst/>
                  <a:gdLst>
                    <a:gd name="textAreaLeft" fmla="*/ -360 w 111240"/>
                    <a:gd name="textAreaRight" fmla="*/ 111240 w 11124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201" h="582">
                      <a:moveTo>
                        <a:pt x="0" y="0"/>
                      </a:moveTo>
                      <a:lnTo>
                        <a:pt x="7" y="38"/>
                      </a:lnTo>
                      <a:lnTo>
                        <a:pt x="17" y="67"/>
                      </a:lnTo>
                      <a:lnTo>
                        <a:pt x="33" y="94"/>
                      </a:lnTo>
                      <a:lnTo>
                        <a:pt x="60" y="111"/>
                      </a:lnTo>
                      <a:lnTo>
                        <a:pt x="93" y="123"/>
                      </a:lnTo>
                      <a:lnTo>
                        <a:pt x="119" y="146"/>
                      </a:lnTo>
                      <a:lnTo>
                        <a:pt x="140" y="174"/>
                      </a:lnTo>
                      <a:lnTo>
                        <a:pt x="162" y="221"/>
                      </a:lnTo>
                      <a:lnTo>
                        <a:pt x="169" y="261"/>
                      </a:lnTo>
                      <a:lnTo>
                        <a:pt x="163" y="291"/>
                      </a:lnTo>
                      <a:lnTo>
                        <a:pt x="140" y="319"/>
                      </a:lnTo>
                      <a:lnTo>
                        <a:pt x="120" y="345"/>
                      </a:lnTo>
                      <a:lnTo>
                        <a:pt x="106" y="371"/>
                      </a:lnTo>
                      <a:lnTo>
                        <a:pt x="96" y="406"/>
                      </a:lnTo>
                      <a:lnTo>
                        <a:pt x="91" y="445"/>
                      </a:lnTo>
                      <a:lnTo>
                        <a:pt x="101" y="481"/>
                      </a:lnTo>
                      <a:lnTo>
                        <a:pt x="115" y="505"/>
                      </a:lnTo>
                      <a:lnTo>
                        <a:pt x="145" y="537"/>
                      </a:lnTo>
                      <a:lnTo>
                        <a:pt x="169" y="558"/>
                      </a:lnTo>
                      <a:lnTo>
                        <a:pt x="201" y="582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Oval 16"/>
                <p:cNvSpPr/>
                <p:nvPr/>
              </p:nvSpPr>
              <p:spPr>
                <a:xfrm flipH="1">
                  <a:off x="6902280" y="5736600"/>
                  <a:ext cx="19800" cy="19440"/>
                </a:xfrm>
                <a:prstGeom prst="ellipse">
                  <a:avLst/>
                </a:prstGeom>
                <a:solidFill>
                  <a:srgbClr val="000000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6" name="Group 17"/>
            <p:cNvGrpSpPr/>
            <p:nvPr/>
          </p:nvGrpSpPr>
          <p:grpSpPr>
            <a:xfrm>
              <a:off x="7417800" y="4876920"/>
              <a:ext cx="878400" cy="1441080"/>
              <a:chOff x="7417800" y="4876920"/>
              <a:chExt cx="878400" cy="1441080"/>
            </a:xfrm>
          </p:grpSpPr>
          <p:sp>
            <p:nvSpPr>
              <p:cNvPr id="337" name="Freeform 18"/>
              <p:cNvSpPr/>
              <p:nvPr/>
            </p:nvSpPr>
            <p:spPr>
              <a:xfrm flipH="1">
                <a:off x="7785720" y="5528520"/>
                <a:ext cx="510120" cy="789480"/>
              </a:xfrm>
              <a:custGeom>
                <a:avLst/>
                <a:gdLst>
                  <a:gd name="textAreaLeft" fmla="*/ -360 w 510120"/>
                  <a:gd name="textAreaRight" fmla="*/ 510120 w 510120"/>
                  <a:gd name="textAreaTop" fmla="*/ 0 h 789480"/>
                  <a:gd name="textAreaBottom" fmla="*/ 789840 h 789480"/>
                </a:gdLst>
                <a:ahLst/>
                <a:rect l="textAreaLeft" t="textAreaTop" r="textAreaRight" b="textAreaBottom"/>
                <a:pathLst>
                  <a:path w="915" h="1456">
                    <a:moveTo>
                      <a:pt x="915" y="685"/>
                    </a:moveTo>
                    <a:lnTo>
                      <a:pt x="654" y="538"/>
                    </a:lnTo>
                    <a:lnTo>
                      <a:pt x="367" y="28"/>
                    </a:lnTo>
                    <a:lnTo>
                      <a:pt x="354" y="19"/>
                    </a:lnTo>
                    <a:lnTo>
                      <a:pt x="334" y="9"/>
                    </a:lnTo>
                    <a:lnTo>
                      <a:pt x="311" y="4"/>
                    </a:lnTo>
                    <a:lnTo>
                      <a:pt x="281" y="0"/>
                    </a:lnTo>
                    <a:lnTo>
                      <a:pt x="253" y="4"/>
                    </a:lnTo>
                    <a:lnTo>
                      <a:pt x="226" y="14"/>
                    </a:lnTo>
                    <a:lnTo>
                      <a:pt x="195" y="28"/>
                    </a:lnTo>
                    <a:lnTo>
                      <a:pt x="156" y="48"/>
                    </a:lnTo>
                    <a:lnTo>
                      <a:pt x="123" y="70"/>
                    </a:lnTo>
                    <a:lnTo>
                      <a:pt x="95" y="90"/>
                    </a:lnTo>
                    <a:lnTo>
                      <a:pt x="73" y="111"/>
                    </a:lnTo>
                    <a:lnTo>
                      <a:pt x="53" y="135"/>
                    </a:lnTo>
                    <a:lnTo>
                      <a:pt x="29" y="170"/>
                    </a:lnTo>
                    <a:lnTo>
                      <a:pt x="15" y="197"/>
                    </a:lnTo>
                    <a:lnTo>
                      <a:pt x="2" y="234"/>
                    </a:lnTo>
                    <a:lnTo>
                      <a:pt x="0" y="276"/>
                    </a:lnTo>
                    <a:lnTo>
                      <a:pt x="0" y="338"/>
                    </a:lnTo>
                    <a:lnTo>
                      <a:pt x="7" y="411"/>
                    </a:lnTo>
                    <a:lnTo>
                      <a:pt x="21" y="478"/>
                    </a:lnTo>
                    <a:lnTo>
                      <a:pt x="45" y="560"/>
                    </a:lnTo>
                    <a:lnTo>
                      <a:pt x="71" y="628"/>
                    </a:lnTo>
                    <a:lnTo>
                      <a:pt x="92" y="674"/>
                    </a:lnTo>
                    <a:lnTo>
                      <a:pt x="124" y="722"/>
                    </a:lnTo>
                    <a:lnTo>
                      <a:pt x="148" y="755"/>
                    </a:lnTo>
                    <a:lnTo>
                      <a:pt x="175" y="793"/>
                    </a:lnTo>
                    <a:lnTo>
                      <a:pt x="207" y="833"/>
                    </a:lnTo>
                    <a:lnTo>
                      <a:pt x="236" y="856"/>
                    </a:lnTo>
                    <a:lnTo>
                      <a:pt x="357" y="842"/>
                    </a:lnTo>
                    <a:lnTo>
                      <a:pt x="448" y="811"/>
                    </a:lnTo>
                    <a:lnTo>
                      <a:pt x="506" y="828"/>
                    </a:lnTo>
                    <a:lnTo>
                      <a:pt x="640" y="834"/>
                    </a:lnTo>
                    <a:lnTo>
                      <a:pt x="805" y="811"/>
                    </a:lnTo>
                    <a:lnTo>
                      <a:pt x="830" y="865"/>
                    </a:lnTo>
                    <a:lnTo>
                      <a:pt x="830" y="1249"/>
                    </a:lnTo>
                    <a:lnTo>
                      <a:pt x="826" y="1284"/>
                    </a:lnTo>
                    <a:lnTo>
                      <a:pt x="819" y="1307"/>
                    </a:lnTo>
                    <a:lnTo>
                      <a:pt x="809" y="1331"/>
                    </a:lnTo>
                    <a:lnTo>
                      <a:pt x="794" y="1349"/>
                    </a:lnTo>
                    <a:lnTo>
                      <a:pt x="776" y="1366"/>
                    </a:lnTo>
                    <a:lnTo>
                      <a:pt x="756" y="1377"/>
                    </a:lnTo>
                    <a:lnTo>
                      <a:pt x="738" y="1382"/>
                    </a:lnTo>
                    <a:lnTo>
                      <a:pt x="715" y="1386"/>
                    </a:lnTo>
                    <a:lnTo>
                      <a:pt x="95" y="1385"/>
                    </a:lnTo>
                    <a:lnTo>
                      <a:pt x="95" y="1456"/>
                    </a:lnTo>
                    <a:lnTo>
                      <a:pt x="732" y="1453"/>
                    </a:lnTo>
                    <a:lnTo>
                      <a:pt x="765" y="1452"/>
                    </a:lnTo>
                    <a:lnTo>
                      <a:pt x="786" y="1448"/>
                    </a:lnTo>
                    <a:lnTo>
                      <a:pt x="811" y="1442"/>
                    </a:lnTo>
                    <a:lnTo>
                      <a:pt x="831" y="1433"/>
                    </a:lnTo>
                    <a:lnTo>
                      <a:pt x="851" y="1417"/>
                    </a:lnTo>
                    <a:lnTo>
                      <a:pt x="872" y="1390"/>
                    </a:lnTo>
                    <a:lnTo>
                      <a:pt x="886" y="1366"/>
                    </a:lnTo>
                    <a:lnTo>
                      <a:pt x="898" y="1340"/>
                    </a:lnTo>
                    <a:lnTo>
                      <a:pt x="906" y="1311"/>
                    </a:lnTo>
                    <a:lnTo>
                      <a:pt x="912" y="1278"/>
                    </a:lnTo>
                    <a:lnTo>
                      <a:pt x="915" y="1240"/>
                    </a:lnTo>
                    <a:lnTo>
                      <a:pt x="915" y="685"/>
                    </a:lnTo>
                    <a:close/>
                  </a:path>
                </a:pathLst>
              </a:custGeom>
              <a:solidFill>
                <a:srgbClr val="000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" name="Group 19"/>
              <p:cNvGrpSpPr/>
              <p:nvPr/>
            </p:nvGrpSpPr>
            <p:grpSpPr>
              <a:xfrm>
                <a:off x="7417800" y="4876920"/>
                <a:ext cx="776160" cy="1432440"/>
                <a:chOff x="7417800" y="4876920"/>
                <a:chExt cx="776160" cy="1432440"/>
              </a:xfrm>
            </p:grpSpPr>
            <p:sp>
              <p:nvSpPr>
                <p:cNvPr id="339" name="Freeform 20"/>
                <p:cNvSpPr/>
                <p:nvPr/>
              </p:nvSpPr>
              <p:spPr>
                <a:xfrm flipH="1">
                  <a:off x="7417800" y="4876920"/>
                  <a:ext cx="776160" cy="1432440"/>
                </a:xfrm>
                <a:custGeom>
                  <a:avLst/>
                  <a:gdLst>
                    <a:gd name="textAreaLeft" fmla="*/ 360 w 776160"/>
                    <a:gd name="textAreaRight" fmla="*/ 776880 w 776160"/>
                    <a:gd name="textAreaTop" fmla="*/ 0 h 1432440"/>
                    <a:gd name="textAreaBottom" fmla="*/ 1432800 h 1432440"/>
                  </a:gdLst>
                  <a:ahLst/>
                  <a:rect l="textAreaLeft" t="textAreaTop" r="textAreaRight" b="textAreaBottom"/>
                  <a:pathLst>
                    <a:path w="1393" h="2638">
                      <a:moveTo>
                        <a:pt x="477" y="565"/>
                      </a:moveTo>
                      <a:lnTo>
                        <a:pt x="513" y="445"/>
                      </a:lnTo>
                      <a:lnTo>
                        <a:pt x="545" y="304"/>
                      </a:lnTo>
                      <a:lnTo>
                        <a:pt x="560" y="182"/>
                      </a:lnTo>
                      <a:lnTo>
                        <a:pt x="529" y="113"/>
                      </a:lnTo>
                      <a:lnTo>
                        <a:pt x="497" y="80"/>
                      </a:lnTo>
                      <a:lnTo>
                        <a:pt x="545" y="118"/>
                      </a:lnTo>
                      <a:lnTo>
                        <a:pt x="582" y="178"/>
                      </a:lnTo>
                      <a:lnTo>
                        <a:pt x="553" y="42"/>
                      </a:lnTo>
                      <a:lnTo>
                        <a:pt x="578" y="107"/>
                      </a:lnTo>
                      <a:lnTo>
                        <a:pt x="632" y="191"/>
                      </a:lnTo>
                      <a:lnTo>
                        <a:pt x="656" y="201"/>
                      </a:lnTo>
                      <a:lnTo>
                        <a:pt x="639" y="128"/>
                      </a:lnTo>
                      <a:lnTo>
                        <a:pt x="652" y="137"/>
                      </a:lnTo>
                      <a:lnTo>
                        <a:pt x="658" y="76"/>
                      </a:lnTo>
                      <a:lnTo>
                        <a:pt x="641" y="11"/>
                      </a:lnTo>
                      <a:lnTo>
                        <a:pt x="724" y="183"/>
                      </a:lnTo>
                      <a:lnTo>
                        <a:pt x="731" y="155"/>
                      </a:lnTo>
                      <a:lnTo>
                        <a:pt x="742" y="175"/>
                      </a:lnTo>
                      <a:lnTo>
                        <a:pt x="746" y="149"/>
                      </a:lnTo>
                      <a:lnTo>
                        <a:pt x="728" y="106"/>
                      </a:lnTo>
                      <a:lnTo>
                        <a:pt x="732" y="23"/>
                      </a:lnTo>
                      <a:lnTo>
                        <a:pt x="761" y="183"/>
                      </a:lnTo>
                      <a:lnTo>
                        <a:pt x="777" y="38"/>
                      </a:lnTo>
                      <a:lnTo>
                        <a:pt x="777" y="151"/>
                      </a:lnTo>
                      <a:lnTo>
                        <a:pt x="792" y="179"/>
                      </a:lnTo>
                      <a:lnTo>
                        <a:pt x="816" y="52"/>
                      </a:lnTo>
                      <a:lnTo>
                        <a:pt x="869" y="0"/>
                      </a:lnTo>
                      <a:lnTo>
                        <a:pt x="834" y="52"/>
                      </a:lnTo>
                      <a:lnTo>
                        <a:pt x="812" y="153"/>
                      </a:lnTo>
                      <a:lnTo>
                        <a:pt x="820" y="170"/>
                      </a:lnTo>
                      <a:lnTo>
                        <a:pt x="857" y="99"/>
                      </a:lnTo>
                      <a:lnTo>
                        <a:pt x="831" y="160"/>
                      </a:lnTo>
                      <a:lnTo>
                        <a:pt x="831" y="187"/>
                      </a:lnTo>
                      <a:lnTo>
                        <a:pt x="910" y="38"/>
                      </a:lnTo>
                      <a:lnTo>
                        <a:pt x="911" y="64"/>
                      </a:lnTo>
                      <a:lnTo>
                        <a:pt x="876" y="149"/>
                      </a:lnTo>
                      <a:lnTo>
                        <a:pt x="876" y="201"/>
                      </a:lnTo>
                      <a:lnTo>
                        <a:pt x="888" y="209"/>
                      </a:lnTo>
                      <a:lnTo>
                        <a:pt x="906" y="114"/>
                      </a:lnTo>
                      <a:lnTo>
                        <a:pt x="941" y="50"/>
                      </a:lnTo>
                      <a:lnTo>
                        <a:pt x="911" y="122"/>
                      </a:lnTo>
                      <a:lnTo>
                        <a:pt x="919" y="220"/>
                      </a:lnTo>
                      <a:lnTo>
                        <a:pt x="938" y="214"/>
                      </a:lnTo>
                      <a:lnTo>
                        <a:pt x="975" y="86"/>
                      </a:lnTo>
                      <a:lnTo>
                        <a:pt x="948" y="224"/>
                      </a:lnTo>
                      <a:lnTo>
                        <a:pt x="1009" y="113"/>
                      </a:lnTo>
                      <a:lnTo>
                        <a:pt x="1059" y="76"/>
                      </a:lnTo>
                      <a:lnTo>
                        <a:pt x="1018" y="130"/>
                      </a:lnTo>
                      <a:lnTo>
                        <a:pt x="990" y="187"/>
                      </a:lnTo>
                      <a:lnTo>
                        <a:pt x="1037" y="168"/>
                      </a:lnTo>
                      <a:lnTo>
                        <a:pt x="979" y="210"/>
                      </a:lnTo>
                      <a:lnTo>
                        <a:pt x="968" y="254"/>
                      </a:lnTo>
                      <a:lnTo>
                        <a:pt x="988" y="262"/>
                      </a:lnTo>
                      <a:lnTo>
                        <a:pt x="1045" y="172"/>
                      </a:lnTo>
                      <a:lnTo>
                        <a:pt x="1116" y="118"/>
                      </a:lnTo>
                      <a:lnTo>
                        <a:pt x="1022" y="239"/>
                      </a:lnTo>
                      <a:lnTo>
                        <a:pt x="1068" y="201"/>
                      </a:lnTo>
                      <a:lnTo>
                        <a:pt x="1307" y="163"/>
                      </a:lnTo>
                      <a:lnTo>
                        <a:pt x="1055" y="221"/>
                      </a:lnTo>
                      <a:lnTo>
                        <a:pt x="1029" y="263"/>
                      </a:lnTo>
                      <a:lnTo>
                        <a:pt x="1055" y="256"/>
                      </a:lnTo>
                      <a:lnTo>
                        <a:pt x="1127" y="217"/>
                      </a:lnTo>
                      <a:lnTo>
                        <a:pt x="1070" y="275"/>
                      </a:lnTo>
                      <a:lnTo>
                        <a:pt x="1024" y="301"/>
                      </a:lnTo>
                      <a:lnTo>
                        <a:pt x="1024" y="336"/>
                      </a:lnTo>
                      <a:lnTo>
                        <a:pt x="1037" y="362"/>
                      </a:lnTo>
                      <a:lnTo>
                        <a:pt x="1063" y="392"/>
                      </a:lnTo>
                      <a:lnTo>
                        <a:pt x="1093" y="434"/>
                      </a:lnTo>
                      <a:lnTo>
                        <a:pt x="1120" y="469"/>
                      </a:lnTo>
                      <a:lnTo>
                        <a:pt x="1146" y="506"/>
                      </a:lnTo>
                      <a:lnTo>
                        <a:pt x="1171" y="542"/>
                      </a:lnTo>
                      <a:lnTo>
                        <a:pt x="1187" y="570"/>
                      </a:lnTo>
                      <a:lnTo>
                        <a:pt x="1215" y="618"/>
                      </a:lnTo>
                      <a:lnTo>
                        <a:pt x="1244" y="674"/>
                      </a:lnTo>
                      <a:lnTo>
                        <a:pt x="1266" y="722"/>
                      </a:lnTo>
                      <a:lnTo>
                        <a:pt x="1265" y="732"/>
                      </a:lnTo>
                      <a:lnTo>
                        <a:pt x="1260" y="744"/>
                      </a:lnTo>
                      <a:lnTo>
                        <a:pt x="1252" y="751"/>
                      </a:lnTo>
                      <a:lnTo>
                        <a:pt x="1240" y="755"/>
                      </a:lnTo>
                      <a:lnTo>
                        <a:pt x="1224" y="758"/>
                      </a:lnTo>
                      <a:lnTo>
                        <a:pt x="1051" y="743"/>
                      </a:lnTo>
                      <a:lnTo>
                        <a:pt x="1038" y="778"/>
                      </a:lnTo>
                      <a:lnTo>
                        <a:pt x="1014" y="900"/>
                      </a:lnTo>
                      <a:lnTo>
                        <a:pt x="998" y="987"/>
                      </a:lnTo>
                      <a:lnTo>
                        <a:pt x="976" y="1058"/>
                      </a:lnTo>
                      <a:lnTo>
                        <a:pt x="965" y="1064"/>
                      </a:lnTo>
                      <a:lnTo>
                        <a:pt x="949" y="1068"/>
                      </a:lnTo>
                      <a:lnTo>
                        <a:pt x="933" y="1071"/>
                      </a:lnTo>
                      <a:lnTo>
                        <a:pt x="876" y="1069"/>
                      </a:lnTo>
                      <a:lnTo>
                        <a:pt x="740" y="1013"/>
                      </a:lnTo>
                      <a:lnTo>
                        <a:pt x="727" y="1036"/>
                      </a:lnTo>
                      <a:lnTo>
                        <a:pt x="705" y="1123"/>
                      </a:lnTo>
                      <a:lnTo>
                        <a:pt x="689" y="1190"/>
                      </a:lnTo>
                      <a:lnTo>
                        <a:pt x="669" y="1280"/>
                      </a:lnTo>
                      <a:lnTo>
                        <a:pt x="663" y="1340"/>
                      </a:lnTo>
                      <a:lnTo>
                        <a:pt x="693" y="1380"/>
                      </a:lnTo>
                      <a:lnTo>
                        <a:pt x="730" y="1428"/>
                      </a:lnTo>
                      <a:lnTo>
                        <a:pt x="775" y="1493"/>
                      </a:lnTo>
                      <a:lnTo>
                        <a:pt x="844" y="1509"/>
                      </a:lnTo>
                      <a:lnTo>
                        <a:pt x="897" y="1521"/>
                      </a:lnTo>
                      <a:lnTo>
                        <a:pt x="974" y="1535"/>
                      </a:lnTo>
                      <a:lnTo>
                        <a:pt x="1017" y="1542"/>
                      </a:lnTo>
                      <a:lnTo>
                        <a:pt x="1055" y="1545"/>
                      </a:lnTo>
                      <a:lnTo>
                        <a:pt x="1085" y="1549"/>
                      </a:lnTo>
                      <a:lnTo>
                        <a:pt x="1112" y="1549"/>
                      </a:lnTo>
                      <a:lnTo>
                        <a:pt x="1146" y="1545"/>
                      </a:lnTo>
                      <a:lnTo>
                        <a:pt x="1193" y="1542"/>
                      </a:lnTo>
                      <a:lnTo>
                        <a:pt x="1247" y="1513"/>
                      </a:lnTo>
                      <a:lnTo>
                        <a:pt x="1262" y="1507"/>
                      </a:lnTo>
                      <a:lnTo>
                        <a:pt x="1276" y="1508"/>
                      </a:lnTo>
                      <a:lnTo>
                        <a:pt x="1287" y="1514"/>
                      </a:lnTo>
                      <a:lnTo>
                        <a:pt x="1301" y="1530"/>
                      </a:lnTo>
                      <a:lnTo>
                        <a:pt x="1307" y="1541"/>
                      </a:lnTo>
                      <a:lnTo>
                        <a:pt x="1310" y="1561"/>
                      </a:lnTo>
                      <a:lnTo>
                        <a:pt x="1313" y="1584"/>
                      </a:lnTo>
                      <a:lnTo>
                        <a:pt x="1329" y="1592"/>
                      </a:lnTo>
                      <a:lnTo>
                        <a:pt x="1354" y="1606"/>
                      </a:lnTo>
                      <a:lnTo>
                        <a:pt x="1371" y="1619"/>
                      </a:lnTo>
                      <a:lnTo>
                        <a:pt x="1393" y="1636"/>
                      </a:lnTo>
                      <a:lnTo>
                        <a:pt x="1390" y="1649"/>
                      </a:lnTo>
                      <a:lnTo>
                        <a:pt x="1385" y="1667"/>
                      </a:lnTo>
                      <a:lnTo>
                        <a:pt x="1375" y="1678"/>
                      </a:lnTo>
                      <a:lnTo>
                        <a:pt x="1361" y="1690"/>
                      </a:lnTo>
                      <a:lnTo>
                        <a:pt x="1368" y="1701"/>
                      </a:lnTo>
                      <a:lnTo>
                        <a:pt x="1374" y="1717"/>
                      </a:lnTo>
                      <a:lnTo>
                        <a:pt x="1380" y="1737"/>
                      </a:lnTo>
                      <a:lnTo>
                        <a:pt x="1379" y="1752"/>
                      </a:lnTo>
                      <a:lnTo>
                        <a:pt x="1374" y="1771"/>
                      </a:lnTo>
                      <a:lnTo>
                        <a:pt x="1361" y="1781"/>
                      </a:lnTo>
                      <a:lnTo>
                        <a:pt x="1333" y="1799"/>
                      </a:lnTo>
                      <a:lnTo>
                        <a:pt x="1337" y="1825"/>
                      </a:lnTo>
                      <a:lnTo>
                        <a:pt x="1337" y="1840"/>
                      </a:lnTo>
                      <a:lnTo>
                        <a:pt x="1333" y="1850"/>
                      </a:lnTo>
                      <a:lnTo>
                        <a:pt x="1327" y="1858"/>
                      </a:lnTo>
                      <a:lnTo>
                        <a:pt x="1315" y="1863"/>
                      </a:lnTo>
                      <a:lnTo>
                        <a:pt x="1304" y="1860"/>
                      </a:lnTo>
                      <a:lnTo>
                        <a:pt x="1281" y="1851"/>
                      </a:lnTo>
                      <a:lnTo>
                        <a:pt x="1221" y="1828"/>
                      </a:lnTo>
                      <a:lnTo>
                        <a:pt x="1148" y="1799"/>
                      </a:lnTo>
                      <a:lnTo>
                        <a:pt x="1045" y="1770"/>
                      </a:lnTo>
                      <a:lnTo>
                        <a:pt x="1028" y="1770"/>
                      </a:lnTo>
                      <a:lnTo>
                        <a:pt x="968" y="1755"/>
                      </a:lnTo>
                      <a:lnTo>
                        <a:pt x="850" y="1723"/>
                      </a:lnTo>
                      <a:lnTo>
                        <a:pt x="752" y="1710"/>
                      </a:lnTo>
                      <a:lnTo>
                        <a:pt x="730" y="1713"/>
                      </a:lnTo>
                      <a:lnTo>
                        <a:pt x="679" y="1717"/>
                      </a:lnTo>
                      <a:lnTo>
                        <a:pt x="653" y="1694"/>
                      </a:lnTo>
                      <a:lnTo>
                        <a:pt x="635" y="1678"/>
                      </a:lnTo>
                      <a:lnTo>
                        <a:pt x="624" y="1666"/>
                      </a:lnTo>
                      <a:lnTo>
                        <a:pt x="616" y="1649"/>
                      </a:lnTo>
                      <a:lnTo>
                        <a:pt x="605" y="1629"/>
                      </a:lnTo>
                      <a:lnTo>
                        <a:pt x="547" y="1549"/>
                      </a:lnTo>
                      <a:lnTo>
                        <a:pt x="600" y="1620"/>
                      </a:lnTo>
                      <a:lnTo>
                        <a:pt x="619" y="1648"/>
                      </a:lnTo>
                      <a:lnTo>
                        <a:pt x="627" y="1671"/>
                      </a:lnTo>
                      <a:lnTo>
                        <a:pt x="675" y="1713"/>
                      </a:lnTo>
                      <a:lnTo>
                        <a:pt x="699" y="1718"/>
                      </a:lnTo>
                      <a:lnTo>
                        <a:pt x="732" y="1711"/>
                      </a:lnTo>
                      <a:lnTo>
                        <a:pt x="755" y="1713"/>
                      </a:lnTo>
                      <a:lnTo>
                        <a:pt x="797" y="1729"/>
                      </a:lnTo>
                      <a:lnTo>
                        <a:pt x="820" y="1748"/>
                      </a:lnTo>
                      <a:lnTo>
                        <a:pt x="841" y="1766"/>
                      </a:lnTo>
                      <a:lnTo>
                        <a:pt x="863" y="1793"/>
                      </a:lnTo>
                      <a:lnTo>
                        <a:pt x="872" y="1809"/>
                      </a:lnTo>
                      <a:lnTo>
                        <a:pt x="869" y="1826"/>
                      </a:lnTo>
                      <a:lnTo>
                        <a:pt x="855" y="1849"/>
                      </a:lnTo>
                      <a:lnTo>
                        <a:pt x="838" y="1874"/>
                      </a:lnTo>
                      <a:lnTo>
                        <a:pt x="802" y="1912"/>
                      </a:lnTo>
                      <a:lnTo>
                        <a:pt x="750" y="1965"/>
                      </a:lnTo>
                      <a:lnTo>
                        <a:pt x="716" y="2003"/>
                      </a:lnTo>
                      <a:lnTo>
                        <a:pt x="643" y="2048"/>
                      </a:lnTo>
                      <a:lnTo>
                        <a:pt x="536" y="2111"/>
                      </a:lnTo>
                      <a:lnTo>
                        <a:pt x="461" y="2150"/>
                      </a:lnTo>
                      <a:lnTo>
                        <a:pt x="442" y="2172"/>
                      </a:lnTo>
                      <a:lnTo>
                        <a:pt x="421" y="2195"/>
                      </a:lnTo>
                      <a:lnTo>
                        <a:pt x="381" y="2225"/>
                      </a:lnTo>
                      <a:lnTo>
                        <a:pt x="372" y="2268"/>
                      </a:lnTo>
                      <a:lnTo>
                        <a:pt x="372" y="2350"/>
                      </a:lnTo>
                      <a:lnTo>
                        <a:pt x="380" y="2417"/>
                      </a:lnTo>
                      <a:lnTo>
                        <a:pt x="393" y="2463"/>
                      </a:lnTo>
                      <a:lnTo>
                        <a:pt x="460" y="2551"/>
                      </a:lnTo>
                      <a:lnTo>
                        <a:pt x="501" y="2589"/>
                      </a:lnTo>
                      <a:lnTo>
                        <a:pt x="505" y="2600"/>
                      </a:lnTo>
                      <a:lnTo>
                        <a:pt x="502" y="2613"/>
                      </a:lnTo>
                      <a:lnTo>
                        <a:pt x="427" y="2638"/>
                      </a:lnTo>
                      <a:lnTo>
                        <a:pt x="346" y="2628"/>
                      </a:lnTo>
                      <a:lnTo>
                        <a:pt x="302" y="2626"/>
                      </a:lnTo>
                      <a:lnTo>
                        <a:pt x="261" y="2632"/>
                      </a:lnTo>
                      <a:lnTo>
                        <a:pt x="220" y="2632"/>
                      </a:lnTo>
                      <a:lnTo>
                        <a:pt x="178" y="2624"/>
                      </a:lnTo>
                      <a:lnTo>
                        <a:pt x="173" y="2618"/>
                      </a:lnTo>
                      <a:lnTo>
                        <a:pt x="166" y="2605"/>
                      </a:lnTo>
                      <a:lnTo>
                        <a:pt x="172" y="2467"/>
                      </a:lnTo>
                      <a:lnTo>
                        <a:pt x="192" y="2327"/>
                      </a:lnTo>
                      <a:lnTo>
                        <a:pt x="175" y="2282"/>
                      </a:lnTo>
                      <a:lnTo>
                        <a:pt x="147" y="2240"/>
                      </a:lnTo>
                      <a:lnTo>
                        <a:pt x="136" y="2229"/>
                      </a:lnTo>
                      <a:lnTo>
                        <a:pt x="113" y="2207"/>
                      </a:lnTo>
                      <a:lnTo>
                        <a:pt x="98" y="2195"/>
                      </a:lnTo>
                      <a:lnTo>
                        <a:pt x="95" y="2179"/>
                      </a:lnTo>
                      <a:lnTo>
                        <a:pt x="98" y="2167"/>
                      </a:lnTo>
                      <a:lnTo>
                        <a:pt x="118" y="2141"/>
                      </a:lnTo>
                      <a:lnTo>
                        <a:pt x="147" y="2115"/>
                      </a:lnTo>
                      <a:lnTo>
                        <a:pt x="173" y="2095"/>
                      </a:lnTo>
                      <a:lnTo>
                        <a:pt x="208" y="2094"/>
                      </a:lnTo>
                      <a:lnTo>
                        <a:pt x="240" y="2097"/>
                      </a:lnTo>
                      <a:lnTo>
                        <a:pt x="379" y="2005"/>
                      </a:lnTo>
                      <a:lnTo>
                        <a:pt x="484" y="1937"/>
                      </a:lnTo>
                      <a:lnTo>
                        <a:pt x="580" y="1881"/>
                      </a:lnTo>
                      <a:lnTo>
                        <a:pt x="549" y="1886"/>
                      </a:lnTo>
                      <a:lnTo>
                        <a:pt x="456" y="1859"/>
                      </a:lnTo>
                      <a:lnTo>
                        <a:pt x="362" y="1853"/>
                      </a:lnTo>
                      <a:lnTo>
                        <a:pt x="233" y="1832"/>
                      </a:lnTo>
                      <a:lnTo>
                        <a:pt x="192" y="1840"/>
                      </a:lnTo>
                      <a:lnTo>
                        <a:pt x="97" y="1828"/>
                      </a:lnTo>
                      <a:lnTo>
                        <a:pt x="75" y="1823"/>
                      </a:lnTo>
                      <a:lnTo>
                        <a:pt x="52" y="1814"/>
                      </a:lnTo>
                      <a:lnTo>
                        <a:pt x="34" y="1803"/>
                      </a:lnTo>
                      <a:lnTo>
                        <a:pt x="23" y="1789"/>
                      </a:lnTo>
                      <a:lnTo>
                        <a:pt x="13" y="1765"/>
                      </a:lnTo>
                      <a:lnTo>
                        <a:pt x="5" y="1732"/>
                      </a:lnTo>
                      <a:lnTo>
                        <a:pt x="1" y="1701"/>
                      </a:lnTo>
                      <a:lnTo>
                        <a:pt x="0" y="1659"/>
                      </a:lnTo>
                      <a:lnTo>
                        <a:pt x="3" y="1625"/>
                      </a:lnTo>
                      <a:lnTo>
                        <a:pt x="6" y="1587"/>
                      </a:lnTo>
                      <a:lnTo>
                        <a:pt x="11" y="1554"/>
                      </a:lnTo>
                      <a:lnTo>
                        <a:pt x="22" y="1528"/>
                      </a:lnTo>
                      <a:lnTo>
                        <a:pt x="55" y="1430"/>
                      </a:lnTo>
                      <a:lnTo>
                        <a:pt x="92" y="1312"/>
                      </a:lnTo>
                      <a:lnTo>
                        <a:pt x="118" y="1233"/>
                      </a:lnTo>
                      <a:lnTo>
                        <a:pt x="187" y="1101"/>
                      </a:lnTo>
                      <a:lnTo>
                        <a:pt x="255" y="997"/>
                      </a:lnTo>
                      <a:lnTo>
                        <a:pt x="314" y="918"/>
                      </a:lnTo>
                      <a:lnTo>
                        <a:pt x="352" y="866"/>
                      </a:lnTo>
                      <a:lnTo>
                        <a:pt x="380" y="819"/>
                      </a:lnTo>
                      <a:lnTo>
                        <a:pt x="413" y="778"/>
                      </a:lnTo>
                      <a:lnTo>
                        <a:pt x="421" y="717"/>
                      </a:lnTo>
                      <a:lnTo>
                        <a:pt x="454" y="636"/>
                      </a:lnTo>
                      <a:lnTo>
                        <a:pt x="477" y="565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Group 21"/>
                <p:cNvGrpSpPr/>
                <p:nvPr/>
              </p:nvGrpSpPr>
              <p:grpSpPr>
                <a:xfrm>
                  <a:off x="7641000" y="5052960"/>
                  <a:ext cx="99000" cy="129600"/>
                  <a:chOff x="7641000" y="5052960"/>
                  <a:chExt cx="99000" cy="129600"/>
                </a:xfrm>
              </p:grpSpPr>
              <p:sp>
                <p:nvSpPr>
                  <p:cNvPr id="341" name="Freeform 22"/>
                  <p:cNvSpPr/>
                  <p:nvPr/>
                </p:nvSpPr>
                <p:spPr>
                  <a:xfrm flipH="1">
                    <a:off x="7640640" y="5052960"/>
                    <a:ext cx="99000" cy="46440"/>
                  </a:xfrm>
                  <a:custGeom>
                    <a:avLst/>
                    <a:gdLst>
                      <a:gd name="textAreaLeft" fmla="*/ -360 w 99000"/>
                      <a:gd name="textAreaRight" fmla="*/ 99000 w 99000"/>
                      <a:gd name="textAreaTop" fmla="*/ 0 h 46440"/>
                      <a:gd name="textAreaBottom" fmla="*/ 46800 h 46440"/>
                    </a:gdLst>
                    <a:ahLst/>
                    <a:rect l="textAreaLeft" t="textAreaTop" r="textAreaRight" b="textAreaBottom"/>
                    <a:pathLst>
                      <a:path w="178" h="87">
                        <a:moveTo>
                          <a:pt x="0" y="28"/>
                        </a:moveTo>
                        <a:lnTo>
                          <a:pt x="22" y="18"/>
                        </a:lnTo>
                        <a:lnTo>
                          <a:pt x="43" y="9"/>
                        </a:lnTo>
                        <a:lnTo>
                          <a:pt x="61" y="4"/>
                        </a:lnTo>
                        <a:lnTo>
                          <a:pt x="77" y="2"/>
                        </a:lnTo>
                        <a:lnTo>
                          <a:pt x="93" y="0"/>
                        </a:lnTo>
                        <a:lnTo>
                          <a:pt x="107" y="4"/>
                        </a:lnTo>
                        <a:lnTo>
                          <a:pt x="113" y="13"/>
                        </a:lnTo>
                        <a:lnTo>
                          <a:pt x="121" y="27"/>
                        </a:lnTo>
                        <a:lnTo>
                          <a:pt x="130" y="41"/>
                        </a:lnTo>
                        <a:lnTo>
                          <a:pt x="140" y="57"/>
                        </a:lnTo>
                        <a:lnTo>
                          <a:pt x="147" y="70"/>
                        </a:lnTo>
                        <a:lnTo>
                          <a:pt x="160" y="82"/>
                        </a:lnTo>
                        <a:lnTo>
                          <a:pt x="178" y="87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Freeform 23"/>
                  <p:cNvSpPr/>
                  <p:nvPr/>
                </p:nvSpPr>
                <p:spPr>
                  <a:xfrm flipH="1">
                    <a:off x="7642440" y="5105880"/>
                    <a:ext cx="30960" cy="76680"/>
                  </a:xfrm>
                  <a:custGeom>
                    <a:avLst/>
                    <a:gdLst>
                      <a:gd name="textAreaLeft" fmla="*/ 360 w 30960"/>
                      <a:gd name="textAreaRight" fmla="*/ 31680 w 30960"/>
                      <a:gd name="textAreaTop" fmla="*/ 0 h 76680"/>
                      <a:gd name="textAreaBottom" fmla="*/ 77040 h 76680"/>
                    </a:gdLst>
                    <a:ahLst/>
                    <a:rect l="textAreaLeft" t="textAreaTop" r="textAreaRight" b="textAreaBottom"/>
                    <a:pathLst>
                      <a:path w="56" h="141">
                        <a:moveTo>
                          <a:pt x="50" y="0"/>
                        </a:moveTo>
                        <a:lnTo>
                          <a:pt x="39" y="8"/>
                        </a:lnTo>
                        <a:lnTo>
                          <a:pt x="27" y="22"/>
                        </a:lnTo>
                        <a:lnTo>
                          <a:pt x="16" y="38"/>
                        </a:lnTo>
                        <a:lnTo>
                          <a:pt x="8" y="56"/>
                        </a:lnTo>
                        <a:lnTo>
                          <a:pt x="3" y="74"/>
                        </a:lnTo>
                        <a:lnTo>
                          <a:pt x="0" y="93"/>
                        </a:lnTo>
                        <a:lnTo>
                          <a:pt x="0" y="111"/>
                        </a:lnTo>
                        <a:lnTo>
                          <a:pt x="4" y="131"/>
                        </a:lnTo>
                        <a:lnTo>
                          <a:pt x="8" y="141"/>
                        </a:lnTo>
                        <a:lnTo>
                          <a:pt x="18" y="132"/>
                        </a:lnTo>
                        <a:lnTo>
                          <a:pt x="26" y="122"/>
                        </a:lnTo>
                        <a:lnTo>
                          <a:pt x="35" y="109"/>
                        </a:lnTo>
                        <a:lnTo>
                          <a:pt x="41" y="98"/>
                        </a:lnTo>
                        <a:lnTo>
                          <a:pt x="47" y="83"/>
                        </a:lnTo>
                        <a:lnTo>
                          <a:pt x="51" y="68"/>
                        </a:lnTo>
                        <a:lnTo>
                          <a:pt x="55" y="47"/>
                        </a:lnTo>
                        <a:lnTo>
                          <a:pt x="56" y="32"/>
                        </a:lnTo>
                        <a:lnTo>
                          <a:pt x="54" y="14"/>
                        </a:lnTo>
                        <a:lnTo>
                          <a:pt x="50" y="0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43" name="Group 33"/>
          <p:cNvGrpSpPr/>
          <p:nvPr/>
        </p:nvGrpSpPr>
        <p:grpSpPr>
          <a:xfrm>
            <a:off x="2438280" y="1828800"/>
            <a:ext cx="4572000" cy="2666880"/>
            <a:chOff x="2438280" y="1828800"/>
            <a:chExt cx="4572000" cy="2666880"/>
          </a:xfrm>
        </p:grpSpPr>
        <p:sp>
          <p:nvSpPr>
            <p:cNvPr id="344" name="AutoShape 24"/>
            <p:cNvSpPr/>
            <p:nvPr/>
          </p:nvSpPr>
          <p:spPr>
            <a:xfrm flipH="1">
              <a:off x="2438280" y="1828800"/>
              <a:ext cx="4572000" cy="2666880"/>
            </a:xfrm>
            <a:prstGeom prst="cloudCallout">
              <a:avLst>
                <a:gd name="adj1" fmla="val -55870"/>
                <a:gd name="adj2" fmla="val 66305"/>
              </a:avLst>
            </a:prstGeom>
            <a:gradFill rotWithShape="0">
              <a:gsLst>
                <a:gs pos="0">
                  <a:srgbClr val="b5e2b5"/>
                </a:gs>
                <a:gs pos="100000">
                  <a:srgbClr val="ccffcc"/>
                </a:gs>
              </a:gsLst>
              <a:lin ang="2700000"/>
            </a:gradFill>
            <a:ln w="255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w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O(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the worst ca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ample I ga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Group 25"/>
            <p:cNvGrpSpPr/>
            <p:nvPr/>
          </p:nvGrpSpPr>
          <p:grpSpPr>
            <a:xfrm>
              <a:off x="4267080" y="3414600"/>
              <a:ext cx="1281240" cy="852480"/>
              <a:chOff x="4267080" y="3414600"/>
              <a:chExt cx="1281240" cy="852480"/>
            </a:xfrm>
          </p:grpSpPr>
          <p:sp>
            <p:nvSpPr>
              <p:cNvPr id="346" name="Oval 26"/>
              <p:cNvSpPr/>
              <p:nvPr/>
            </p:nvSpPr>
            <p:spPr>
              <a:xfrm>
                <a:off x="4754520" y="3414600"/>
                <a:ext cx="3063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Oval 27"/>
              <p:cNvSpPr/>
              <p:nvPr/>
            </p:nvSpPr>
            <p:spPr>
              <a:xfrm>
                <a:off x="4267080" y="3902040"/>
                <a:ext cx="30492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Oval 28"/>
              <p:cNvSpPr/>
              <p:nvPr/>
            </p:nvSpPr>
            <p:spPr>
              <a:xfrm>
                <a:off x="5243400" y="3902040"/>
                <a:ext cx="30492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Oval 29"/>
              <p:cNvSpPr/>
              <p:nvPr/>
            </p:nvSpPr>
            <p:spPr>
              <a:xfrm flipH="1">
                <a:off x="4753800" y="3962160"/>
                <a:ext cx="306360" cy="3049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MT Extra"/>
                    <a:ea typeface="MT Extra"/>
                  </a:rPr>
                  <a:t>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Line 30"/>
              <p:cNvSpPr/>
              <p:nvPr/>
            </p:nvSpPr>
            <p:spPr>
              <a:xfrm flipH="1">
                <a:off x="4454640" y="3687480"/>
                <a:ext cx="333360" cy="243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31"/>
              <p:cNvSpPr/>
              <p:nvPr/>
            </p:nvSpPr>
            <p:spPr>
              <a:xfrm>
                <a:off x="5029200" y="3657600"/>
                <a:ext cx="276120" cy="27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Line 32"/>
              <p:cNvSpPr/>
              <p:nvPr/>
            </p:nvSpPr>
            <p:spPr>
              <a:xfrm>
                <a:off x="4906800" y="3719520"/>
                <a:ext cx="0" cy="24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Rectangle 34"/>
          <p:cNvSpPr/>
          <p:nvPr/>
        </p:nvSpPr>
        <p:spPr>
          <a:xfrm>
            <a:off x="6629400" y="4800600"/>
            <a:ext cx="1752480" cy="1600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5"/>
          <p:cNvSpPr/>
          <p:nvPr/>
        </p:nvSpPr>
        <p:spPr>
          <a:xfrm>
            <a:off x="380880" y="1752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 a tree creat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on-by-siz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des,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6"/>
              <p:cNvSpPr txBox="1"/>
              <p:nvPr/>
            </p:nvSpPr>
            <p:spPr>
              <a:xfrm>
                <a:off x="2995560" y="2286000"/>
                <a:ext cx="3306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ight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≤</m:t>
                    </m:r>
                    <m:d>
                      <m:dPr>
                        <m:begChr m:val="⌊"/>
                        <m:endChr m:val="⌋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Text Box 37"/>
          <p:cNvSpPr/>
          <p:nvPr/>
        </p:nvSpPr>
        <p:spPr>
          <a:xfrm>
            <a:off x="609480" y="2819520"/>
            <a:ext cx="7391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Proof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By induction.  (Each element can have its set name changed at most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me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9"/>
          <p:cNvSpPr/>
          <p:nvPr/>
        </p:nvSpPr>
        <p:spPr>
          <a:xfrm>
            <a:off x="533520" y="380988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ime complex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Union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nd operations is now O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609480" y="4800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ion-by-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42"/>
          <p:cNvSpPr/>
          <p:nvPr/>
        </p:nvSpPr>
        <p:spPr>
          <a:xfrm>
            <a:off x="3505320" y="4800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 Always change the shallow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43"/>
          <p:cNvSpPr/>
          <p:nvPr/>
        </p:nvSpPr>
        <p:spPr>
          <a:xfrm flipH="1">
            <a:off x="761400" y="5257800"/>
            <a:ext cx="7467480" cy="838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ease read Figure 8.13 on p.273 for detailed implem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4"/>
          <p:cNvSpPr/>
          <p:nvPr/>
        </p:nvSpPr>
        <p:spPr>
          <a:xfrm>
            <a:off x="0" y="6477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380880" y="1522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5  Path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609480" y="762120"/>
            <a:ext cx="7772400" cy="182880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82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ype  Find ( ElementType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DisjSet  S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S[ X ] &lt;= 0 )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    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S[ X ] = Find( S[ X ], S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7"/>
          <p:cNvGrpSpPr/>
          <p:nvPr/>
        </p:nvGrpSpPr>
        <p:grpSpPr>
          <a:xfrm>
            <a:off x="5486400" y="1143000"/>
            <a:ext cx="1143000" cy="914400"/>
            <a:chOff x="5486400" y="1143000"/>
            <a:chExt cx="1143000" cy="914400"/>
          </a:xfrm>
        </p:grpSpPr>
        <p:sp>
          <p:nvSpPr>
            <p:cNvPr id="365" name="Oval 8"/>
            <p:cNvSpPr/>
            <p:nvPr/>
          </p:nvSpPr>
          <p:spPr>
            <a:xfrm>
              <a:off x="6477120" y="1143000"/>
              <a:ext cx="152280" cy="152640"/>
            </a:xfrm>
            <a:prstGeom prst="ellipse">
              <a:avLst/>
            </a:prstGeom>
            <a:solidFill>
              <a:srgbClr val="8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9"/>
            <p:cNvGrpSpPr/>
            <p:nvPr/>
          </p:nvGrpSpPr>
          <p:grpSpPr>
            <a:xfrm>
              <a:off x="6248520" y="1295640"/>
              <a:ext cx="260280" cy="228600"/>
              <a:chOff x="6248520" y="1295640"/>
              <a:chExt cx="260280" cy="228600"/>
            </a:xfrm>
          </p:grpSpPr>
          <p:sp>
            <p:nvSpPr>
              <p:cNvPr id="367" name="Oval 10"/>
              <p:cNvSpPr/>
              <p:nvPr/>
            </p:nvSpPr>
            <p:spPr>
              <a:xfrm>
                <a:off x="6248520" y="1371600"/>
                <a:ext cx="152280" cy="152640"/>
              </a:xfrm>
              <a:prstGeom prst="ellipse">
                <a:avLst/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11"/>
              <p:cNvSpPr/>
              <p:nvPr/>
            </p:nvSpPr>
            <p:spPr>
              <a:xfrm flipV="1">
                <a:off x="6400800" y="1295640"/>
                <a:ext cx="108000" cy="110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Group 12"/>
            <p:cNvGrpSpPr/>
            <p:nvPr/>
          </p:nvGrpSpPr>
          <p:grpSpPr>
            <a:xfrm>
              <a:off x="5943600" y="1524240"/>
              <a:ext cx="260280" cy="228600"/>
              <a:chOff x="5943600" y="1524240"/>
              <a:chExt cx="260280" cy="228600"/>
            </a:xfrm>
          </p:grpSpPr>
          <p:sp>
            <p:nvSpPr>
              <p:cNvPr id="370" name="Oval 13"/>
              <p:cNvSpPr/>
              <p:nvPr/>
            </p:nvSpPr>
            <p:spPr>
              <a:xfrm>
                <a:off x="5943600" y="1600200"/>
                <a:ext cx="152280" cy="152640"/>
              </a:xfrm>
              <a:prstGeom prst="ellipse">
                <a:avLst/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14"/>
              <p:cNvSpPr/>
              <p:nvPr/>
            </p:nvSpPr>
            <p:spPr>
              <a:xfrm flipV="1">
                <a:off x="6095880" y="1524240"/>
                <a:ext cx="108000" cy="110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Group 15"/>
            <p:cNvGrpSpPr/>
            <p:nvPr/>
          </p:nvGrpSpPr>
          <p:grpSpPr>
            <a:xfrm>
              <a:off x="5715000" y="1676520"/>
              <a:ext cx="260280" cy="228600"/>
              <a:chOff x="5715000" y="1676520"/>
              <a:chExt cx="260280" cy="228600"/>
            </a:xfrm>
          </p:grpSpPr>
          <p:sp>
            <p:nvSpPr>
              <p:cNvPr id="373" name="Oval 16"/>
              <p:cNvSpPr/>
              <p:nvPr/>
            </p:nvSpPr>
            <p:spPr>
              <a:xfrm>
                <a:off x="571500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17"/>
              <p:cNvSpPr/>
              <p:nvPr/>
            </p:nvSpPr>
            <p:spPr>
              <a:xfrm flipV="1">
                <a:off x="5867280" y="1676520"/>
                <a:ext cx="108000" cy="110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Group 18"/>
            <p:cNvGrpSpPr/>
            <p:nvPr/>
          </p:nvGrpSpPr>
          <p:grpSpPr>
            <a:xfrm>
              <a:off x="5486400" y="1828800"/>
              <a:ext cx="260280" cy="228600"/>
              <a:chOff x="5486400" y="1828800"/>
              <a:chExt cx="260280" cy="228600"/>
            </a:xfrm>
          </p:grpSpPr>
          <p:sp>
            <p:nvSpPr>
              <p:cNvPr id="376" name="Oval 19"/>
              <p:cNvSpPr/>
              <p:nvPr/>
            </p:nvSpPr>
            <p:spPr>
              <a:xfrm>
                <a:off x="5486400" y="1904760"/>
                <a:ext cx="152280" cy="152640"/>
              </a:xfrm>
              <a:prstGeom prst="ellipse">
                <a:avLst/>
              </a:prstGeom>
              <a:solidFill>
                <a:srgbClr val="cc99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Line 20"/>
              <p:cNvSpPr/>
              <p:nvPr/>
            </p:nvSpPr>
            <p:spPr>
              <a:xfrm flipV="1">
                <a:off x="5638680" y="1828800"/>
                <a:ext cx="108000" cy="110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AutoShape 21"/>
          <p:cNvSpPr/>
          <p:nvPr/>
        </p:nvSpPr>
        <p:spPr>
          <a:xfrm>
            <a:off x="6324480" y="17524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33cc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Group 22"/>
          <p:cNvGrpSpPr/>
          <p:nvPr/>
        </p:nvGrpSpPr>
        <p:grpSpPr>
          <a:xfrm>
            <a:off x="7315200" y="1600200"/>
            <a:ext cx="869760" cy="457200"/>
            <a:chOff x="7315200" y="1600200"/>
            <a:chExt cx="869760" cy="457200"/>
          </a:xfrm>
        </p:grpSpPr>
        <p:sp>
          <p:nvSpPr>
            <p:cNvPr id="380" name="Oval 23"/>
            <p:cNvSpPr/>
            <p:nvPr/>
          </p:nvSpPr>
          <p:spPr>
            <a:xfrm>
              <a:off x="7772400" y="1600200"/>
              <a:ext cx="152640" cy="152640"/>
            </a:xfrm>
            <a:prstGeom prst="ellipse">
              <a:avLst/>
            </a:prstGeom>
            <a:solidFill>
              <a:srgbClr val="8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Group 24"/>
            <p:cNvGrpSpPr/>
            <p:nvPr/>
          </p:nvGrpSpPr>
          <p:grpSpPr>
            <a:xfrm>
              <a:off x="7710480" y="1694520"/>
              <a:ext cx="215640" cy="345600"/>
              <a:chOff x="7710480" y="1694520"/>
              <a:chExt cx="215640" cy="345600"/>
            </a:xfrm>
          </p:grpSpPr>
          <p:sp>
            <p:nvSpPr>
              <p:cNvPr id="382" name="Oval 25"/>
              <p:cNvSpPr/>
              <p:nvPr/>
            </p:nvSpPr>
            <p:spPr>
              <a:xfrm rot="18900000">
                <a:off x="7741800" y="1855800"/>
                <a:ext cx="152280" cy="152640"/>
              </a:xfrm>
              <a:prstGeom prst="ellipse">
                <a:avLst/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26"/>
              <p:cNvSpPr/>
              <p:nvPr/>
            </p:nvSpPr>
            <p:spPr>
              <a:xfrm flipH="1" flipV="1">
                <a:off x="7840800" y="1694520"/>
                <a:ext cx="2160" cy="154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Group 27"/>
            <p:cNvGrpSpPr/>
            <p:nvPr/>
          </p:nvGrpSpPr>
          <p:grpSpPr>
            <a:xfrm>
              <a:off x="7924680" y="1752840"/>
              <a:ext cx="260280" cy="228600"/>
              <a:chOff x="7924680" y="1752840"/>
              <a:chExt cx="260280" cy="228600"/>
            </a:xfrm>
          </p:grpSpPr>
          <p:sp>
            <p:nvSpPr>
              <p:cNvPr id="385" name="Oval 28"/>
              <p:cNvSpPr/>
              <p:nvPr/>
            </p:nvSpPr>
            <p:spPr>
              <a:xfrm flipH="1">
                <a:off x="8032320" y="1828800"/>
                <a:ext cx="152280" cy="152640"/>
              </a:xfrm>
              <a:prstGeom prst="ellipse">
                <a:avLst/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Line 29"/>
              <p:cNvSpPr/>
              <p:nvPr/>
            </p:nvSpPr>
            <p:spPr>
              <a:xfrm flipH="1" flipV="1">
                <a:off x="7924680" y="1752840"/>
                <a:ext cx="108000" cy="110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30"/>
            <p:cNvGrpSpPr/>
            <p:nvPr/>
          </p:nvGrpSpPr>
          <p:grpSpPr>
            <a:xfrm>
              <a:off x="7543800" y="1676520"/>
              <a:ext cx="260280" cy="228600"/>
              <a:chOff x="7543800" y="1676520"/>
              <a:chExt cx="260280" cy="228600"/>
            </a:xfrm>
          </p:grpSpPr>
          <p:sp>
            <p:nvSpPr>
              <p:cNvPr id="388" name="Oval 31"/>
              <p:cNvSpPr/>
              <p:nvPr/>
            </p:nvSpPr>
            <p:spPr>
              <a:xfrm>
                <a:off x="7543800" y="17524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Line 32"/>
              <p:cNvSpPr/>
              <p:nvPr/>
            </p:nvSpPr>
            <p:spPr>
              <a:xfrm flipV="1">
                <a:off x="7696080" y="1676520"/>
                <a:ext cx="108000" cy="110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33"/>
            <p:cNvGrpSpPr/>
            <p:nvPr/>
          </p:nvGrpSpPr>
          <p:grpSpPr>
            <a:xfrm>
              <a:off x="7315200" y="1828800"/>
              <a:ext cx="260280" cy="228600"/>
              <a:chOff x="7315200" y="1828800"/>
              <a:chExt cx="260280" cy="228600"/>
            </a:xfrm>
          </p:grpSpPr>
          <p:sp>
            <p:nvSpPr>
              <p:cNvPr id="391" name="Oval 34"/>
              <p:cNvSpPr/>
              <p:nvPr/>
            </p:nvSpPr>
            <p:spPr>
              <a:xfrm>
                <a:off x="7315200" y="1904760"/>
                <a:ext cx="152280" cy="152640"/>
              </a:xfrm>
              <a:prstGeom prst="ellipse">
                <a:avLst/>
              </a:prstGeom>
              <a:solidFill>
                <a:srgbClr val="cc99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Line 35"/>
              <p:cNvSpPr/>
              <p:nvPr/>
            </p:nvSpPr>
            <p:spPr>
              <a:xfrm flipV="1">
                <a:off x="7467480" y="1828800"/>
                <a:ext cx="108000" cy="110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" name="AutoShape 36"/>
          <p:cNvSpPr/>
          <p:nvPr/>
        </p:nvSpPr>
        <p:spPr>
          <a:xfrm>
            <a:off x="609480" y="2743200"/>
            <a:ext cx="7620120" cy="335268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82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ype  Find ( ElementType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DisjSet  S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ElementType  root,  trail,  lea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root = X; S[ root ] &gt; 0; root = S[ root 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find the ro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trail = X; trail != root; trail = lead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d = S[ trail ] 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[ trail ] = root 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collapsing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oo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37"/>
          <p:cNvSpPr/>
          <p:nvPr/>
        </p:nvSpPr>
        <p:spPr>
          <a:xfrm>
            <a:off x="3276720" y="4419720"/>
            <a:ext cx="4343400" cy="1447560"/>
          </a:xfrm>
          <a:prstGeom prst="roundRect">
            <a:avLst>
              <a:gd name="adj" fmla="val 956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62040" indent="-662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Not compatible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on-by-heigh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ince it changes the heights.  Just take “height” as an estimated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ran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AutoShape 38"/>
          <p:cNvSpPr/>
          <p:nvPr/>
        </p:nvSpPr>
        <p:spPr>
          <a:xfrm>
            <a:off x="5486400" y="2209680"/>
            <a:ext cx="2971800" cy="1676520"/>
          </a:xfrm>
          <a:prstGeom prst="wedgeEllipseCallout">
            <a:avLst>
              <a:gd name="adj1" fmla="val -109083"/>
              <a:gd name="adj2" fmla="val 57009"/>
            </a:avLst>
          </a:prstGeom>
          <a:gradFill rotWithShape="0">
            <a:gsLst>
              <a:gs pos="0">
                <a:srgbClr val="ffffff"/>
              </a:gs>
              <a:gs pos="100000">
                <a:srgbClr val="d5d5d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lower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ingle find, b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ster for a sequenc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d op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9"/>
          <p:cNvSpPr/>
          <p:nvPr/>
        </p:nvSpPr>
        <p:spPr>
          <a:xfrm>
            <a:off x="0" y="6477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380880" y="152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6  Worst Case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on-by-Rank and Path 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457200" y="1143000"/>
            <a:ext cx="81532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mma (Tarja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be the maximum time required to process an intermixed sequence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inds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 unions.  Then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(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(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some positive constant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762120" y="3276720"/>
                <a:ext cx="4724280" cy="13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and  </m:t>
                              </m:r>
                              <m:r>
                                <m:t xml:space="preserve">j</m:t>
                              </m:r>
                              <m:r>
                                <m:t xml:space="preserve">≥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t xml:space="preserve">≥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and  </m:t>
                              </m:r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i</m:t>
                              </m:r>
                              <m:r>
                                <m:t xml:space="preserve">≥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and  </m:t>
                              </m:r>
                              <m:r>
                                <m:t xml:space="preserve">j</m:t>
                              </m:r>
                              <m:r>
                                <m:t xml:space="preserve">≥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979560" y="5072040"/>
                <a:ext cx="5051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⌊"/>
                            <m:endChr m:val="⌋"/>
                          </m:dPr>
                          <m:e>
                            <m:r>
                              <m:t xml:space="preserve">M</m:t>
                            </m:r>
                            <m:r>
                              <m:t xml:space="preserve">/</m:t>
                            </m:r>
                            <m:r>
                              <m:t xml:space="preserve">N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Text Box 14"/>
          <p:cNvSpPr/>
          <p:nvPr/>
        </p:nvSpPr>
        <p:spPr>
          <a:xfrm>
            <a:off x="762120" y="281952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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Ackermann’s Function and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(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5"/>
          <p:cNvSpPr/>
          <p:nvPr/>
        </p:nvSpPr>
        <p:spPr>
          <a:xfrm>
            <a:off x="6019920" y="5029200"/>
            <a:ext cx="2209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( log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)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6"/>
          <p:cNvSpPr/>
          <p:nvPr/>
        </p:nvSpPr>
        <p:spPr>
          <a:xfrm>
            <a:off x="925200" y="4648320"/>
            <a:ext cx="518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cc"/>
                </a:solidFill>
                <a:uFillTx/>
                <a:latin typeface="Times New Roman"/>
              </a:rPr>
              <a:t>http://mathworld.wolfram.com/AckermannFunction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7"/>
          <p:cNvSpPr/>
          <p:nvPr/>
        </p:nvSpPr>
        <p:spPr>
          <a:xfrm>
            <a:off x="914400" y="54388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log</a:t>
            </a:r>
            <a:r>
              <a:rPr b="1" lang="en-US" sz="2000" spc="-1" strike="noStrike" baseline="30000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inverse Ackermann func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# of times the logarithm is applied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until the resul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21"/>
              <p:cNvSpPr txBox="1"/>
              <p:nvPr/>
            </p:nvSpPr>
            <p:spPr>
              <a:xfrm>
                <a:off x="5715000" y="3657600"/>
                <a:ext cx="1606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2,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Group 22"/>
          <p:cNvGrpSpPr/>
          <p:nvPr/>
        </p:nvGrpSpPr>
        <p:grpSpPr>
          <a:xfrm>
            <a:off x="7010280" y="3360600"/>
            <a:ext cx="1905120" cy="754200"/>
            <a:chOff x="7010280" y="3360600"/>
            <a:chExt cx="1905120" cy="754200"/>
          </a:xfrm>
        </p:grpSpPr>
        <p:sp>
          <p:nvSpPr>
            <p:cNvPr id="407" name="Rectangle 23"/>
            <p:cNvSpPr/>
            <p:nvPr/>
          </p:nvSpPr>
          <p:spPr>
            <a:xfrm>
              <a:off x="7086600" y="3657600"/>
              <a:ext cx="22860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Object 24"/>
                <p:cNvSpPr txBox="1"/>
                <p:nvPr/>
              </p:nvSpPr>
              <p:spPr>
                <a:xfrm>
                  <a:off x="7010280" y="3360600"/>
                  <a:ext cx="1905120" cy="67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p>
                              </m:sSup>
                            </m:sup>
                          </m:sSup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65536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9" name="AutoShape 18"/>
          <p:cNvSpPr/>
          <p:nvPr/>
        </p:nvSpPr>
        <p:spPr>
          <a:xfrm>
            <a:off x="5867280" y="2438280"/>
            <a:ext cx="2743200" cy="2057400"/>
          </a:xfrm>
          <a:prstGeom prst="wedgeEllipseCallout">
            <a:avLst>
              <a:gd name="adj1" fmla="val -13425"/>
              <a:gd name="adj2" fmla="val 8248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6553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5 since logloglogloglog (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6553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=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5"/>
          <p:cNvSpPr/>
          <p:nvPr/>
        </p:nvSpPr>
        <p:spPr>
          <a:xfrm>
            <a:off x="0" y="6477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13:48Z</dcterms:created>
  <dc:creator>rz</dc:creator>
  <dc:description/>
  <dc:language>en-US</dc:language>
  <cp:lastModifiedBy>陈翔</cp:lastModifiedBy>
  <dcterms:modified xsi:type="dcterms:W3CDTF">2024-04-08T03:55:13Z</dcterms:modified>
  <cp:revision>241</cp:revision>
  <dc:subject/>
  <dc:title>没有幻灯片标题</dc:title>
</cp:coreProperties>
</file>